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542-B460-4BF7-9038-D6DECF24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C50-8B80-4D0D-BC83-B65EE7E4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AF0F-F5E6-456E-AAB7-5BCF2D96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FA1-7D07-4793-AD28-5F34788B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278-8410-4B6D-BF2D-FE58C1A2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46C-2B15-4C85-9009-DE560DEC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A63-F24E-4444-8B70-11305760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CA4-AA6E-4F1A-8882-9DB52638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336-E210-48BC-A45B-EBD6783D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E3B-F972-4876-9325-559EF023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9A0-D995-4D3A-A91E-9026A8BE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1B70-45FD-44D8-AE66-DF05C37F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504E-13A0-473A-AB7B-399DC608D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Discussion of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“Good Discussion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e B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noud Bokste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ative Housing and Real Estate Index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S Average = 10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52480" y="2017800"/>
            <a:ext cx="57913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we Blame it on the Rain?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at is falling, falling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shine Factor: based on average number of hours of sunshine per daylight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Factor: Adjustment based on 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standardization of solar power; lower temperature improves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1477800"/>
            <a:ext cx="72388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201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2408400"/>
            <a:ext cx="4572000" cy="2011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2011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572000" y="2408400"/>
            <a:ext cx="4572000" cy="2011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0" y="4770360"/>
            <a:ext cx="4572000" cy="201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572000" y="4770360"/>
            <a:ext cx="4572000" cy="2011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52480" y="990720"/>
            <a:ext cx="1295640" cy="12189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763120" cy="3854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" y="541008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s of Profitability = 1 – 91.961% = 8.03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NPV = -$7,382,1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an NP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$7,382,1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$10,994,75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$10,656,4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$12,036,1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$14,937,5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$20,335,4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bability of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03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6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4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1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56386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100,000 trials given a 18 year (1990-2007) commercial historical annual price change mean and standard deviation with available power output sold at prevailing market price, and 25 year operating life for solar pl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New York the “Winner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starting prices for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 higher mean increases per year, and highest price vola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Cost, already a small proportion of the costs of a plant, are not enough to pun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d Weather isn’t explicitly bad for solar power, and actually improves efficiency output (but clouds a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now?  If not now, when?  If not us,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gains i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decrease of solar pa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changes and volatility by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government subsid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: 70,000 yen (approx. $700) per kilowatt of solar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30MW = 30000*700 = $21MM subsi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THIS SHIT N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n again, the government would get to regulate the price – there goes your NP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we wait to build in New York, given continued improvements in output efficie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33520" y="1809720"/>
          <a:ext cx="8229600" cy="49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09720"/>
                    <a:ext cx="822960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 Limitations and Final Thou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250 acres of empty land in New York…rea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grid able to support solar energy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ity of demand for energy with 30MW extra input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C Annual KWh Usage: ~38.6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plant would account for 0.043% of NYC market’s annual power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sell it?  Government influence for allo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purchase agreement and long-term contra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tracked the number of “Good Discussion” comments over the course of the semester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2462040" cy="472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3885840" y="3962520"/>
            <a:ext cx="12193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34290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Juran-free days…BU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408312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HOLE MONTH OF GOOD-DISCUSSION FREE DAY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54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T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? (no 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regressed it against the S&amp;P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38080" y="1600200"/>
          <a:ext cx="7467840" cy="50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467840" cy="50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191120" y="2590920"/>
            <a:ext cx="2590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lation: 0.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 serio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838080"/>
            <a:ext cx="8458200" cy="3020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OH NO HE DID’N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!!!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ran controls the market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Good Discussions strongly correlates to marke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4495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o Put Solar Pow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e B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noud Bokste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Might We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04920" y="1711440"/>
            <a:ext cx="8610480" cy="4460760"/>
            <a:chOff x="304920" y="1711440"/>
            <a:chExt cx="8610480" cy="4460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37495" t="38510" r="9374" b="15627"/>
            <a:stretch/>
          </p:blipFill>
          <p:spPr>
            <a:xfrm>
              <a:off x="304920" y="1711440"/>
              <a:ext cx="8610480" cy="44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286000" y="4495680"/>
              <a:ext cx="380880" cy="381240"/>
            </a:xfrm>
            <a:prstGeom prst="star5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5800" y="3809880"/>
              <a:ext cx="380880" cy="381240"/>
            </a:xfrm>
            <a:prstGeom prst="star5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720" y="4648320"/>
              <a:ext cx="380880" cy="380880"/>
            </a:xfrm>
            <a:prstGeom prst="star5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48320" y="5257800"/>
              <a:ext cx="380880" cy="380880"/>
            </a:xfrm>
            <a:prstGeom prst="star5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15000" y="3048120"/>
              <a:ext cx="380880" cy="380880"/>
            </a:xfrm>
            <a:prstGeom prst="star5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72400" y="3200400"/>
              <a:ext cx="380880" cy="380880"/>
            </a:xfrm>
            <a:prstGeom prst="star5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Data In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, lifetime, and efficiency of a typical solar power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iling market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estat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unt Rate: assumed to be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ypical Solar Power 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24280" y="1874520"/>
            <a:ext cx="426744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3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Cost: ~$30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 Area: ~250 ac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: $0.01/K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d Operating Temperature: 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 Gain: 0.25% per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fespan: 2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0" b="8547"/>
          <a:stretch/>
        </p:blipFill>
        <p:spPr>
          <a:xfrm>
            <a:off x="1371600" y="4114800"/>
            <a:ext cx="3200400" cy="2511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41432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b2b2b2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ergy Costs in Our Six Mark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3478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57913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assumption going forward: Energy price changes will be normally distributed around the mean and standard deviation of the 17-year historical annual price changes, based on commercial energy costs in each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5:18:03Z</dcterms:created>
  <dc:creator>Andrew Ward</dc:creator>
  <dc:description/>
  <dc:language>en-US</dc:language>
  <cp:lastModifiedBy>Andrew Ward</cp:lastModifiedBy>
  <dcterms:modified xsi:type="dcterms:W3CDTF">2009-04-22T00:45:45Z</dcterms:modified>
  <cp:revision>73</cp:revision>
  <dc:subject/>
  <dc:title>Slide 1</dc:title>
</cp:coreProperties>
</file>