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451F-01B8-43E9-8581-BE9CF4B5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0E02-EBA2-43BE-B62E-0641E291F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9A4C-0EC8-48B7-855E-D206BCCE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FC31-ADF5-4588-880F-F4BB75A5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569F-9984-4357-9FCB-50CA1C15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BC18-0BCB-4720-96D0-E7C51510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FB9-CF61-4AC7-A8B2-9BBF1B1D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1D6C-D8A5-4AB4-BF46-43D544B0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0F1F-9276-491F-8EE2-DDBB4D05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ABA-51C4-4319-BB09-794DFDDE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1BB3-3155-4DA0-9E53-0756791A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087E-D90D-4838-9313-3C6645D1C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CB1-8DE7-4BF0-8AC4-A3C5780AE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CBA-999F-402D-9E27-45E26FA0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05D-9FD0-4688-9B2E-52443B98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E8B-8FB9-46B3-96F4-2274A122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B1C-61B3-41BB-B165-65E37D9C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469-253C-4B47-87BA-E440464C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D8FCA-07EF-4C03-86EE-D8630841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591BC-A11A-4B86-8FFC-DB4652B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8CD60-F372-4CFB-85C4-B966A2EA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F082-4B4F-43B1-BAC8-0AA849FB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11F9A-CEAE-43C3-9ACD-2ED63089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F5D80-3F8B-46E2-8CFD-4EBD05F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FC2F-E9D9-419D-8478-AB52024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8FAA-2FFC-4B38-BC11-A16C6D45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72BE5-0214-4F7B-A1D7-46FBE897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B8C52-11CE-4625-90D2-52329199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8F3-67CA-48C0-868F-BF5085EA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61339-9BF6-4AA9-9C17-67C1622B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06838-39BD-48E2-A534-C7CE4B4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1FBE1-3AB4-424F-8271-D09629B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91EB4-00E9-40A8-A3BC-5276F283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E8C6-0BE4-4A6E-A011-00C2D1FC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0A49C-7C99-4AF3-AE39-C0B593F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A03CD-ECED-486A-BB64-0637AC8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FB014-ED26-4388-A71C-D31F042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7EFC9-B739-4D26-B6BF-319CE5FB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2CE70-39BC-4C69-A065-A9C590E6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392-1734-4E53-A475-B4E22400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69F3-80F9-4BB4-899D-17A48EA1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BE0AE-1A28-403B-A487-FE27669A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668CB-C4EC-43A8-A8FB-C16366C3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81309-92B5-4D82-8891-29C3EC0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DD202-A674-43AB-80A3-11DCA34D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4A420-E310-4071-A60F-7DC0B2D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DDAA-8D45-4E71-AD5E-374437D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91DC-22D3-489E-9D09-CC5CD988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23322-AFE5-4C36-8A15-538F98C6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46139-47FF-4ECB-8ED8-0405BA1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4CC-384F-4B91-9C94-BB3DF4D7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4E025-D17D-404F-8D1B-E7EA699F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85A7-422F-4DF1-AF74-BD3AD0FD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7B9D-A224-4CCB-82E8-4C6E03D5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F0CAB-D2B3-4160-ADEB-32E1285E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A9AD5-ED41-48AB-9477-BF6AAB9A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1D9DA-1B4F-4206-9999-3D18291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FC5CD-DE96-45AE-826C-977DDB9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780B-EE20-4AD0-9F87-215AF4D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5C841-F637-4C57-82DC-A6836D48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6547F-7DB2-48C3-9F79-E2B3982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CB31-9A50-4108-B950-C03947F3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79EA9-D582-4B38-BDB5-EA7E26D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895CC-0947-4561-AFEA-C0DC973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AB2E2-0579-4745-89E5-4BF60C67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E8999-7C01-4945-828A-13FA1527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0E92D-9CB5-4FAB-8683-55C523BB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6CE4-C7FF-4C80-9699-9D7A384C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9A3D-0A54-463F-AA80-BE918D0D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CE9-5B70-4B38-BD17-4DFA5F0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124-05A1-4FBC-B8EE-10E8075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A34-3BC2-4EAF-A5D7-4CEC7B5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2BF-4156-4ACA-A2D8-140738A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B722-41E5-4D07-AAFB-20188D0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876C-307D-4F75-A7F3-4D71336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EFD6-7298-4974-93C4-E79516EE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E98F-886C-42D5-9214-EAA47139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0A6-D202-4264-B8BC-90EC5420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70FC-6D5E-45FB-8B98-B83BCD0B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22CB-3A2D-4346-ABA4-6B1BCB4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5FD4-A913-4D3D-8734-4600273A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6279-399B-43D8-8C49-18E102A2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1705-8225-43C2-A08C-3BC4DFD4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D28-2F6F-4424-BE13-E0C404A8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A6C2-EFAA-4C10-A78E-5A3934A6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AA44-3886-4806-B87F-FF7799E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623A-D4CE-47F9-B34A-9F01C11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420C-878E-4E28-BCE8-8E759A1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186D-5318-45B8-8E59-414AEAB5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9A40-69FF-4CA6-A53B-158FDDC9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41FD-6CEF-4C70-A039-1C3C5510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5EC1-6DFB-4108-B043-96754E99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FE2B-BFDA-463D-90E7-680C7051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0C97-D60C-4495-82E4-B3420B8D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79D-DD03-4AA8-945C-082109D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64C2-DEE2-4DB8-889E-97E0BBF5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9AD1-10A9-42CB-AD84-C4FB29E4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3BED-3B83-4755-8314-9A3CA5AD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D46A-F205-4454-8434-6B6F2D1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3D89-D1EF-476A-9C3A-AD5C9B6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6862-EEE1-420F-BA00-75C0952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D7C3-C686-4716-9997-9E1ADCC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74D3-B0CB-4C10-97EA-E1756D0F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503E-C357-4A00-9131-5E579F97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891A-923E-44DB-8850-CC48B259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51F-285D-43A8-BB2A-23BCD33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7571-F4B1-47DA-A1C5-ACDF6A5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F4B0-54B6-40E9-A89F-66640DD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D4DE-3423-4898-85CE-CB24EE50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B594-FB80-4DB2-8D42-784B5303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242DD-97BF-42AF-AFC2-125E0092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9439-E2F1-4621-9CE5-13C48FB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CC8E-BB2D-45A6-A204-F1A201FA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9F09-7D08-4066-9B5D-3C85D06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05CD-7A6C-4D6C-AE32-C3A37905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9303-5B80-416C-92F4-737BA393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A58-77A1-407F-A9EE-C3ED488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1B26-12A8-416B-9C6D-F775BCE4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7939-78D1-4824-B18B-0C693F53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DE96-A274-47A8-9B4D-B0F67EA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608CA-48CD-4782-BF11-099BD07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12F9-F15D-42E5-A0E0-D376EB0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270B-0BC4-43F2-A751-522DB7F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ED8EC-2FA6-4C20-88CC-4A3D1A84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F9D4-5CC6-4C74-B075-9989041A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C97DF-120A-4CB8-8BC9-41EC969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DFB2-5491-48E7-A247-6C78C22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F09-7792-41A3-8E16-49734E2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99DA-9A88-4589-BBAD-B1F934D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45C1-0261-4D64-A298-5E46B12A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4009-6357-4AAF-90F3-8B9C4059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D3859-EF7F-4D11-A3D0-680C03A3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8BD8-75E2-4ED9-9D9F-F853D62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56A1B-925F-4967-B2D1-E648DE8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91E78-B4A5-4B2E-AE65-7908EE81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2564-8098-48D7-971F-D1C05487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6E979-8523-4A50-A4CF-7F62D0D0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16D7-633A-4779-89B5-130C402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CD6-0EED-4D35-9235-FBF1CF16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B6A1E-017B-4061-96BC-C6D1670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F936-E24C-4606-82C0-5C96ED3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C343-B1D3-4EBE-9974-34608827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C19E-6A12-4315-B192-9374E037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58645-3336-42D8-BD19-35C1B307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97D9-72A7-4035-85C8-291796D1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5D86-7CBE-482E-9CBD-E6E767C9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82092-5B89-4BDC-9646-92DFC23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D676E-E4CA-403E-8E29-7CF6D3B0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DD63-6930-459B-90A2-54495EA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0CB-F1C1-485E-B98C-5B5AB7D1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D248-5562-47CD-BC48-B72C7DCE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D9A9-9E94-447D-B4F4-F493D54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FF19-0847-4EB1-AA0E-0552EB0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B5B8E-4CE6-46CB-97DC-96BE2A8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9CDB-A35F-4ABA-8D38-5027C262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D1C2-6EBC-4680-8935-9254243E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911A6-324E-4B26-B358-AD25CEBB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3DC2-E867-4587-9922-BE346244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EB6A7-0658-463E-912B-BC77D52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2592C-945A-4115-9113-25BD56D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A44E-F5E8-4502-8184-764A6DD1E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EB6B-F410-47EE-980D-9617DE14F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2E4-F64B-4AB8-A930-FB0C08ABF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AC5-C574-43C8-9028-1F29A0F17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786-ACAB-4E27-A27C-EE8C3A145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EDD4-771C-45BF-A1B2-2E2BBA67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BC1-F533-4B40-AB35-40F6C5AFB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F78-7CCF-40FA-B3A0-0EAC50E97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4D99-E6B3-4AE1-B6BE-C8EB3BE41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072C-B79B-48BC-80C4-80680C406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FA5A-DCF7-4ED3-8118-4F8AA3EF3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44E-12AB-46C8-B9BB-589905B9F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pHSVZJhxJQ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ball Trip 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36232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or Ba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 Bl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isa Gar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e Li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son Schwar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tt Z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Crystal 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316240" y="1523880"/>
            <a:ext cx="6827760" cy="23115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6139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Three Met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probability Jake exceeds $7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 nights in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56293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Two Met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% probability Jake exceeds $7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2 nights in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6" descr=""/>
          <p:cNvPicPr/>
          <p:nvPr/>
        </p:nvPicPr>
        <p:blipFill>
          <a:blip r:embed="rId1"/>
          <a:stretch/>
        </p:blipFill>
        <p:spPr>
          <a:xfrm>
            <a:off x="2776680" y="2786040"/>
            <a:ext cx="5833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One Met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320560" y="1600200"/>
            <a:ext cx="682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ke will stay under his $7k budg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2 nights in hotels + $1500 NYC expe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596736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437920" y="159984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Jake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--- 2 Game Solution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4" descr="C:\Documents and Settings\Brett Zager\Local Settings\Temporary Internet Files\Content.Outlook\56MRLKON\DSC01638.JPG"/>
          <p:cNvPicPr/>
          <p:nvPr/>
        </p:nvPicPr>
        <p:blipFill>
          <a:blip r:embed="rId1"/>
          <a:stretch/>
        </p:blipFill>
        <p:spPr>
          <a:xfrm>
            <a:off x="32004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7524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is planning a two-month road trip to see the 10 US Baseball stadiums he has not yet visi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a die hard Mets fan, Jake would love to see them play when/where possi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is afraid of flying and has subletted his NYC apartment (no going back!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plans to spend his $5000 graduation present and $2000 from his own pocket on the tri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2093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roke the project into two pa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optimal driving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optimal cost of the trip based on Jakes preferences/limi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362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Function:  Find the best driving route based on lowest total mileage to go to all 10 stadi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 Variables: travel 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21007" r="45972" b="41315"/>
          <a:stretch/>
        </p:blipFill>
        <p:spPr>
          <a:xfrm>
            <a:off x="2514600" y="2438280"/>
            <a:ext cx="646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56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each stadium exactly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going ba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dded in constraints to avoid ‘loop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so used the “large” numbers for plugs as distance between each stadium and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81080" y="13716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,632 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2590920" y="2438280"/>
            <a:ext cx="6294240" cy="4114800"/>
            <a:chOff x="2590920" y="2438280"/>
            <a:chExt cx="6294240" cy="4114800"/>
          </a:xfrm>
        </p:grpSpPr>
        <p:pic>
          <p:nvPicPr>
            <p:cNvPr id="526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2438280"/>
              <a:ext cx="61333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Box 5"/>
            <p:cNvSpPr/>
            <p:nvPr/>
          </p:nvSpPr>
          <p:spPr>
            <a:xfrm>
              <a:off x="8077320" y="3774960"/>
              <a:ext cx="80784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Yank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6"/>
            <p:cNvSpPr/>
            <p:nvPr/>
          </p:nvSpPr>
          <p:spPr>
            <a:xfrm>
              <a:off x="7407360" y="504180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Br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7"/>
            <p:cNvSpPr/>
            <p:nvPr/>
          </p:nvSpPr>
          <p:spPr>
            <a:xfrm>
              <a:off x="7539120" y="6097680"/>
              <a:ext cx="8427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Mar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8"/>
            <p:cNvSpPr/>
            <p:nvPr/>
          </p:nvSpPr>
          <p:spPr>
            <a:xfrm>
              <a:off x="6040440" y="3985920"/>
              <a:ext cx="9111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ardin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9"/>
            <p:cNvSpPr/>
            <p:nvPr/>
          </p:nvSpPr>
          <p:spPr>
            <a:xfrm>
              <a:off x="3048120" y="4549680"/>
              <a:ext cx="1363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iamondba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10"/>
            <p:cNvSpPr/>
            <p:nvPr/>
          </p:nvSpPr>
          <p:spPr>
            <a:xfrm>
              <a:off x="3567240" y="5041800"/>
              <a:ext cx="9111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Rock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11"/>
            <p:cNvSpPr/>
            <p:nvPr/>
          </p:nvSpPr>
          <p:spPr>
            <a:xfrm>
              <a:off x="7081920" y="5533920"/>
              <a:ext cx="715680" cy="52020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ampa B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2"/>
            <p:cNvSpPr/>
            <p:nvPr/>
          </p:nvSpPr>
          <p:spPr>
            <a:xfrm>
              <a:off x="6934320" y="3071520"/>
              <a:ext cx="101124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Blue J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13"/>
            <p:cNvSpPr/>
            <p:nvPr/>
          </p:nvSpPr>
          <p:spPr>
            <a:xfrm>
              <a:off x="5259240" y="433836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Roy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4"/>
            <p:cNvSpPr/>
            <p:nvPr/>
          </p:nvSpPr>
          <p:spPr>
            <a:xfrm>
              <a:off x="5194440" y="314136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w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Straight Arrow Connector 15"/>
            <p:cNvCxnSpPr>
              <a:stCxn id="529" idx="1"/>
              <a:endCxn id="533" idx="2"/>
            </p:cNvCxnSpPr>
            <p:nvPr/>
          </p:nvCxnSpPr>
          <p:spPr>
            <a:xfrm flipH="1" flipV="1">
              <a:off x="7440120" y="6017760"/>
              <a:ext cx="99000" cy="234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8" name="Straight Arrow Connector 16"/>
            <p:cNvCxnSpPr>
              <a:stCxn id="527" idx="3"/>
              <a:endCxn id="529" idx="0"/>
            </p:cNvCxnSpPr>
            <p:nvPr/>
          </p:nvCxnSpPr>
          <p:spPr>
            <a:xfrm flipH="1">
              <a:off x="7959600" y="3929040"/>
              <a:ext cx="925920" cy="216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9" name="Straight Arrow Connector 17"/>
            <p:cNvCxnSpPr>
              <a:stCxn id="533" idx="0"/>
              <a:endCxn id="528" idx="2"/>
            </p:cNvCxnSpPr>
            <p:nvPr/>
          </p:nvCxnSpPr>
          <p:spPr>
            <a:xfrm flipV="1">
              <a:off x="7439040" y="5325120"/>
              <a:ext cx="326160" cy="208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0" name="Straight Arrow Connector 18"/>
            <p:cNvCxnSpPr>
              <a:stCxn id="528" idx="1"/>
              <a:endCxn id="531" idx="3"/>
            </p:cNvCxnSpPr>
            <p:nvPr/>
          </p:nvCxnSpPr>
          <p:spPr>
            <a:xfrm flipH="1" flipV="1">
              <a:off x="4411080" y="4703040"/>
              <a:ext cx="2996280" cy="479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19"/>
            <p:cNvCxnSpPr>
              <a:stCxn id="531" idx="2"/>
              <a:endCxn id="532" idx="0"/>
            </p:cNvCxnSpPr>
            <p:nvPr/>
          </p:nvCxnSpPr>
          <p:spPr>
            <a:xfrm>
              <a:off x="3729600" y="4857480"/>
              <a:ext cx="292680" cy="184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2" name="Straight Arrow Connector 20"/>
            <p:cNvCxnSpPr>
              <a:stCxn id="532" idx="3"/>
              <a:endCxn id="536" idx="1"/>
            </p:cNvCxnSpPr>
            <p:nvPr/>
          </p:nvCxnSpPr>
          <p:spPr>
            <a:xfrm flipV="1">
              <a:off x="4478400" y="3283920"/>
              <a:ext cx="716400" cy="189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21"/>
            <p:cNvCxnSpPr>
              <a:stCxn id="536" idx="2"/>
              <a:endCxn id="535" idx="0"/>
            </p:cNvCxnSpPr>
            <p:nvPr/>
          </p:nvCxnSpPr>
          <p:spPr>
            <a:xfrm>
              <a:off x="5551560" y="3425400"/>
              <a:ext cx="65520" cy="913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4" name="Straight Arrow Connector 22"/>
            <p:cNvCxnSpPr>
              <a:stCxn id="535" idx="3"/>
              <a:endCxn id="530" idx="2"/>
            </p:cNvCxnSpPr>
            <p:nvPr/>
          </p:nvCxnSpPr>
          <p:spPr>
            <a:xfrm flipV="1">
              <a:off x="5975280" y="4269960"/>
              <a:ext cx="521280" cy="21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5" name="Straight Arrow Connector 23"/>
            <p:cNvCxnSpPr>
              <a:stCxn id="530" idx="0"/>
              <a:endCxn id="534" idx="2"/>
            </p:cNvCxnSpPr>
            <p:nvPr/>
          </p:nvCxnSpPr>
          <p:spPr>
            <a:xfrm flipV="1">
              <a:off x="6495120" y="3379320"/>
              <a:ext cx="943560" cy="606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6" name="Straight Arrow Connector 24"/>
            <p:cNvCxnSpPr>
              <a:stCxn id="534" idx="3"/>
              <a:endCxn id="527" idx="0"/>
            </p:cNvCxnSpPr>
            <p:nvPr/>
          </p:nvCxnSpPr>
          <p:spPr>
            <a:xfrm>
              <a:off x="7945560" y="3225240"/>
              <a:ext cx="535680" cy="54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Get a good estimate for the cost of the trip so Jake can budget his $7000 according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ing back to Jake’s love for the Mets, we factored in a $500 utility for each Mets g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ke also enjoys cold beer and hot dogs while at the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82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dom Variab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s costs – Based on a normal distribution of weekly national prices the p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tel costs – Based on individual distributions for each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cost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$50 for each 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ecast Item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C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3:27:25Z</dcterms:created>
  <dc:creator>limor barack</dc:creator>
  <dc:description/>
  <dc:language>en-US</dc:language>
  <cp:lastModifiedBy>Brett Zager</cp:lastModifiedBy>
  <dcterms:modified xsi:type="dcterms:W3CDTF">2009-04-27T14:07:55Z</dcterms:modified>
  <cp:revision>17</cp:revision>
  <dc:subject/>
  <dc:title>Slide 1</dc:title>
</cp:coreProperties>
</file>