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5009B-9A01-4BFA-A2AC-CE2197B008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FE9A-05B0-4F50-B590-C253DDA6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E40AB-99E0-40E6-A8D6-C447F46B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A34FA-A51A-4E62-A44C-32927044F9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03D7C-78BD-4D1F-BBAE-1CB0F01F25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9A505-3D7C-40CF-8819-DD531418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92A3A-ACD8-45C6-AE9C-EA1A3E72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70DA6-E28E-4F85-B6DC-F9E8430F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46756-48F2-4712-A0D4-BEDF585D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81F15-5362-4EEA-8FC8-82649D88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AEDBB-4C44-4405-BCB2-DEC2F6C6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707A9-B01B-4113-9D95-D478CC3B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0186F-B49C-4B4F-973B-C4FC9191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57C0F-4E44-442C-B5F9-7B9F8AD7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FA49E-16DD-46D5-92E0-3E29EE06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2F251-6E49-44B3-9782-99A72E11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4B0EA-4CC6-4136-A923-77D37A1BF9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0145-3EB1-4BCB-A5DE-4C71771F1B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ED92-72E7-4DBC-B82D-F48DD391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A6BB-E8AD-42FB-BDE6-F879CB0D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2FA0-A2FE-403A-AD88-8C0CB2A2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A83C-D7F6-4569-8A67-2684F558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BC029-FDD9-4FFA-B937-B227E41B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D353-512A-498F-966F-E8B84861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AC47-D3DE-4282-858A-9E26236F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9DEC-823E-4E82-8EED-E9BF6D5E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C739-9E1B-4B69-9118-410216EF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BC7B-3C4F-49B0-8984-8998E440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EC87-6685-417E-A68C-2B25CCF8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7FDE-1378-445E-8B22-1711856FA8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DF26C-7187-4959-A1DE-798828945C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A1DAB-E977-4642-B656-3A8FCDFF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245DA-526D-453F-8BA4-C84DE5C5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E7B3C-1A7F-4EC4-BE6B-DCCBA5F9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ED562-2544-4B28-89DD-2866549D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D2631-8F26-48B5-9DC1-855C9B35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964E8-11FD-4D74-A88F-255F0496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40E66-568B-4CFB-B8F9-936BDA31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817692-ECA4-4519-8772-C5688028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B1C2E-7CBC-45DB-84E2-7C47D1A3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A2201-F66B-4BE7-9B71-97D35A65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D9C2FC-2CA8-4A61-BB95-FF3BCEB0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59CB76-3F7E-4F7F-819F-A6B94DFAD2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9A5431-3345-4F0D-8D02-2C66B607FD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CA7FC-311D-42FD-94F7-6B29D0B1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D2962A-75BE-40F1-A028-EE4BC209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D94702-D998-4AF5-A0B4-F9D538A4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021683-3C1E-42FF-81C6-902C0CB4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7ABE41-CD57-40B7-9156-E6EA1AF5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97FCAD-EB90-4887-B4D2-8D2FC025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396F46-3FBC-4CD3-BAD2-AB5E7969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9C2AE3-CC3F-4BF0-A4C4-AD1976B0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F68B50-3A7C-4A03-A983-9C271BD7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9F6E0B-310A-4E50-9255-0F9C0F60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89BAA5-D52A-4D83-A4AD-5ED77FE6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EF8DE-BD48-45AA-8358-FB0E3340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D329AF-A8B2-411A-9AD4-B468810B59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AC523-09CB-4983-90F5-E85C0142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6AA6D-7363-4238-A9C4-95EEA46C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485F7-EC62-44CE-858D-80115892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A628-8E06-49C8-B4FC-A9CD98906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F53C-7661-4E03-A052-897B041D1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570E-AB45-43A9-903F-B87651046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08B5-EAF5-48AD-ACC9-F450A8D06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DC86-2FD6-4D96-8B3A-EE4280535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ages.stern.nyu.edu/~djuran/" TargetMode="External"/><Relationship Id="rId2" Type="http://schemas.openxmlformats.org/officeDocument/2006/relationships/hyperlink" Target="http://bulbapedia.bulbagarden.net/wiki/Bulbasaur_(Pok&#233;mon)" TargetMode="Externa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URAM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 Ah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ron Car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er Sanch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. Damage, Randomized Enemy S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iform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.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 Uni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. Artificial Intelligence, Randomized Ene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: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ized Ene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[Enemy i] = DUD (1, [Total Enemy #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[Enemy i level] = i + DUD (0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ized Enemy S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[Enemy stat i] = [Enemy base stat i] * ND ([Level l multiplier], [Level l multiplier] * 0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914400" y="5638680"/>
          <a:ext cx="5943600" cy="533520"/>
        </p:xfrm>
        <a:graphic>
          <a:graphicData uri="http://schemas.openxmlformats.org/drawingml/2006/table">
            <a:tbl>
              <a:tblPr/>
              <a:tblGrid>
                <a:gridCol w="912960"/>
                <a:gridCol w="718920"/>
                <a:gridCol w="719280"/>
                <a:gridCol w="717480"/>
                <a:gridCol w="719280"/>
                <a:gridCol w="718920"/>
                <a:gridCol w="717480"/>
                <a:gridCol w="719280"/>
              </a:tblGrid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914400" y="4800600"/>
          <a:ext cx="6426360" cy="716040"/>
        </p:xfrm>
        <a:graphic>
          <a:graphicData uri="http://schemas.openxmlformats.org/drawingml/2006/table">
            <a:tbl>
              <a:tblPr/>
              <a:tblGrid>
                <a:gridCol w="609480"/>
                <a:gridCol w="943200"/>
                <a:gridCol w="608040"/>
                <a:gridCol w="609480"/>
                <a:gridCol w="609480"/>
                <a:gridCol w="609840"/>
                <a:gridCol w="609480"/>
                <a:gridCol w="608040"/>
                <a:gridCol w="609480"/>
                <a:gridCol w="609840"/>
              </a:tblGrid>
              <a:tr h="334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ede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em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en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. Atta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. Defen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080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9999"/>
                          </a:solidFill>
                          <a:uFillTx/>
                          <a:latin typeface="Calibri"/>
                          <a:hlinkClick r:id="rId1"/>
                        </a:rPr>
                        <a:t>Juram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595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ac7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e07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db7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7db8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9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9999"/>
                          </a:solidFill>
                          <a:uFillTx/>
                          <a:latin typeface="Calibri"/>
                          <a:hlinkClick r:id="rId2"/>
                        </a:rPr>
                        <a:t>Bulbasau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595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ac7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e07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db7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7db8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9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: Damage Mecha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tac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– tied to attack, defense, speed,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1_attack_point = rand_normdist(p1_atta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1_speed_point = rand_normdist(p1_spe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2_defense_point = rand_normdist(p2_defen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2_speed_point = rand_normdist(p2_spe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1_attack_multiplier = (((p1_speed_point * 2 + p1_attack) / p1_total) / ((p2_speed_point * 2 + p2_defense) / p2_total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2_defense_multiplier = (1 / p1_attack_multipli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1_attack_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= (p1_attack_point * p1_attack_multiplier * rand_uniform_ex(0.25, 0.75)) * 0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2_defense_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= (p2_defense_point * p2_defense_multiplier * rand_uniform(0.25)) * 0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damage = max(p1_attack_ - p2_defense_,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29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: Damage Mecha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ts val="29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cial Attac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– tied to attack, defense, special attack, special defense, speed,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1_special_attack_multiplier = (p1_attack_point / p1_total)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1_attack_multiplier = (((p1_speed_point * 2 + p1_attack) / p1_total) / ((p2_speed_point * 2 + p2_defense) / p2_total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2_defense_multiplier = (1 / p1_attack_multipli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1_attack_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= (p1_attack_point * p1_attack_multiplier * p1_special_attack_multiplier * rand_uniform_ex(0.25, 0.75)) * 0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2_defense_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= (p2_defense_point * p2_defense_multiplier * rand_uniform(0.25)) * 0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damage = max(p1_attack_ - p2_defense_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,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cial Attack Player Da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p1_damage = (p1_hp * (p1_special_attack_multiplier - 1) * 2 * rand_uniform_ex(0.25, 0.75)) * 0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ts val="29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: Damage Mecha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1_heal_multiplier = (rand_normdist(p1_defense) / p1_defense) * (1 + (p1_defense / p1_total)) * (1 - (p1_hp / p1_max_hp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heal = max((p1_max_hp * p1_heal_multiplier * rand_uniform_ex(0.1, 0.25)),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: Artificial Intelli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ision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tack, Special Attack, Defend and H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in idea: Attack when high on HP, Heal when low on HP, Surv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ggressiveness tied to s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nemy_total = enemy_max_hp * 3 + enemy_attack + enemy_defense + enemy_spattack + enemy_spdefense + enemy_sp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attack_cutoff = (enemy_hp * 3 + enemy_attack + enemy_spattack + enemy_speed) / enemy_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spattack_cutoff = (enemy_hp * 3 + enemy_spattack) / enemy_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: Artificial Intelli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 = rand_uniform(1)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Case (0 &lt;= n &lt; spattack_cutoff)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SPECIAL AT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Case (spattack_cutoff  &lt;= n &lt; attack_cutoff)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AT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Defaul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DEF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: Level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tal Allowed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ed to where player should be at the nex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ed to the defeated ene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layer_allowed_pts = player_total * rand_positive_normdist_ex(player_stat_multiplier, player_stat_multiplier * 0.2) - player_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layer_allowed_pt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= max(player_allowed_pts,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layer_enemy_diff = max((enemy_total - player_total),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layer_allowed_pts_2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= rand_positive_normdist_ex((player_enemy_diff / 2), (player_enemy_diff / 2) * 0.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player_allowed_pts = (0.75 * player_allowed_pts) + (0.25 * player_allowed_pts_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juranwork.jpg"/>
          <p:cNvPicPr/>
          <p:nvPr/>
        </p:nvPicPr>
        <p:blipFill>
          <a:blip r:embed="rId2"/>
          <a:stretch/>
        </p:blipFill>
        <p:spPr>
          <a:xfrm>
            <a:off x="557280" y="762120"/>
            <a:ext cx="80294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Content Placeholder 5" descr="juranasleep.jpg"/>
          <p:cNvPicPr/>
          <p:nvPr/>
        </p:nvPicPr>
        <p:blipFill>
          <a:blip r:embed="rId2"/>
          <a:stretch/>
        </p:blipFill>
        <p:spPr>
          <a:xfrm>
            <a:off x="380880" y="2438280"/>
            <a:ext cx="6515280" cy="41817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7" descr="pokemonbubble.gif"/>
          <p:cNvPicPr/>
          <p:nvPr/>
        </p:nvPicPr>
        <p:blipFill>
          <a:blip r:embed="rId3"/>
          <a:stretch/>
        </p:blipFill>
        <p:spPr>
          <a:xfrm>
            <a:off x="2362320" y="-1371600"/>
            <a:ext cx="8229600" cy="5715000"/>
          </a:xfrm>
          <a:prstGeom prst="rect">
            <a:avLst/>
          </a:prstGeom>
          <a:ln w="0">
            <a:noFill/>
          </a:ln>
        </p:spPr>
      </p:pic>
      <p:sp>
        <p:nvSpPr>
          <p:cNvPr id="210" name="Oval 8"/>
          <p:cNvSpPr/>
          <p:nvPr/>
        </p:nvSpPr>
        <p:spPr>
          <a:xfrm>
            <a:off x="4114800" y="3780000"/>
            <a:ext cx="685800" cy="411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9"/>
          <p:cNvSpPr/>
          <p:nvPr/>
        </p:nvSpPr>
        <p:spPr>
          <a:xfrm>
            <a:off x="4648320" y="3124080"/>
            <a:ext cx="1269720" cy="7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an’s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z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look like “wor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ome aspect of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juranprogramming.jpg"/>
          <p:cNvPicPr/>
          <p:nvPr/>
        </p:nvPicPr>
        <p:blipFill>
          <a:blip r:embed="rId2"/>
          <a:stretch/>
        </p:blipFill>
        <p:spPr>
          <a:xfrm>
            <a:off x="2190600" y="1038240"/>
            <a:ext cx="47628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computer.jpg"/>
          <p:cNvPicPr/>
          <p:nvPr/>
        </p:nvPicPr>
        <p:blipFill>
          <a:blip r:embed="rId2"/>
          <a:stretch/>
        </p:blipFill>
        <p:spPr>
          <a:xfrm>
            <a:off x="2057400" y="227160"/>
            <a:ext cx="535320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ame: Pre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tta Catch 'Em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llect 5 Pokem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gressively more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yer “Levels-U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 L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ttle Mo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tac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De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ecial Attac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Deal 2x Damage with pen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Increase Hi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ive U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Lose game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ame: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cial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al 2x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wer chance of h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mages p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crease Hi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ive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e game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ame: S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tack, Special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mage de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ense, Special Def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mage blo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fe regained when h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ce of dealing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20:42:47Z</dcterms:created>
  <dc:creator>Brian Ooi</dc:creator>
  <dc:description/>
  <dc:language>en-US</dc:language>
  <cp:lastModifiedBy>Ji Yeon</cp:lastModifiedBy>
  <dcterms:modified xsi:type="dcterms:W3CDTF">2010-04-26T11:49:58Z</dcterms:modified>
  <cp:revision>44</cp:revision>
  <dc:subject/>
  <dc:title>Manga &amp; Anime</dc:title>
</cp:coreProperties>
</file>