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03B3-A786-4865-9881-94B9F362F1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F6A0-F990-4F96-A741-F6F9124B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F6A7-214D-474E-BB8C-56F8C4E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94D0-F24B-45E6-95F9-B05BACCE7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E74FF-3DCA-45E0-9669-CB749DF382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57652-BA9F-47A5-BFAE-3D29B387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628E2-834D-484F-ACB4-8E90C85A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3E44D-549E-4C24-973A-5B7ABCCF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1B29C-45B1-46DC-96CD-C6A88A0C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3366D-F2EA-4910-B6C9-A0C5FB8E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5B0F5-D2AA-4899-A91F-03070DD7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1C06-28D3-4AA8-A2CE-E2A4221F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F1865-0B63-426C-B619-BB5C4E2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2D684-01B2-4A3E-8A87-6856BD9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FD236-8FA4-4F39-A408-A2104899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1BC61-E134-42B7-9232-FE843D3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7E1A0-8334-4305-B8CA-4399CB0474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5AA4-5B3D-44F7-84F9-FAF320264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4E1E-9839-429A-AFA2-31D0BBED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9A9F-63BA-4DD1-B75D-72ECC03C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09F1-493A-4F41-A654-269BFB4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6414-6166-40B8-8229-D0033B80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1F46-2D83-45A4-BAF9-5C7682B6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E6A3-5F73-4B06-8EB3-F06E5B78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C1D9-CA4A-4429-9308-E13401AC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B3BE-AA95-4448-810B-D817D1E0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9C20-4586-460C-874B-6E3EC1E4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62D3-0EC0-4401-A5FC-08F02BD0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25CB-6ECE-4257-80E3-375E769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910C-9D32-457E-A484-72AF480B3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3EF2C-AD23-4AB4-8641-A1A51C6EE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02078-12F2-4E9C-86EB-C6D3E5CD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C9E26-E966-41CF-AC5C-94513EFD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015F-007C-4748-A619-34C43E0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E6A46-BD1C-440E-BC24-29E4E52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40BCB-DDAD-49CE-9A3F-2DCCA44B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7BB42-E67D-4310-89D4-DC4D6489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508C2-73A0-47E9-92D8-02552613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6F43E-1B7E-4AA0-AE2A-29B46BA0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5784E-EFFE-49EB-B856-0F64CE78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65F8F-9355-4599-A9DA-0D36AAF4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A8FE0-F3A1-4BFA-940C-090917CA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784A0-EA2F-41DB-957A-868B878603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3C29D-7B05-4AE0-A84F-9A978AAC5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20EB-5069-47A0-B54B-CC8DBCFD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A89A5-49E3-4250-B561-3011A90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82F71-DBC5-4127-8352-00228F5E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63F74-C070-4637-BD5F-737A760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91C37-74FF-45E8-8960-6529176E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D68A6-A6EB-4F15-9B0A-DBB4F5FD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E90E4-3EE9-4B72-9EA4-215F388E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71D13-7038-4006-BD95-6802AD3C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BD3A0-8A29-476D-8C4A-46D0A7A7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B17C26-154A-4C0C-9754-B65360A6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22D4C0-DE11-49D4-9485-CABFEDB1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42F1-2F66-447C-8A9F-5E35BB83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520E33-D1A3-4C00-8E4B-AE3C203BEA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E1E4-B451-4DC6-8B68-B5E005C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1792-64C8-4B40-B873-1A2C563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13E6-7E7F-4625-ACED-541C9939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045-3C5D-4C6F-B3EA-97489AFBD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9DB-9CC0-43A7-BAFB-F72F16EE1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BA1C-E0B2-443C-ABF2-53D2A5DB4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F54-9E40-4569-89A8-27F5C744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00AD-8E6E-4E94-9325-42299C2ED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stern.nyu.edu/~djuran/" TargetMode="External"/><Relationship Id="rId2" Type="http://schemas.openxmlformats.org/officeDocument/2006/relationships/hyperlink" Target="http://bulbapedia.bulbagarden.net/wiki/Bulbasaur_(Pok&#233;mon)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URA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 Ah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ron Car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Sanch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. Damage, Randomized Enemy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.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 Uni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. Artificial Intelligence, Randomized En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ized Ene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Enemy i] = DUD (1, [Total Enemy #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Enemy i level] = i + DUD (0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ndomized Enemy S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[Enemy stat i] = [Enemy base stat i] * ND ([Level l multiplier], [Level l multiplier] * 0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914400" y="5638680"/>
          <a:ext cx="5943600" cy="533520"/>
        </p:xfrm>
        <a:graphic>
          <a:graphicData uri="http://schemas.openxmlformats.org/drawingml/2006/table">
            <a:tbl>
              <a:tblPr/>
              <a:tblGrid>
                <a:gridCol w="912960"/>
                <a:gridCol w="718920"/>
                <a:gridCol w="719280"/>
                <a:gridCol w="717480"/>
                <a:gridCol w="719280"/>
                <a:gridCol w="718920"/>
                <a:gridCol w="717480"/>
                <a:gridCol w="719280"/>
              </a:tblGrid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ipli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914400" y="4800600"/>
          <a:ext cx="6426360" cy="716040"/>
        </p:xfrm>
        <a:graphic>
          <a:graphicData uri="http://schemas.openxmlformats.org/drawingml/2006/table">
            <a:tbl>
              <a:tblPr/>
              <a:tblGrid>
                <a:gridCol w="609480"/>
                <a:gridCol w="943200"/>
                <a:gridCol w="608040"/>
                <a:gridCol w="609480"/>
                <a:gridCol w="609480"/>
                <a:gridCol w="609840"/>
                <a:gridCol w="609480"/>
                <a:gridCol w="608040"/>
                <a:gridCol w="609480"/>
                <a:gridCol w="609840"/>
              </a:tblGrid>
              <a:tr h="33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ede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em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fen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. Atta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. Defen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080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1"/>
                        </a:rPr>
                        <a:t>Juram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59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ac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e0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b7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8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9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9999"/>
                          </a:solidFill>
                          <a:uFillTx/>
                          <a:latin typeface="Calibri"/>
                          <a:hlinkClick r:id="rId2"/>
                        </a:rPr>
                        <a:t>Bulbasa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59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ac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e07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db7f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8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92b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Damage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a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 tied to attack, defense, speed,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attack_point = rand_normdist(p1_atta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speed_point = rand_normdist(p1_spe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defense_point = rand_normdist(p2_defen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speed_point = rand_normdist(p2_spe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attack_multiplier = (((p1_speed_point * 2 + p1_attack) / p1_total) / ((p2_speed_point * 2 + p2_defense) / p2_total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defense_multiplier = (1 / p1_attack_multipl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1_attack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1_attack_point * p1_attack_multiplier * rand_uniform_ex(0.25, 0.7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2_defense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2_defense_point * p2_defense_multiplier * rand_uniform(0.2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amage = max(p1_attack_ - p2_defense_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29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Damage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ts val="29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Atta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– tied to attack, defense, special attack, special defense, speed,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special_attack_multiplier = (p1_attack_point / p1_total)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attack_multiplier = (((p1_speed_point * 2 + p1_attack) / p1_total) / ((p2_speed_point * 2 + p2_defense) / p2_total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2_defense_multiplier = (1 / p1_attack_multipli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1_attack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1_attack_point * p1_attack_multiplier * p1_special_attack_multiplier * rand_uniform_ex(0.25, 0.7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2_defense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(p2_defense_point * p2_defense_multiplier * rand_uniform(0.2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amage = max(p1_attack_ - p2_defense_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al Attack Player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p1_damage = (p1_hp * (p1_special_attack_multiplier - 1) * 2 * rand_uniform_ex(0.25, 0.75)) * 0.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ts val="29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Damage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1_heal_multiplier = (rand_normdist(p1_defense) / p1_defense) * (1 + (p1_defense / p1_total)) * (1 - (p1_hp / p1_max_hp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heal = max((p1_max_hp * p1_heal_multiplier * rand_uniform_ex(0.1, 0.25))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tack, Special Attack, Defend and H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in idea: Attack when high on HP, Heal when low on HP,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gressiveness tied to s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emy_total = enemy_max_hp * 3 + enemy_attack + enemy_defense + enemy_spattack + enemy_spdefense + enemy_sp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attack_cutoff = (enemy_hp * 3 + enemy_attack + enemy_spattack + enemy_speed) / enemy_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spattack_cutoff = (enemy_hp * 3 + enemy_spattack) / enemy_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 = rand_uniform(1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Case (0 &lt;= n &lt; spattack_cutoff)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SPECIAL AT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Case (spattack_cutoff  &lt;= n &lt; attack_cutoff)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AT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efaul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DEF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: Level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 Allowe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ed to where player should be at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ed to the defeated ene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layer_allowed_pts = player_total * rand_positive_normdist_ex(player_stat_multiplier, player_stat_multiplier * 0.2) - player_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ayer_allowed_pt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max(player_allowed_pts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layer_enemy_diff = max((enemy_total - player_total)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ayer_allowed_pts_2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rand_positive_normdist_ex((player_enemy_diff / 2), (player_enemy_diff / 2) * 0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34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player_allowed_pts = (0.75 * player_allowed_pts) + (0.25 * player_allowed_pts_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juranwork.jpg"/>
          <p:cNvPicPr/>
          <p:nvPr/>
        </p:nvPicPr>
        <p:blipFill>
          <a:blip r:embed="rId2"/>
          <a:stretch/>
        </p:blipFill>
        <p:spPr>
          <a:xfrm>
            <a:off x="557280" y="762120"/>
            <a:ext cx="8029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Content Placeholder 5" descr="juranasleep.jpg"/>
          <p:cNvPicPr/>
          <p:nvPr/>
        </p:nvPicPr>
        <p:blipFill>
          <a:blip r:embed="rId2"/>
          <a:stretch/>
        </p:blipFill>
        <p:spPr>
          <a:xfrm>
            <a:off x="380880" y="2438280"/>
            <a:ext cx="6515280" cy="41817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pokemonbubble.gif"/>
          <p:cNvPicPr/>
          <p:nvPr/>
        </p:nvPicPr>
        <p:blipFill>
          <a:blip r:embed="rId3"/>
          <a:stretch/>
        </p:blipFill>
        <p:spPr>
          <a:xfrm>
            <a:off x="2362320" y="-13716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210" name="Oval 8"/>
          <p:cNvSpPr/>
          <p:nvPr/>
        </p:nvSpPr>
        <p:spPr>
          <a:xfrm>
            <a:off x="4114800" y="3780000"/>
            <a:ext cx="685800" cy="411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4648320" y="3124080"/>
            <a:ext cx="126972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’s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look like “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ome aspect of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juranprogramming.jpg"/>
          <p:cNvPicPr/>
          <p:nvPr/>
        </p:nvPicPr>
        <p:blipFill>
          <a:blip r:embed="rId2"/>
          <a:stretch/>
        </p:blipFill>
        <p:spPr>
          <a:xfrm>
            <a:off x="2190600" y="1038240"/>
            <a:ext cx="4762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computer.jpg"/>
          <p:cNvPicPr/>
          <p:nvPr/>
        </p:nvPicPr>
        <p:blipFill>
          <a:blip r:embed="rId2"/>
          <a:stretch/>
        </p:blipFill>
        <p:spPr>
          <a:xfrm>
            <a:off x="2057400" y="227160"/>
            <a:ext cx="535320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: Pre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tta Catch 'Em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llect 5 Pokem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essively more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yer “Levels-U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 L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ttle M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De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al Att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Deal 2x Damage with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Increase Hi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ive U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Lose gam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: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cial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al 2x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wer chance of h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mages p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crease Hi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e gam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: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ack, Special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mage de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ense, Special Def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amage bloc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fe regained when h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of dealing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20:42:47Z</dcterms:created>
  <dc:creator>Brian Ooi</dc:creator>
  <dc:description/>
  <dc:language>en-US</dc:language>
  <cp:lastModifiedBy>Ji Yeon</cp:lastModifiedBy>
  <dcterms:modified xsi:type="dcterms:W3CDTF">2010-04-26T11:49:58Z</dcterms:modified>
  <cp:revision>44</cp:revision>
  <dc:subject/>
  <dc:title>Manga &amp; Anime</dc:title>
</cp:coreProperties>
</file>