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8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17.png" ContentType="image/png"/>
  <Override PartName="/ppt/media/image20.wmf" ContentType="image/x-wmf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8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08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2FF1-32A4-4C03-BE5F-854B8947D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BC5AC5-2AD9-40E2-A7CF-289D939F8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bling block in that we had to project 2010 sa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A16146-5038-4864-BFCE-45B7E0A93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5DF833-5EC7-46EB-A2F2-A74D0E845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other tabs – batter VORP, salarie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issue w/ some salaries projected &lt; 0, so max w/ league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20DC04-E267-45EA-81E7-2CB258C96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few spewed bump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yers played in ‘08 but were dropped in ‘09 and picked up again in ‘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DEFAEA-5261-4736-8A06-91F694BA5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penalties to rank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ers vs position player for extra slot on ro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0BE149-E622-4CFC-AB51-DF99AB8BF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ary is partially driven from VO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ys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for this problem must be truly 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C11C3F-3525-4682-A387-61EA33D7B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it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377BBF-4E2B-47EE-BD96-C6E8F10B9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C9A429-017B-485E-8601-95D28EF8D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319B54-BCB5-4F45-B75E-677D45ABA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5AB594-AF07-4632-897A-7E2BC7CA7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EC3857-71A1-4F1E-B2E0-2CB90765F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RP omits all defense abilities in its c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6E36B2-7AA3-4AE3-A97A-81F414688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D96F-7C09-4718-8C71-29015F3E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polate free agent needs per team by looking at current roster vs last yr ro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F4F483-7BFB-4B92-B491-1E8587F40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2200" y="3888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48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608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996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220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608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6996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22200" y="122400"/>
            <a:ext cx="8499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48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2200" y="3888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48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608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69960" y="1557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220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608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69960" y="3888360"/>
            <a:ext cx="273672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2200" y="122400"/>
            <a:ext cx="8499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480" y="3888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557360"/>
            <a:ext cx="414756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2200" y="3888360"/>
            <a:ext cx="8499600" cy="2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etter_161"/>
          <p:cNvPicPr/>
          <p:nvPr/>
        </p:nvPicPr>
        <p:blipFill>
          <a:blip r:embed="rId2"/>
          <a:stretch/>
        </p:blipFill>
        <p:spPr>
          <a:xfrm>
            <a:off x="304920" y="4038480"/>
            <a:ext cx="8512200" cy="165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3520" y="106668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312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1312"/>
              </a:spcBef>
              <a:buClr>
                <a:srgbClr val="dc24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4360" indent="-227160">
              <a:spcBef>
                <a:spcPts val="1312"/>
              </a:spcBef>
              <a:buClr>
                <a:srgbClr val="dc24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7160">
              <a:spcBef>
                <a:spcPts val="1312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141560" indent="-227160">
              <a:spcBef>
                <a:spcPts val="1312"/>
              </a:spcBef>
              <a:buClr>
                <a:srgbClr val="dc24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141560" indent="-22716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141560" indent="-22716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8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08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322200" y="1557360"/>
            <a:ext cx="8499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312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1312"/>
              </a:spcBef>
              <a:buClr>
                <a:srgbClr val="dc24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4360" indent="-227160">
              <a:spcBef>
                <a:spcPts val="1312"/>
              </a:spcBef>
              <a:buClr>
                <a:srgbClr val="dc24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7160">
              <a:spcBef>
                <a:spcPts val="1312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141560" indent="-227160">
              <a:spcBef>
                <a:spcPts val="1312"/>
              </a:spcBef>
              <a:buClr>
                <a:srgbClr val="dc24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141560" indent="-22716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141560" indent="-22716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3"/>
          <p:cNvSpPr/>
          <p:nvPr/>
        </p:nvSpPr>
        <p:spPr>
          <a:xfrm>
            <a:off x="322200" y="609480"/>
            <a:ext cx="8499600" cy="0"/>
          </a:xfrm>
          <a:prstGeom prst="line">
            <a:avLst/>
          </a:prstGeom>
          <a:ln w="12600">
            <a:solidFill>
              <a:srgbClr val="003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322200" y="12240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459900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resented by: Steve Kelly           April 28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eil M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tephen P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627120" cy="1447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47920" y="581976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10 Salary Projection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1688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air to assume that 2010 salaries will be greater than or equal to 2009 sala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unded by fact that not all free agents had a (baseball-related) salary in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we were challenged to derive a methodology to estimate each player’s 2010 c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840200"/>
            <a:ext cx="84582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estimate 2010 cost of player, we regressed 2008 VORP and 2008 salary (independent variables) against 2009 salary (dependent variab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then used the regression output to estimate 2010 sala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47920" y="2971800"/>
            <a:ext cx="6171840" cy="1599840"/>
            <a:chOff x="1447920" y="2971800"/>
            <a:chExt cx="6171840" cy="1599840"/>
          </a:xfrm>
        </p:grpSpPr>
        <p:sp>
          <p:nvSpPr>
            <p:cNvPr id="139" name=""/>
            <p:cNvSpPr/>
            <p:nvPr/>
          </p:nvSpPr>
          <p:spPr>
            <a:xfrm>
              <a:off x="1447920" y="2971800"/>
              <a:ext cx="6171840" cy="1599840"/>
            </a:xfrm>
            <a:prstGeom prst="irregularSeal1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23840" y="3471480"/>
              <a:ext cx="24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9900"/>
                  </a:solidFill>
                  <a:latin typeface="Arial"/>
                </a:rPr>
                <a:t>Enter REGR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99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ck Regression Mod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634160" cy="357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2742840" y="12193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838080"/>
            <a:ext cx="2514600" cy="838440"/>
          </a:xfrm>
          <a:prstGeom prst="ellipse">
            <a:avLst/>
          </a:prstGeom>
          <a:solidFill>
            <a:srgbClr val="be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990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stunning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200400" y="434304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838080"/>
            <a:ext cx="2514600" cy="838440"/>
          </a:xfrm>
          <a:prstGeom prst="ellipse">
            <a:avLst/>
          </a:prstGeom>
          <a:solidFill>
            <a:srgbClr val="be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914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e the stunning R</a:t>
            </a:r>
            <a:r>
              <a:rPr b="0" lang="en-US" sz="1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val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4495680"/>
            <a:ext cx="2819520" cy="1170000"/>
            <a:chOff x="380880" y="4495680"/>
            <a:chExt cx="2819520" cy="1170000"/>
          </a:xfrm>
        </p:grpSpPr>
        <p:sp>
          <p:nvSpPr>
            <p:cNvPr id="150" name=""/>
            <p:cNvSpPr/>
            <p:nvPr/>
          </p:nvSpPr>
          <p:spPr>
            <a:xfrm>
              <a:off x="380880" y="4495680"/>
              <a:ext cx="2819520" cy="1170000"/>
            </a:xfrm>
            <a:prstGeom prst="ellipse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4645080"/>
              <a:ext cx="22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-values so small you can barely see the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5800" y="5759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Eq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cept + (2009 Sal * 2008 Sal Coef) + (2009 VORP * 2008 VORP Co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4495680"/>
            <a:ext cx="2819520" cy="1170000"/>
            <a:chOff x="380880" y="4495680"/>
            <a:chExt cx="2819520" cy="1170000"/>
          </a:xfrm>
        </p:grpSpPr>
        <p:sp>
          <p:nvSpPr>
            <p:cNvPr id="154" name=""/>
            <p:cNvSpPr/>
            <p:nvPr/>
          </p:nvSpPr>
          <p:spPr>
            <a:xfrm>
              <a:off x="380880" y="4495680"/>
              <a:ext cx="2819520" cy="1170000"/>
            </a:xfrm>
            <a:prstGeom prst="ellipse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120" y="4645080"/>
              <a:ext cx="22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-values so small you can barely see the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0880" y="4495680"/>
            <a:ext cx="2819520" cy="1170000"/>
            <a:chOff x="380880" y="4495680"/>
            <a:chExt cx="2819520" cy="1170000"/>
          </a:xfrm>
        </p:grpSpPr>
        <p:sp>
          <p:nvSpPr>
            <p:cNvPr id="157" name=""/>
            <p:cNvSpPr/>
            <p:nvPr/>
          </p:nvSpPr>
          <p:spPr>
            <a:xfrm>
              <a:off x="380880" y="4495680"/>
              <a:ext cx="2819520" cy="1170000"/>
            </a:xfrm>
            <a:prstGeom prst="ellipse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120" y="4645080"/>
              <a:ext cx="22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-values so small you can barely see the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4495680"/>
            <a:ext cx="2819520" cy="1170000"/>
            <a:chOff x="380880" y="4495680"/>
            <a:chExt cx="2819520" cy="1170000"/>
          </a:xfrm>
        </p:grpSpPr>
        <p:sp>
          <p:nvSpPr>
            <p:cNvPr id="160" name=""/>
            <p:cNvSpPr/>
            <p:nvPr/>
          </p:nvSpPr>
          <p:spPr>
            <a:xfrm>
              <a:off x="380880" y="4495680"/>
              <a:ext cx="2819520" cy="1170000"/>
            </a:xfrm>
            <a:prstGeom prst="ellipse">
              <a:avLst/>
            </a:prstGeom>
            <a:solidFill>
              <a:srgbClr val="be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120" y="4645080"/>
              <a:ext cx="22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-values so small you can barely see them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ree Agent Salary Estimation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087560"/>
            <a:ext cx="873900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iccups Along the Way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14002" r="35626" b="8999"/>
          <a:stretch/>
        </p:blipFill>
        <p:spPr>
          <a:xfrm>
            <a:off x="304920" y="762120"/>
            <a:ext cx="7848360" cy="5867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91320" y="3429000"/>
            <a:ext cx="3276360" cy="21337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4281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mn you, solv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10584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del – Decision Variable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8680" y="743040"/>
            <a:ext cx="85867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10584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del – Objection Function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88320" cy="40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10584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del – Decision Variable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16405" t="48964" r="37502" b="17709"/>
          <a:stretch/>
        </p:blipFill>
        <p:spPr>
          <a:xfrm>
            <a:off x="304920" y="797040"/>
            <a:ext cx="5333760" cy="2892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21093" t="43752" r="42191" b="9376"/>
          <a:stretch/>
        </p:blipFill>
        <p:spPr>
          <a:xfrm>
            <a:off x="5029200" y="312408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Fancy Can We Get?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85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595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685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9720" y="4200480"/>
            <a:ext cx="7894800" cy="2124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467160" cy="1922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505320" cy="21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ossible Improvement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2200" y="838080"/>
            <a:ext cx="85168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as-is ignores certain real-world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lver solution only looks at one team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olver solution is optimal for each team assuming that no other team makes moves with the same pool of free agents (an unrealistic assump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best answer for each team is dynamic, changing as each other team picks their play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 Theory – used in conjunction with the model, a simple sequential move game can be played to predict what the “next” team to pick will do, and alter your strategy according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774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el ignores minor league play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ms have the option to pull players from minor league teams as w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onger model may compare free agents vs. minor league players that can be pulled 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ould need to create a VORP–style metric for farm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774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lary is not all encompa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yers may received performance incentives, playoff bonuses, and other linked or one time compensation which our model can not predi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5720">
              <a:spcBef>
                <a:spcPts val="499"/>
              </a:spcBef>
              <a:buClr>
                <a:srgbClr val="969696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model is only as good as the data we feed 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774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el ignores potential tra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516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4008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205160" cy="5257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717480"/>
            <a:ext cx="4343400" cy="54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teams (14 American League, 16 National Le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players per team; 9 players 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National Champions: New York Yank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 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layer whose contract with a team has expired and is therefore eligible to sign with another major league club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wikipedia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ly 185 free agents i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16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aseball fans are tattooed with loyal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09680" y="1523880"/>
            <a:ext cx="4510080" cy="467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41911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20455800">
            <a:off x="152280" y="2742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82"/>
                </a:solidFill>
                <a:latin typeface="Arial"/>
              </a:rPr>
              <a:t>Not baseball related, but still funn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057400" y="1397160"/>
            <a:ext cx="4952880" cy="4851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295280" y="1371600"/>
            <a:ext cx="6705720" cy="447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9316400">
            <a:off x="4648320" y="3200040"/>
            <a:ext cx="3873240" cy="809640"/>
          </a:xfrm>
          <a:prstGeom prst="leftArrow">
            <a:avLst>
              <a:gd name="adj1" fmla="val 50000"/>
              <a:gd name="adj2" fmla="val 119598"/>
            </a:avLst>
          </a:prstGeom>
          <a:solidFill>
            <a:srgbClr val="ffff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289400">
            <a:off x="6330240" y="2894760"/>
            <a:ext cx="1904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00"/>
                </a:solidFill>
                <a:latin typeface="Arial"/>
              </a:rPr>
              <a:t>Sexy alert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533520"/>
            <a:ext cx="29718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f the following doesn’t belo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orld War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orld 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orld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39840" y="182520"/>
            <a:ext cx="8499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aseball and Controver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794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ll is currently the center of a major global controversy.  While the sport is “America’s pastime” perhaps the World Series should have a more telling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105520"/>
            <a:ext cx="8153280" cy="109944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82"/>
                </a:solidFill>
                <a:latin typeface="Arial"/>
              </a:rPr>
              <a:t>Consider the World Series of Poker, World Series of Beer Pong, World Series of Backgammon – are these global competitions or also misnom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428280" y="762120"/>
            <a:ext cx="2057400" cy="1066680"/>
          </a:xfrm>
          <a:prstGeom prst="wedgeEllipseCallout">
            <a:avLst>
              <a:gd name="adj1" fmla="val -54166"/>
              <a:gd name="adj2" fmla="val 65620"/>
            </a:avLst>
          </a:prstGeom>
          <a:solidFill>
            <a:srgbClr val="be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QUIZ Asshole”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2485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Fox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8240" y="289548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8600" y="1981080"/>
            <a:ext cx="1752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600" y="2438280"/>
            <a:ext cx="1752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3048120"/>
            <a:ext cx="1981440" cy="609480"/>
          </a:xfrm>
          <a:prstGeom prst="ellipse">
            <a:avLst/>
          </a:prstGeom>
          <a:noFill/>
          <a:ln cap="rnd" w="3492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135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 definition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438280" cy="202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715000" y="44197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52480" y="2286000"/>
            <a:ext cx="1349640" cy="205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6760" y="5867280"/>
            <a:ext cx="4838760" cy="649080"/>
          </a:xfrm>
          <a:prstGeom prst="rect">
            <a:avLst/>
          </a:prstGeom>
          <a:solidFill>
            <a:srgbClr val="00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to attend the Mustache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-off party this Thursda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80880" y="1143000"/>
            <a:ext cx="128592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 rot="21168000">
            <a:off x="3352320" y="1447920"/>
            <a:ext cx="4953240" cy="24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>
                    <a:alpha val="52000"/>
                  </a:srgbClr>
                </a:solidFill>
                <a:latin typeface="Impact"/>
              </a:rPr>
              <a:t>HANDSOM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52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aseball and Pop Cultu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689440" y="1905120"/>
            <a:ext cx="28450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81120" y="3962520"/>
            <a:ext cx="1695600" cy="169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20" y="903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, Juran as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40160" y="685800"/>
            <a:ext cx="408276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43600" y="762120"/>
            <a:ext cx="304812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all the free agents h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2200" y="182520"/>
            <a:ext cx="849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alue Over Replacement Player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168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RP is an independent measure of value assigned to major league players by Baseballprospectus.com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number of runs contributed beyond what a replacement-level player at the same position would contribute if given the same percentage of team plate appearanc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RP is an offensive based calculation and is bifurcated for position players and pitch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969000" cy="3610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65520" y="2741760"/>
            <a:ext cx="3969000" cy="3582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4008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A = free agent who didn’t play major league ball in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9924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16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and 2009 salary data: http://content.usatoday.com/sports/baseball/sal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, 2009, 2010 rosters: www.espn.com - to deduce team’s free agent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87"/>
              </a:spcBef>
              <a:buClr>
                <a:srgbClr val="dc241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gue minimum – even the crappy players take home $400,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320" y="2409840"/>
            <a:ext cx="4343400" cy="383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495680" y="3809880"/>
            <a:ext cx="4648320" cy="106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4:40:33Z</dcterms:created>
  <dc:creator>Neil</dc:creator>
  <dc:description/>
  <dc:language>en-US</dc:language>
  <cp:lastModifiedBy>Neil</cp:lastModifiedBy>
  <dcterms:modified xsi:type="dcterms:W3CDTF">2010-05-04T22:22:23Z</dcterms:modified>
  <cp:revision>30</cp:revision>
  <dc:subject/>
  <dc:title>Slide 1</dc:title>
</cp:coreProperties>
</file>