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600b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A790-21A9-40D3-BD56-17F2A9F1DB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1169-E3EF-4194-A615-51A7EDB34A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406D-352C-458F-9C68-9173B441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9F7D-BDA7-4E0D-8FB9-84A569E2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B9A3A8-113C-4211-9B23-12994263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4C6C00-1C87-44D6-A399-21CF8092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0FBBF7-6E96-468E-AC8E-1326B56B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5E8176-FCEE-4118-AC24-C9BDEDB8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360DC2-8552-4AB6-AC83-499EAC7B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4D70A5-7660-42B6-ACEC-E09EB3EC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C081D1-BBEC-4EA2-827A-B993A4E3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0C4260-8280-40A6-9BCA-F4A6B72C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7F3B72-415D-4E19-B929-5028671A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266206-C582-471C-8DDB-B4AAF1B27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06E6-E886-4D26-A7E8-36994E4B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8B0FBA-3059-4C3C-8A6F-1D4CE1D1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5F8D03-2EF6-4092-9456-AACB1193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884AF1-A99E-4155-8E24-C01A0E64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A47140-55DD-4D85-A599-167D6EA2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3602E0-F3CD-46C4-969D-DA58C220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3A0E4F-37BB-4E94-88D2-7B8FED30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D86BD5-973A-4F05-A9E2-932AA3FC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A8F07F-23C4-44A7-8F63-2374D44C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6573C9-C5DE-4BBF-BFA1-97061DA6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04BF3B-5781-472A-8B15-F1363AB6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DE78-5613-4A02-B0BE-7E53D311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C21B8F-009C-4974-9B74-BE4D5BE90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7AA32-D27C-4612-B434-01555827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A8703-1E3A-42E2-A214-0CB66AF0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6FCCF-39BC-4A56-BECF-3851FE7A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F7665-D99A-465D-89E0-3EB06D90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C11FF-13AA-47C3-B960-C970E004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F5D5B-65E0-4FA4-A568-5D9C08C2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D739D-3E96-4ACE-B648-1936F8B4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99F78-C087-41C4-A09F-D447B8D9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74BE9-9B90-42AA-906B-85088EB7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C6B9-5BC6-4BEE-BDC6-8992539EE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6ED81-2E38-41D5-86E7-B2673D70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EDCE6-D928-4201-BB9F-A8B43DF96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AB612-ECD5-4CB8-95CA-2C45A5E6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DF771D-D566-4027-8780-AFD20C0B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26ED24-D451-4A35-8378-E0AC5E58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AE66E0-6501-47F5-A808-2045C69A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9426F9-9439-428B-81F9-776D19C8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65C83C-4FC7-4D2E-B425-9A8368C4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AA1E03-F8F7-4B03-B9ED-B83546EF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8A74E2-3998-4246-A901-E67D079F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534B-1190-463A-8F38-40AF1E75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EED181-23FF-4FFF-8EF0-8A2D887C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B57B56-717D-4CEF-B835-CEA0879F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74BA66-8A79-4971-A128-9C6AA1FC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2ACDA9-182D-4446-ABDE-2F22BE289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BB009F-6D2A-4A64-A202-219DE295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A945-9B42-43CF-98F7-D83E1EFD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9D91-FFF5-475A-A0C4-79AD389A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C82C-6EF6-4345-B39E-D21AB26F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2D64-4F0D-4858-8504-3D49EF20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1835-D72E-4904-B8DD-08942624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FB3C-AC10-4327-B4AA-1CC0951D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EFD8-355F-4704-A377-61791E53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C4E0-36FC-460E-BBD2-7CED0CB2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3F11-4ABF-4744-804D-4E916865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B043-DC19-4608-8B2C-D03760639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2C17-7DE9-41B4-A733-855F2AA19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5436C-0458-43D1-B2BD-744497F03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569F6-6890-427C-AFE3-954198E3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8883B-4CD4-4ACC-852F-5FDBE373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4903A-08A3-4571-A7E7-53B7B977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C0C1D-255F-4280-B513-13A12F74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A623-F1F7-4F59-A499-1865FFD2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D9CFA-3B4B-4D5D-9CD9-033C7AC6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66762-1184-4969-9687-E7556661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3EFB8-CC45-401E-9DA4-FC3FCD65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8D7CD-D799-421D-A423-821DFC3B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EC47E-600B-4909-89BE-6117AE89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55AA6-1C91-4CC4-BBAA-8B1943D0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260B2-6961-4597-90CC-6251A0A1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76EAE-7C40-4ACB-9EC5-DA67B28F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335E5-842C-44B8-A9A5-E8550146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6C2B0-F6CC-4EF2-971D-81DD1F36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A32A-D6F7-43BC-9973-64BC8585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7D548-E6FE-4BD7-A82A-CCD1955E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72346-AD2A-4F7B-AC57-492EB62F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57387-8F07-4E86-8132-E931718E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639C2-991B-46D1-991E-B315AF10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CC4EA-002F-4976-92DC-91DB3A43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17D73-927E-4BEA-BEAE-A83832C4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48373-969F-45DD-BDD0-69FDF3C7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79864-0BDD-44F1-A735-5D5C1149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0CBB0-0CE3-469E-A893-14E49171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EA1CA-E7D2-49D5-B4AB-05CBA4388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FBD6-84B0-4929-8FA2-2DE48851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B5D32-2916-4EF6-8531-EA031F7A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D7F2F-38D7-46A2-A190-EA25464A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BFF13-08AD-45E7-B9BE-831F90AB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F3486-BD93-4F9F-96C0-54959613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5755A-95BA-4C77-B721-308DBBC1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AFB9D-1218-47F2-B3B8-5E2D1802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0C0D7-50DE-453B-BE93-557672FC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DF289-DE16-476B-84FE-8F0B151B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32A99-EEC1-422A-AEA2-E1DCE3FD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BE1A9-2841-4C2A-A661-14936913B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7A26-BAFE-4EF0-BC2E-B0CF1922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88DED-46C9-420E-888F-DE838AD2B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21925-9A11-4722-A0E6-01AEE35A8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CA624-9BF3-4A1B-A89F-9BE6A5C4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2F8F3-310A-4BDE-BE22-29DFB2CB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60C1C-4BF6-4C19-ADDA-FE8D39FD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6548C-CDEB-467B-96A5-669D4CD5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39C16-F416-47AB-A9E1-36577E55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6FBAE-98DA-4D74-8521-54C32B45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7D41D-97D1-4C88-A92D-522CDCDA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2C07F-1A3B-435A-8923-61A1769F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37BC-394A-40D8-ADBB-C62AA0CC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838E3-2753-4053-898E-F88EEC0C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DAC3B-47AD-4451-A16B-8EBF62BC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B9B09-3265-408E-8453-E751E612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8829F-4FDD-4CF1-A17A-6833EFE5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6D5DC-8840-46B8-956C-D3F4D1F7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D6E27-BAA5-4770-9A18-A493F3D3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B447A-68C7-42D5-87F1-6E89E0B8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96137-4582-4D1D-8232-B65CC587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9A6EB-AC88-43BA-A585-A8A1E835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CB169-5387-41B3-9C3A-6274F83C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0F6B-33D1-4123-B38D-20AF52FA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8CE4B-9C3F-453E-BF49-FB85B5B9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91CDF-C4FF-49F9-B08A-61E42DC9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7252F-9A71-4D4F-A7BA-28BC3D98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9FC7D-9F8D-4A86-9699-B08966CF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BEFCC-4B5A-4C45-9421-819E8227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89AA3-9114-41E8-ACA6-9CE8AD457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D237E-4CCF-488F-B1FE-F64432AA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94334-F217-483B-AD87-744DC4C7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ADC20-1966-43C4-952B-FB5AFFD5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CD565-4F68-480C-B977-3B4AC6D3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7F86-944D-40BE-9D02-DA238507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B302D-09E2-4939-BAB3-C7EC4E0B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85D70-A902-4F74-A933-03D8EFCD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AA28E-450C-43F4-A05C-C009D8FF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AD419-B3F5-44A2-9515-BE1E8969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1390E-7EB4-4486-87F6-26EAA1B8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289F8-9F2A-4D20-99B1-721647C3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02171-E1B4-4A28-A105-5AE76227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B9B6B6-9DC1-429F-B37D-7EF32679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7D8AC8-B5DD-4DF5-9D16-9821C663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F086A5-9629-480B-8A52-E9F41750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b00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600b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600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3801-4808-4175-A5C1-4996471B3D56}" type="slidenum">
              <a:rPr b="0" lang="en-US" sz="1600" spc="-1" strike="noStrike">
                <a:solidFill>
                  <a:srgbClr val="9600b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600b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b00d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9600b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ab00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f12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b00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600b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b00d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600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363B-F722-4B40-9352-5FD6A2F619F3}" type="slidenum">
              <a:rPr b="0" lang="en-US" sz="1600" spc="-1" strike="noStrike">
                <a:solidFill>
                  <a:srgbClr val="9600b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b00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600b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600b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b00d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600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EC02-581E-4D45-BB45-7CCFDC2EAD7A}" type="slidenum">
              <a:rPr b="0" lang="en-US" sz="1600" spc="-1" strike="noStrike">
                <a:solidFill>
                  <a:srgbClr val="9600b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b00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9600b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600b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b00d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600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FFC7-8A35-48FE-B9F0-672EFC6C7C05}" type="slidenum">
              <a:rPr b="0" lang="en-US" sz="1600" spc="-1" strike="noStrike">
                <a:solidFill>
                  <a:srgbClr val="9600b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b00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9600b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600b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b00d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600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5381-605D-439D-B497-86AA7515BFA3}" type="slidenum">
              <a:rPr b="0" lang="en-US" sz="1600" spc="-1" strike="noStrike">
                <a:solidFill>
                  <a:srgbClr val="9600b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b00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600b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600b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b00d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600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DCB8-B49D-4E86-B1FF-3666E54D5629}" type="slidenum">
              <a:rPr b="0" lang="en-US" sz="1600" spc="-1" strike="noStrike">
                <a:solidFill>
                  <a:srgbClr val="9600b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f12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b00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9600b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600b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b00d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600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A197-CB9F-4E8A-A877-F931BA53953C}" type="slidenum">
              <a:rPr b="0" lang="en-US" sz="1600" spc="-1" strike="noStrike">
                <a:solidFill>
                  <a:srgbClr val="9600b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b00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600b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666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600b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b00d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600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6CFF-D27D-4084-80CE-605C1AA07357}" type="slidenum">
              <a:rPr b="0" lang="en-US" sz="1600" spc="-1" strike="noStrike">
                <a:solidFill>
                  <a:srgbClr val="9600b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666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f12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ab00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9600b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600b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b00d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600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B771-EC6C-4E12-862B-7A9F51459476}" type="slidenum">
              <a:rPr b="0" lang="en-US" sz="1600" spc="-1" strike="noStrike">
                <a:solidFill>
                  <a:srgbClr val="9600b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b00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600b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600b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b00d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600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7EE0-BAF3-4EF9-A589-60B7BC717454}" type="slidenum">
              <a:rPr b="0" lang="en-US" sz="1600" spc="-1" strike="noStrike">
                <a:solidFill>
                  <a:srgbClr val="9600b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b00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600b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b00d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AE3E-C6E0-42FA-95B0-1CFAC0BA59F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ab00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f12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9600b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b00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600b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b00d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600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51C0-5A3E-462E-A805-F5CC2926005D}" type="slidenum">
              <a:rPr b="0" lang="en-US" sz="1600" spc="-1" strike="noStrike">
                <a:solidFill>
                  <a:srgbClr val="9600b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1274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66666"/>
              </a:solidFill>
              <a:latin typeface="Georgia"/>
            </a:endParaRPr>
          </a:p>
        </p:txBody>
      </p:sp>
      <p:pic>
        <p:nvPicPr>
          <p:cNvPr id="615" name="Picture 4" descr=""/>
          <p:cNvPicPr/>
          <p:nvPr/>
        </p:nvPicPr>
        <p:blipFill>
          <a:blip r:embed="rId1"/>
          <a:srcRect l="12884" t="0" r="12738" b="0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6"/>
          <p:cNvSpPr/>
          <p:nvPr/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9d"/>
                </a:solidFill>
                <a:latin typeface="Georgia"/>
              </a:rPr>
              <a:t>Decision Models Project</a:t>
            </a:r>
            <a:br>
              <a:rPr sz="4400"/>
            </a:br>
            <a:r>
              <a:rPr b="1" lang="en-US" sz="4400" spc="-1" strike="noStrike">
                <a:solidFill>
                  <a:srgbClr val="80009d"/>
                </a:solidFill>
                <a:latin typeface="Kristen ITC"/>
              </a:rPr>
              <a:t>Diapering Decision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Rectangle 7"/>
          <p:cNvSpPr/>
          <p:nvPr/>
        </p:nvSpPr>
        <p:spPr>
          <a:xfrm>
            <a:off x="838080" y="5334120"/>
            <a:ext cx="7925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9d"/>
                </a:solidFill>
                <a:latin typeface="Comic Sans MS"/>
              </a:rPr>
              <a:t>Team 15: Jeffrey Behm; Shih-wen Hung; Donghyun Le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9d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80009d"/>
                </a:solidFill>
                <a:latin typeface="Comic Sans MS"/>
              </a:rPr>
              <a:t>Jeff Schwartz; Sukanya Swetharanyan  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8" name="Picture 8" descr="IMG_0071.JPG"/>
          <p:cNvPicPr/>
          <p:nvPr/>
        </p:nvPicPr>
        <p:blipFill>
          <a:blip r:embed="rId2"/>
          <a:stretch/>
        </p:blipFill>
        <p:spPr>
          <a:xfrm>
            <a:off x="3429000" y="2133720"/>
            <a:ext cx="2529000" cy="3071520"/>
          </a:xfrm>
          <a:prstGeom prst="rect">
            <a:avLst/>
          </a:prstGeom>
          <a:ln w="0">
            <a:noFill/>
          </a:ln>
        </p:spPr>
      </p:pic>
      <p:sp>
        <p:nvSpPr>
          <p:cNvPr id="619" name="TextBox 9"/>
          <p:cNvSpPr/>
          <p:nvPr/>
        </p:nvSpPr>
        <p:spPr>
          <a:xfrm>
            <a:off x="-13320" y="0"/>
            <a:ext cx="18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0038"/>
                </a:solidFill>
                <a:latin typeface="Georgia"/>
              </a:rPr>
              <a:t>April 26</a:t>
            </a:r>
            <a:r>
              <a:rPr b="0" lang="en-US" sz="1800" spc="-1" strike="noStrike" baseline="30000">
                <a:solidFill>
                  <a:srgbClr val="890038"/>
                </a:solidFill>
                <a:latin typeface="Georgia"/>
              </a:rPr>
              <a:t>th</a:t>
            </a:r>
            <a:r>
              <a:rPr b="0" lang="en-US" sz="1800" spc="-1" strike="noStrike">
                <a:solidFill>
                  <a:srgbClr val="890038"/>
                </a:solidFill>
                <a:latin typeface="Georgia"/>
              </a:rPr>
              <a:t>, 201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9d"/>
                </a:solidFill>
                <a:latin typeface="Georgia"/>
              </a:rPr>
              <a:t>Next Steps</a:t>
            </a:r>
            <a:endParaRPr b="0" lang="en-US" sz="40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114440" y="1447920"/>
            <a:ext cx="472428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24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Improve on assumptions that: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spcBef>
                <a:spcPts val="524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a fixed number of diapers is used per day based on age</a:t>
            </a:r>
            <a:endParaRPr b="0" lang="en-US" sz="2100" spc="-1" strike="noStrike">
              <a:solidFill>
                <a:srgbClr val="666666"/>
              </a:solidFill>
              <a:latin typeface="Georgia"/>
            </a:endParaRPr>
          </a:p>
          <a:p>
            <a:pPr lvl="1" marL="698400" indent="-268560">
              <a:spcBef>
                <a:spcPts val="524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baby’s weight increases linearly during purchase period</a:t>
            </a:r>
            <a:endParaRPr b="0" lang="en-US" sz="2100" spc="-1" strike="noStrike">
              <a:solidFill>
                <a:srgbClr val="666666"/>
              </a:solidFill>
              <a:latin typeface="Georgia"/>
            </a:endParaRPr>
          </a:p>
          <a:p>
            <a:pPr lvl="1" marL="698400" indent="-268560">
              <a:spcBef>
                <a:spcPts val="524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11 percentile ranges suffice for all babies</a:t>
            </a:r>
            <a:endParaRPr b="0" lang="en-US" sz="2100" spc="-1" strike="noStrike">
              <a:solidFill>
                <a:srgbClr val="666666"/>
              </a:solidFill>
              <a:latin typeface="Georgia"/>
            </a:endParaRPr>
          </a:p>
          <a:p>
            <a:pPr marL="256320" indent="-256320">
              <a:spcBef>
                <a:spcPts val="524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Economize for more than one child in the household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524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Make he model more user-friendly for non-MBAs to use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524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Apply the model to other situations (e.g., zoos, day care centers)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5" name="Picture 4" descr="IMG_1265.JPG"/>
          <p:cNvPicPr/>
          <p:nvPr/>
        </p:nvPicPr>
        <p:blipFill>
          <a:blip r:embed="rId1"/>
          <a:stretch/>
        </p:blipFill>
        <p:spPr>
          <a:xfrm>
            <a:off x="228600" y="1447920"/>
            <a:ext cx="3657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9d"/>
                </a:solidFill>
                <a:latin typeface="Georgia"/>
              </a:rPr>
              <a:t>Questions?</a:t>
            </a:r>
            <a:endParaRPr b="0" lang="en-US" sz="4000" spc="-1" strike="noStrike">
              <a:solidFill>
                <a:srgbClr val="9600b9"/>
              </a:solidFill>
              <a:latin typeface="Georgia"/>
            </a:endParaRPr>
          </a:p>
        </p:txBody>
      </p:sp>
      <p:pic>
        <p:nvPicPr>
          <p:cNvPr id="647" name="Picture 5" descr="http://www.babble.com/CS/blogs/droolicious/Ruffle.jpg"/>
          <p:cNvPicPr/>
          <p:nvPr/>
        </p:nvPicPr>
        <p:blipFill>
          <a:blip r:embed="rId1"/>
          <a:stretch/>
        </p:blipFill>
        <p:spPr>
          <a:xfrm>
            <a:off x="5727600" y="2930400"/>
            <a:ext cx="3048120" cy="3241800"/>
          </a:xfrm>
          <a:prstGeom prst="rect">
            <a:avLst/>
          </a:prstGeom>
          <a:ln w="9360">
            <a:solidFill>
              <a:srgbClr val="ff1274"/>
            </a:solidFill>
            <a:miter/>
          </a:ln>
        </p:spPr>
      </p:pic>
      <p:pic>
        <p:nvPicPr>
          <p:cNvPr id="648" name="Picture 7" descr="http://www.inhabitat.com/wp-content/uploads/gdiapergreenbum.jpg"/>
          <p:cNvPicPr/>
          <p:nvPr/>
        </p:nvPicPr>
        <p:blipFill>
          <a:blip r:embed="rId2"/>
          <a:stretch/>
        </p:blipFill>
        <p:spPr>
          <a:xfrm>
            <a:off x="343080" y="1574640"/>
            <a:ext cx="3232080" cy="2667240"/>
          </a:xfrm>
          <a:prstGeom prst="rect">
            <a:avLst/>
          </a:prstGeom>
          <a:ln w="9360">
            <a:solidFill>
              <a:srgbClr val="ff1274"/>
            </a:solidFill>
            <a:miter/>
          </a:ln>
        </p:spPr>
      </p:pic>
      <p:pic>
        <p:nvPicPr>
          <p:cNvPr id="649" name="Picture 9" descr="http://riverdaughter.files.wordpress.com/2009/11/question-mark-button-thumb30497471.jpg"/>
          <p:cNvPicPr/>
          <p:nvPr/>
        </p:nvPicPr>
        <p:blipFill>
          <a:blip r:embed="rId3"/>
          <a:stretch/>
        </p:blipFill>
        <p:spPr>
          <a:xfrm>
            <a:off x="3325680" y="2666880"/>
            <a:ext cx="2630520" cy="2657520"/>
          </a:xfrm>
          <a:prstGeom prst="rect">
            <a:avLst/>
          </a:prstGeom>
          <a:ln w="9360">
            <a:solidFill>
              <a:srgbClr val="ff127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9d"/>
                </a:solidFill>
                <a:latin typeface="Georgia"/>
              </a:rPr>
              <a:t>Agenda</a:t>
            </a:r>
            <a:endParaRPr b="0" lang="en-US" sz="40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456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9d"/>
                </a:solidFill>
                <a:latin typeface="Georgia"/>
              </a:rPr>
              <a:t>Problem Defini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9d"/>
                </a:solidFill>
                <a:latin typeface="Georgia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9d"/>
                </a:solidFill>
                <a:latin typeface="Georgia"/>
              </a:rPr>
              <a:t>Data Incorporated in Mod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9d"/>
                </a:solidFill>
                <a:latin typeface="Georgia"/>
              </a:rPr>
              <a:t>Model Inpu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9d"/>
                </a:solidFill>
                <a:latin typeface="Georgia"/>
              </a:rPr>
              <a:t>Model Resul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9d"/>
                </a:solidFill>
                <a:latin typeface="Georgia"/>
              </a:rPr>
              <a:t>Constraints and Assump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9d"/>
                </a:solidFill>
                <a:latin typeface="Georgia"/>
              </a:rPr>
              <a:t>Complexit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9d"/>
                </a:solidFill>
                <a:latin typeface="Georgia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9d"/>
                </a:solidFill>
                <a:latin typeface="Georgi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2" name="Picture 2" descr="Cute diapers and lovely baby by marchmonkey."/>
          <p:cNvPicPr/>
          <p:nvPr/>
        </p:nvPicPr>
        <p:blipFill>
          <a:blip r:embed="rId1"/>
          <a:stretch/>
        </p:blipFill>
        <p:spPr>
          <a:xfrm>
            <a:off x="5334120" y="1523880"/>
            <a:ext cx="357192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9d"/>
                </a:solidFill>
                <a:latin typeface="Georgia"/>
              </a:rPr>
              <a:t>Problem Definition</a:t>
            </a:r>
            <a:endParaRPr b="0" lang="en-US" sz="40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613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arents spend roughly $1,600-$2,300 on diapers for one child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01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baby needs roughly 7-12 diapers a day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01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iaper needs change periodically based on age and weight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01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isposable diaper options abound with lots of brands, seven sizes, and multiple packaging siz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560069"/>
                </a:solidFill>
                <a:latin typeface="Georgia"/>
              </a:rPr>
              <a:t>An expensive problem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560069"/>
                </a:solidFill>
                <a:latin typeface="Georgia"/>
              </a:rPr>
              <a:t>Options, Option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560069"/>
                </a:solidFill>
                <a:latin typeface="Georgia"/>
              </a:rPr>
              <a:t>No time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Rectangle 5"/>
          <p:cNvSpPr/>
          <p:nvPr/>
        </p:nvSpPr>
        <p:spPr>
          <a:xfrm>
            <a:off x="152280" y="6324480"/>
            <a:ext cx="586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2f2f2"/>
                </a:solidFill>
                <a:latin typeface="Georgia"/>
              </a:rPr>
              <a:t>Sources: http://www.realdiaperassociation.org/diaperfacts.php;  http://community.babycenter.com; http://peekaboobottoms.com/pages.php?page=savingmoney;  http://www.diaperingdecisions.com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6" name="Picture 3" descr=""/>
          <p:cNvPicPr/>
          <p:nvPr/>
        </p:nvPicPr>
        <p:blipFill>
          <a:blip r:embed="rId1"/>
          <a:stretch/>
        </p:blipFill>
        <p:spPr>
          <a:xfrm>
            <a:off x="4267080" y="4191120"/>
            <a:ext cx="46483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000" spc="-1" strike="noStrike">
                <a:solidFill>
                  <a:srgbClr val="80009d"/>
                </a:solidFill>
                <a:latin typeface="Georgia"/>
              </a:rPr>
              <a:t>Solution</a:t>
            </a:r>
            <a:endParaRPr b="0" lang="en-US" sz="40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4560" y="14479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model that indicates how many packages of what size diapers to buy so that you have enough diapers until your next run to the stor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bjective: Minimize diaper co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cision Variables: The number of packages of each “diaper option” (combination of brand, type, quantity, size, and store) to bu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9" name="Picture 5" descr="http://img.alibaba.com/photo/10929561/Pampers_Diaper.jpg"/>
          <p:cNvPicPr/>
          <p:nvPr/>
        </p:nvPicPr>
        <p:blipFill>
          <a:blip r:embed="rId1"/>
          <a:stretch/>
        </p:blipFill>
        <p:spPr>
          <a:xfrm>
            <a:off x="5473800" y="4457880"/>
            <a:ext cx="35049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00b9"/>
                </a:solidFill>
                <a:latin typeface="Georgia"/>
              </a:rPr>
              <a:t>Data that was Incorporated into our Model</a:t>
            </a:r>
            <a:r>
              <a:rPr b="0" lang="en-US" sz="2900" spc="-1" strike="noStrike">
                <a:solidFill>
                  <a:srgbClr val="9600b9"/>
                </a:solidFill>
                <a:latin typeface="Georgia"/>
              </a:rPr>
              <a:t> </a:t>
            </a:r>
            <a:endParaRPr b="0" lang="en-US" sz="29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World Health Organization tables for each gender indicating the end of month weight of a baby for each percentil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Rectangle 121"/>
          <p:cNvSpPr/>
          <p:nvPr/>
        </p:nvSpPr>
        <p:spPr>
          <a:xfrm>
            <a:off x="304920" y="4267080"/>
            <a:ext cx="8534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price and quantity of each diaper option sold by the two websites with the lowest prices for diapers (Amazon.com and Diapers.com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550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Research indicating that babies use 12 diapers/day in month 1, 10/day in months 2-3, 8/day in months 9-12, 7/day in years 2-3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3" name="Picture 8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76312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00b9"/>
                </a:solidFill>
                <a:latin typeface="Georgia"/>
              </a:rPr>
              <a:t>Model Inputs - Spreadsheet</a:t>
            </a:r>
            <a:endParaRPr b="0" lang="en-US" sz="4000" spc="-1" strike="noStrike">
              <a:solidFill>
                <a:srgbClr val="9600b9"/>
              </a:solidFill>
              <a:latin typeface="Georgia"/>
            </a:endParaRPr>
          </a:p>
        </p:txBody>
      </p:sp>
      <p:pic>
        <p:nvPicPr>
          <p:cNvPr id="635" name="Picture 23" descr=""/>
          <p:cNvPicPr/>
          <p:nvPr/>
        </p:nvPicPr>
        <p:blipFill>
          <a:blip r:embed="rId1"/>
          <a:stretch/>
        </p:blipFill>
        <p:spPr>
          <a:xfrm>
            <a:off x="609480" y="4199040"/>
            <a:ext cx="8229600" cy="20970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25" descr=""/>
          <p:cNvPicPr/>
          <p:nvPr/>
        </p:nvPicPr>
        <p:blipFill>
          <a:blip r:embed="rId2"/>
          <a:stretch/>
        </p:blipFill>
        <p:spPr>
          <a:xfrm>
            <a:off x="685800" y="1447920"/>
            <a:ext cx="601992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00b9"/>
                </a:solidFill>
                <a:latin typeface="Georgia"/>
              </a:rPr>
              <a:t>Model Results - Spreadsheet</a:t>
            </a:r>
            <a:endParaRPr b="0" lang="en-US" sz="4000" spc="-1" strike="noStrike">
              <a:solidFill>
                <a:srgbClr val="9600b9"/>
              </a:solidFill>
              <a:latin typeface="Georgia"/>
            </a:endParaRPr>
          </a:p>
        </p:txBody>
      </p:sp>
      <p:pic>
        <p:nvPicPr>
          <p:cNvPr id="638" name="Picture 16" descr=""/>
          <p:cNvPicPr/>
          <p:nvPr/>
        </p:nvPicPr>
        <p:blipFill>
          <a:blip r:embed="rId1"/>
          <a:stretch/>
        </p:blipFill>
        <p:spPr>
          <a:xfrm>
            <a:off x="1541520" y="1407960"/>
            <a:ext cx="6535800" cy="49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304560" y="16002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urchase quantity at each size should at least equal the number of diapers need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number of packages purchased of each diaper option should be non-negative and an integ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maximum number of packages of any diaper option should be no greater than 50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nused diapers have no salvage valu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nly disposable diapers will be purchas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apers will only be needed until age thre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Title 1"/>
          <p:cNvSpPr/>
          <p:nvPr/>
        </p:nvSpPr>
        <p:spPr>
          <a:xfrm>
            <a:off x="304920" y="228600"/>
            <a:ext cx="853416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9d"/>
                </a:solidFill>
                <a:latin typeface="Georgia"/>
              </a:rPr>
              <a:t>Constraints and Assumption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9d"/>
                </a:solidFill>
                <a:latin typeface="Georgia"/>
              </a:rPr>
              <a:t>Complexities</a:t>
            </a:r>
            <a:endParaRPr b="0" lang="en-US" sz="40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228240" y="1447560"/>
            <a:ext cx="8504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51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Weight percentile may change or may be difficult to determin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51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Price data may need to be periodically updated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51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Due to nature of Evolutionary Solver, it may need to be run more than once to ensure accuracy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51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Diaper sizes overlap, so the number of diapers needed at each size is a range rather than one number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51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7:21:35Z</dcterms:created>
  <dc:creator>J Law</dc:creator>
  <dc:description/>
  <dc:language>en-US</dc:language>
  <cp:lastModifiedBy>cts208</cp:lastModifiedBy>
  <dcterms:modified xsi:type="dcterms:W3CDTF">2010-04-26T14:47:25Z</dcterms:modified>
  <cp:revision>141</cp:revision>
  <dc:subject/>
  <dc:title>Slide 1</dc:title>
</cp:coreProperties>
</file>