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600b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C5C5-5816-49DA-8C5A-CE315C11C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01E9-6C0E-4365-814B-FA9490AE6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EC82-2FB3-4280-B1CE-CCB69CF4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3C21-E15B-4682-BB90-EA175D6E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890EF7-EED6-488B-B1BC-C7C7C8C8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8285A7-9F05-4F2D-87AD-14FF158A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D1E8EE-39BF-472F-8CC1-3C57AE7D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EDCEDC-66A9-4803-A9C0-305E2F88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2E42AA-D27C-4B48-BFA8-AFB28750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74C670-866B-45E6-8663-4E064542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5B20F8-235C-4910-B2FC-32E6C73A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0D6F91-016C-4C47-9C69-CC36B950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EFCD68-A5B8-4179-A8E0-FA6A283D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5DF23F-4BD1-49A5-9AD9-FA86A233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62AB-2237-47F2-8FF1-523FECF4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B1A6B7-AF8F-45E1-97FC-B7175B47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6EEF75-8351-4279-91FB-A95D1F15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9D4ECF-1FF2-4D0F-85D7-9B548253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D14E5B-F0A2-49A8-A9DE-CEC99FAC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55463C-AD3B-4320-82C1-503537A0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082364-082E-45B1-A2A5-8F258779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9F7F2D-28F1-490D-9E51-FF053CF7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D7BB51-F05E-440D-82D6-38E1AA22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B325D0-D947-461B-BDE8-D71795B8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AC5B09-28F4-4EF8-A896-089EED2C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493A-9F21-4232-8789-4449FCE7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003EEE-D0AF-429F-AC3D-51926660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0E7AA-23DF-493A-830E-4DCCEC2C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AFD92-59DE-4B33-8D15-4B9150B3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03094-48D7-4295-A1F0-2D5EC9CE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183E8-6CD2-4E43-9256-45C4BFEA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21885-8BF9-44A2-A6C6-33B988DD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364F3-B0C7-4A5C-B197-381CE2B0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C7EFB-EEF2-4F65-9539-D06243FF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175FC-63F8-42A5-842F-00AC0C61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E1C0F-1E15-4D12-A0E2-7CF31536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66A1-52D9-495D-A189-499D3D25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39A53-A801-4023-99C7-48D7470E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EFC03-E2A1-4071-8409-D3EC403D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C39AB-A8E8-4A95-9649-7CD3F613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D2E22C-8299-4240-AA65-285E7BC6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EFC11C-FA2A-4DC2-9456-E9CA9707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6431E8-6B92-4758-84FC-4BF7FED5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4CBEEA-D7AC-40C8-82A1-F7163106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B3F441-B068-46A4-8919-F5381FE5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F9F08E-FCEA-4558-A2CD-F57C0013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9FCF60-D007-4C2F-9F1E-DC456F6D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06F9-FFC4-434D-A3E8-5D6B73CD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25D71E-14D7-4CDE-A2F1-F6059AA7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FBB1C2-0AAA-44AD-9751-E72BE70B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6BA415-15BD-4201-B41A-EA3BFAC0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670B5A-A0C7-44B5-9160-725888F7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9F34C1-DB5A-40F9-B252-3E7FDDD7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B7FC-2C0B-4288-AE0E-511EEF58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7804-9392-43E6-B4FC-5CB5A1D5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0B71-DE15-4FB4-BE7F-F9DE8837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8160-634A-434A-B781-3F0AACFA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2DF5-8EC3-4B4A-B383-94DF66AF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A936-4C62-41BE-990F-A2998F53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5DEE-9B44-4216-B8D9-601D9C00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638D-6C13-4399-AE9F-5615C2F0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9E23-16DE-4F16-8BD8-6DDD0E86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5ABD-EBFB-436F-9028-F01339D5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ADBF-C751-418B-8809-1EAFB2EA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2AED3-ED30-4C16-B0B2-E45F66DA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85E84-09C6-4B81-A3F3-50B0CBCE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FF705-D0CA-42CF-AF43-216B5A70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B2FDB-D238-4238-9F88-BB5AD9E3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C8180-8DDB-4A61-976C-F1E35C58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E2DD-8EAE-4E33-827E-644CFD92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E9136-7998-4A13-B0A0-53E20534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62360-5AC0-4B26-AB0E-831A64A0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7C033-B033-4423-BC8E-0233E1C2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20C08-43F1-42E6-93EF-DD1939AE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17AD0-38AF-4C0E-AB65-F6B28961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240E6-9709-4CFE-957A-8761FB0B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BAEDB-CA82-4D0A-94F3-65AFA32A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CCB7A-8014-4D57-9A15-E9117991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BF65C-03D7-4A03-9D3C-12E1CDC9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04103-1150-4C12-B81F-F2F52EE2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E989-BBDB-4F03-9567-ED06E6FF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2D375-BC0C-4003-9146-F0BFEB37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A455B-FABB-406A-9A1B-BB8773F6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11EC6-9431-4518-8250-8CBDD5B6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4AD64-CD6F-4F77-AEB3-E0F2338D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762B9-C90F-4CB2-9958-A3F92D7E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A6530-EE51-4622-970E-C002A624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23C76-E597-4C66-BA96-148CFA4B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38E5D-CAFF-498E-A39C-2F060402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9D1E3-2E72-4009-A3A0-CA044E10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CB957-CDEC-4C47-BD44-C2092513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F573-0506-47B7-B745-0AE1199F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57319-148E-4818-BDD8-088BA2EC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269F1-57E4-4F72-AEAE-85DE4C6D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0D94F-818A-4009-8A94-1EBF7CFA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C0D64-AFDB-4660-88C1-FBC17F80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F8D06-9C5D-4E5C-9295-EEFB40B7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8E7FE-3736-4707-8603-18AE4019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0FA5B-CBD3-4232-BA69-D3CAC627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F380F-3957-41FE-976A-697DA7B5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6119D-CA3F-46DB-8115-4AA9B47F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E1F47-5E03-4CF2-8E09-9B9FCAE8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418A-7813-4323-9E55-3F1C3178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18949-274B-4DD5-A80E-3C6973C4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E9C23-9753-42D0-B630-248B34C7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43BC9-E1C9-49DB-9802-CC1E6ECB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D2B3E-153F-47C4-AB75-D300561A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CC8DD-A39F-409E-95D6-84D61DC7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B2417-B13D-4F8D-9DC6-5E681BA6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DE053-1FB0-4A8A-BAB2-5CB060AC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6733F-44AF-4C9E-9124-AAAC8709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6A29A-2660-4122-A16C-04DD8C66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9C84E-6408-41C0-9924-AB46B4DD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DB1C-E5F0-40DE-A8D2-7FB6F195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362B0-B76E-47CF-9043-09BA117A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C66BE-163E-406B-A8FB-48213962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9E992-1480-4281-83B0-C24ADAF6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A05F9-894C-4ABD-81E4-3BD46F06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52CFB-781B-47E3-9EC7-F866887E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0784D-C939-4427-B322-D4023B94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7EEE6-4C9B-4C18-AF64-D464FD90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489B0-1893-4A56-9FFE-43F0926C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C8716-3C06-434F-BA21-70BB5491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58B2B-938B-449F-B27D-1A13178E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A648-67F7-4988-8C99-1A031002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141D7-E847-4E69-BA6E-D8148593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811BD-5B52-4A4D-A966-08DC5442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F70E7-7F6B-4895-B5DF-A0D8E262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BC761-1ED6-4FB6-A8D8-107648A4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74B3E-28B2-4C9D-A61A-2BB99A58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39DAB-EAF2-4D31-BFC3-DDFE817D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4B190-7720-42A5-831C-32AF26E1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A1C2E-C273-4DDE-B692-F23A645A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779BC-F1C7-4133-9D2E-08742079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5E269-E7DE-436B-AD46-F40DBADE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4CE4-029F-4720-AC06-FC0FD384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B2881-56F8-4812-A2A4-BF4CF3F8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49936-977D-4099-B50F-481B482B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4656C-949C-4A7D-8794-A9100B62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004E3-609D-4314-846E-ABEF6FF6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FFEDD-32CB-4D75-8E4A-27BB4479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FDE78-5471-4D74-B199-67672C2E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F6833-1175-42C6-87D6-7EE37E70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45B893-5F62-4169-ADED-FAB26BC3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1AD6EF-4DB5-442D-ABF0-120141F5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DEB9DD-4DD3-4DCC-932E-AA5FFAB5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b0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600b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600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9002-901C-462D-B24A-DA79E5A0AFA4}" type="slidenum">
              <a:rPr b="0" lang="en-US" sz="1600" spc="-1" strike="noStrike">
                <a:solidFill>
                  <a:srgbClr val="9600b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600b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b00d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600b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ab0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12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b0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600b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b00d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600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8D3E-1883-4514-BE16-DEACAD9B5DDA}" type="slidenum">
              <a:rPr b="0" lang="en-US" sz="1600" spc="-1" strike="noStrike">
                <a:solidFill>
                  <a:srgbClr val="9600b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b0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600b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600b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b00d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600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8091-D7E0-4326-B75D-FD40857DA6BD}" type="slidenum">
              <a:rPr b="0" lang="en-US" sz="1600" spc="-1" strike="noStrike">
                <a:solidFill>
                  <a:srgbClr val="9600b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b0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9600b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600b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b00d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600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A014-531F-409E-85E8-267A2B4C179C}" type="slidenum">
              <a:rPr b="0" lang="en-US" sz="1600" spc="-1" strike="noStrike">
                <a:solidFill>
                  <a:srgbClr val="9600b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b0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9600b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600b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b00d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600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6CFC-FAA1-402F-BC0B-137D64FA8F2D}" type="slidenum">
              <a:rPr b="0" lang="en-US" sz="1600" spc="-1" strike="noStrike">
                <a:solidFill>
                  <a:srgbClr val="9600b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b0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600b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600b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b00d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600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0190-C606-4B1C-8EF8-1EE7F0101E7C}" type="slidenum">
              <a:rPr b="0" lang="en-US" sz="1600" spc="-1" strike="noStrike">
                <a:solidFill>
                  <a:srgbClr val="9600b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f12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b0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9600b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600b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b00d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600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BD64-5610-491D-9AA5-B9EFE88C9621}" type="slidenum">
              <a:rPr b="0" lang="en-US" sz="1600" spc="-1" strike="noStrike">
                <a:solidFill>
                  <a:srgbClr val="9600b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b0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600b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666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600b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b00d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600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1BE5-4B9E-4034-BFEB-86A399B7EF7C}" type="slidenum">
              <a:rPr b="0" lang="en-US" sz="1600" spc="-1" strike="noStrike">
                <a:solidFill>
                  <a:srgbClr val="9600b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666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f12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ab0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9600b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600b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b00d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600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B723-07F2-4736-B5FA-C6C2C2AD6B80}" type="slidenum">
              <a:rPr b="0" lang="en-US" sz="1600" spc="-1" strike="noStrike">
                <a:solidFill>
                  <a:srgbClr val="9600b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b0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600b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600b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b00d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600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FE30-3648-4E01-BCA1-07929A9BE181}" type="slidenum">
              <a:rPr b="0" lang="en-US" sz="1600" spc="-1" strike="noStrike">
                <a:solidFill>
                  <a:srgbClr val="9600b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b0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600b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b00d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CEDF-1AAC-471C-9C91-74F2B787616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ab0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12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600b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600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b0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600b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b00d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600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8F33-AA3D-4F5D-8591-2701D2AFDF13}" type="slidenum">
              <a:rPr b="0" lang="en-US" sz="1600" spc="-1" strike="noStrike">
                <a:solidFill>
                  <a:srgbClr val="9600b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1274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6666"/>
              </a:solidFill>
              <a:latin typeface="Georgia"/>
            </a:endParaRPr>
          </a:p>
        </p:txBody>
      </p:sp>
      <p:pic>
        <p:nvPicPr>
          <p:cNvPr id="615" name="Picture 4" descr=""/>
          <p:cNvPicPr/>
          <p:nvPr/>
        </p:nvPicPr>
        <p:blipFill>
          <a:blip r:embed="rId1"/>
          <a:srcRect l="12884" t="0" r="12738" b="0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6"/>
          <p:cNvSpPr/>
          <p:nvPr/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9d"/>
                </a:solidFill>
                <a:latin typeface="Georgia"/>
              </a:rPr>
              <a:t>Decision Models Project</a:t>
            </a:r>
            <a:br>
              <a:rPr sz="4400"/>
            </a:br>
            <a:r>
              <a:rPr b="1" lang="en-US" sz="4400" spc="-1" strike="noStrike">
                <a:solidFill>
                  <a:srgbClr val="80009d"/>
                </a:solidFill>
                <a:latin typeface="Kristen ITC"/>
              </a:rPr>
              <a:t>Diapering Decision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838080" y="5334120"/>
            <a:ext cx="7925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9d"/>
                </a:solidFill>
                <a:latin typeface="Comic Sans MS"/>
              </a:rPr>
              <a:t>Team 15: Jeffrey Behm; Shih-wen Hung; Donghyun Le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9d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80009d"/>
                </a:solidFill>
                <a:latin typeface="Comic Sans MS"/>
              </a:rPr>
              <a:t>Jeff Schwartz; Sukanya Swetharanyan  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Picture 8" descr="IMG_0071.JPG"/>
          <p:cNvPicPr/>
          <p:nvPr/>
        </p:nvPicPr>
        <p:blipFill>
          <a:blip r:embed="rId2"/>
          <a:stretch/>
        </p:blipFill>
        <p:spPr>
          <a:xfrm>
            <a:off x="3429000" y="2133720"/>
            <a:ext cx="2529000" cy="3071520"/>
          </a:xfrm>
          <a:prstGeom prst="rect">
            <a:avLst/>
          </a:prstGeom>
          <a:ln w="0">
            <a:noFill/>
          </a:ln>
        </p:spPr>
      </p:pic>
      <p:sp>
        <p:nvSpPr>
          <p:cNvPr id="619" name="TextBox 9"/>
          <p:cNvSpPr/>
          <p:nvPr/>
        </p:nvSpPr>
        <p:spPr>
          <a:xfrm>
            <a:off x="-13320" y="0"/>
            <a:ext cx="18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0038"/>
                </a:solidFill>
                <a:latin typeface="Georgia"/>
              </a:rPr>
              <a:t>April 26</a:t>
            </a:r>
            <a:r>
              <a:rPr b="0" lang="en-US" sz="1800" spc="-1" strike="noStrike" baseline="30000">
                <a:solidFill>
                  <a:srgbClr val="890038"/>
                </a:solidFill>
                <a:latin typeface="Georgia"/>
              </a:rPr>
              <a:t>th</a:t>
            </a:r>
            <a:r>
              <a:rPr b="0" lang="en-US" sz="1800" spc="-1" strike="noStrike">
                <a:solidFill>
                  <a:srgbClr val="890038"/>
                </a:solidFill>
                <a:latin typeface="Georgia"/>
              </a:rPr>
              <a:t>, 201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9d"/>
                </a:solidFill>
                <a:latin typeface="Georgia"/>
              </a:rPr>
              <a:t>Next Steps</a:t>
            </a:r>
            <a:endParaRPr b="0" lang="en-US" sz="40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114440" y="1447920"/>
            <a:ext cx="47242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24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Improve on assumptions that: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spcBef>
                <a:spcPts val="524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a fixed number of diapers is used per day based on age</a:t>
            </a:r>
            <a:endParaRPr b="0" lang="en-US" sz="2100" spc="-1" strike="noStrike">
              <a:solidFill>
                <a:srgbClr val="666666"/>
              </a:solidFill>
              <a:latin typeface="Georgia"/>
            </a:endParaRPr>
          </a:p>
          <a:p>
            <a:pPr lvl="1" marL="698400" indent="-268560">
              <a:spcBef>
                <a:spcPts val="524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baby’s weight increases linearly during purchase period</a:t>
            </a:r>
            <a:endParaRPr b="0" lang="en-US" sz="2100" spc="-1" strike="noStrike">
              <a:solidFill>
                <a:srgbClr val="666666"/>
              </a:solidFill>
              <a:latin typeface="Georgia"/>
            </a:endParaRPr>
          </a:p>
          <a:p>
            <a:pPr lvl="1" marL="698400" indent="-268560">
              <a:spcBef>
                <a:spcPts val="524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11 percentile ranges suffice for all babies</a:t>
            </a:r>
            <a:endParaRPr b="0" lang="en-US" sz="2100" spc="-1" strike="noStrike">
              <a:solidFill>
                <a:srgbClr val="666666"/>
              </a:solidFill>
              <a:latin typeface="Georgia"/>
            </a:endParaRPr>
          </a:p>
          <a:p>
            <a:pPr marL="256320" indent="-256320">
              <a:spcBef>
                <a:spcPts val="524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Economize for more than one child in the household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524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Make he model more user-friendly for non-MBAs to use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524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Apply the model to other situations (e.g., zoos, day care centers)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5" name="Picture 4" descr="IMG_1265.JPG"/>
          <p:cNvPicPr/>
          <p:nvPr/>
        </p:nvPicPr>
        <p:blipFill>
          <a:blip r:embed="rId1"/>
          <a:stretch/>
        </p:blipFill>
        <p:spPr>
          <a:xfrm>
            <a:off x="228600" y="1447920"/>
            <a:ext cx="3657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9d"/>
                </a:solidFill>
                <a:latin typeface="Georgia"/>
              </a:rPr>
              <a:t>Questions?</a:t>
            </a:r>
            <a:endParaRPr b="0" lang="en-US" sz="4000" spc="-1" strike="noStrike">
              <a:solidFill>
                <a:srgbClr val="9600b9"/>
              </a:solidFill>
              <a:latin typeface="Georgia"/>
            </a:endParaRPr>
          </a:p>
        </p:txBody>
      </p:sp>
      <p:pic>
        <p:nvPicPr>
          <p:cNvPr id="647" name="Picture 5" descr="http://www.babble.com/CS/blogs/droolicious/Ruffle.jpg"/>
          <p:cNvPicPr/>
          <p:nvPr/>
        </p:nvPicPr>
        <p:blipFill>
          <a:blip r:embed="rId1"/>
          <a:stretch/>
        </p:blipFill>
        <p:spPr>
          <a:xfrm>
            <a:off x="5727600" y="2930400"/>
            <a:ext cx="3048120" cy="3241800"/>
          </a:xfrm>
          <a:prstGeom prst="rect">
            <a:avLst/>
          </a:prstGeom>
          <a:ln w="9360">
            <a:solidFill>
              <a:srgbClr val="ff1274"/>
            </a:solidFill>
            <a:miter/>
          </a:ln>
        </p:spPr>
      </p:pic>
      <p:pic>
        <p:nvPicPr>
          <p:cNvPr id="648" name="Picture 7" descr="http://www.inhabitat.com/wp-content/uploads/gdiapergreenbum.jpg"/>
          <p:cNvPicPr/>
          <p:nvPr/>
        </p:nvPicPr>
        <p:blipFill>
          <a:blip r:embed="rId2"/>
          <a:stretch/>
        </p:blipFill>
        <p:spPr>
          <a:xfrm>
            <a:off x="343080" y="1574640"/>
            <a:ext cx="3232080" cy="2667240"/>
          </a:xfrm>
          <a:prstGeom prst="rect">
            <a:avLst/>
          </a:prstGeom>
          <a:ln w="9360">
            <a:solidFill>
              <a:srgbClr val="ff1274"/>
            </a:solidFill>
            <a:miter/>
          </a:ln>
        </p:spPr>
      </p:pic>
      <p:pic>
        <p:nvPicPr>
          <p:cNvPr id="649" name="Picture 9" descr="http://riverdaughter.files.wordpress.com/2009/11/question-mark-button-thumb30497471.jpg"/>
          <p:cNvPicPr/>
          <p:nvPr/>
        </p:nvPicPr>
        <p:blipFill>
          <a:blip r:embed="rId3"/>
          <a:stretch/>
        </p:blipFill>
        <p:spPr>
          <a:xfrm>
            <a:off x="3325680" y="2666880"/>
            <a:ext cx="2630520" cy="2657520"/>
          </a:xfrm>
          <a:prstGeom prst="rect">
            <a:avLst/>
          </a:prstGeom>
          <a:ln w="9360">
            <a:solidFill>
              <a:srgbClr val="ff127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9d"/>
                </a:solidFill>
                <a:latin typeface="Georgia"/>
              </a:rPr>
              <a:t>Agenda</a:t>
            </a:r>
            <a:endParaRPr b="0" lang="en-US" sz="40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456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9d"/>
                </a:solidFill>
                <a:latin typeface="Georgia"/>
              </a:rPr>
              <a:t>Problem Defini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9d"/>
                </a:solidFill>
                <a:latin typeface="Georgia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9d"/>
                </a:solidFill>
                <a:latin typeface="Georgia"/>
              </a:rPr>
              <a:t>Data Incorporated in Mod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9d"/>
                </a:solidFill>
                <a:latin typeface="Georgia"/>
              </a:rPr>
              <a:t>Model Inpu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9d"/>
                </a:solidFill>
                <a:latin typeface="Georgia"/>
              </a:rPr>
              <a:t>Model Resul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9d"/>
                </a:solidFill>
                <a:latin typeface="Georgia"/>
              </a:rPr>
              <a:t>Constraints and Assump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9d"/>
                </a:solidFill>
                <a:latin typeface="Georgia"/>
              </a:rPr>
              <a:t>Complexit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9d"/>
                </a:solidFill>
                <a:latin typeface="Georgia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9d"/>
                </a:solidFill>
                <a:latin typeface="Georgi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2" name="Picture 2" descr="Cute diapers and lovely baby by marchmonkey."/>
          <p:cNvPicPr/>
          <p:nvPr/>
        </p:nvPicPr>
        <p:blipFill>
          <a:blip r:embed="rId1"/>
          <a:stretch/>
        </p:blipFill>
        <p:spPr>
          <a:xfrm>
            <a:off x="5334120" y="1523880"/>
            <a:ext cx="357192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9d"/>
                </a:solidFill>
                <a:latin typeface="Georgia"/>
              </a:rPr>
              <a:t>Problem Definition</a:t>
            </a:r>
            <a:endParaRPr b="0" lang="en-US" sz="40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613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rents spend roughly $1,600-$2,300 on diapers for one child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01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baby needs roughly 7-12 diapers a day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01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iaper needs change periodically based on age and weight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01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isposable diaper options abound with lots of brands, seven sizes, and multiple packaging siz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560069"/>
                </a:solidFill>
                <a:latin typeface="Georgia"/>
              </a:rPr>
              <a:t>An expensive proble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560069"/>
                </a:solidFill>
                <a:latin typeface="Georgia"/>
              </a:rPr>
              <a:t>Options, Optio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560069"/>
                </a:solidFill>
                <a:latin typeface="Georgia"/>
              </a:rPr>
              <a:t>No time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152280" y="6324480"/>
            <a:ext cx="58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2f2f2"/>
                </a:solidFill>
                <a:latin typeface="Georgia"/>
              </a:rPr>
              <a:t>Sources: http://www.realdiaperassociation.org/diaperfacts.php;  http://community.babycenter.com; http://peekaboobottoms.com/pages.php?page=savingmoney;  http://www.diaperingdecisions.com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6" name="Picture 3" descr=""/>
          <p:cNvPicPr/>
          <p:nvPr/>
        </p:nvPicPr>
        <p:blipFill>
          <a:blip r:embed="rId1"/>
          <a:stretch/>
        </p:blipFill>
        <p:spPr>
          <a:xfrm>
            <a:off x="4267080" y="4191120"/>
            <a:ext cx="46483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000" spc="-1" strike="noStrike">
                <a:solidFill>
                  <a:srgbClr val="80009d"/>
                </a:solidFill>
                <a:latin typeface="Georgia"/>
              </a:rPr>
              <a:t>Solution</a:t>
            </a:r>
            <a:endParaRPr b="0" lang="en-US" sz="40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4560" y="14479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model that indicates how many packages of what size diapers to buy so that you have enough diapers until your next run to the stor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bjective: Minimize diaper co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cision Variables: The number of packages of each “diaper option” (combination of brand, type, quantity, size, and store) to bu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9" name="Picture 5" descr="http://img.alibaba.com/photo/10929561/Pampers_Diaper.jpg"/>
          <p:cNvPicPr/>
          <p:nvPr/>
        </p:nvPicPr>
        <p:blipFill>
          <a:blip r:embed="rId1"/>
          <a:stretch/>
        </p:blipFill>
        <p:spPr>
          <a:xfrm>
            <a:off x="5473800" y="4457880"/>
            <a:ext cx="35049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00b9"/>
                </a:solidFill>
                <a:latin typeface="Georgia"/>
              </a:rPr>
              <a:t>Data that was Incorporated into our Model</a:t>
            </a:r>
            <a:r>
              <a:rPr b="0" lang="en-US" sz="2900" spc="-1" strike="noStrike">
                <a:solidFill>
                  <a:srgbClr val="9600b9"/>
                </a:solidFill>
                <a:latin typeface="Georgia"/>
              </a:rPr>
              <a:t> </a:t>
            </a:r>
            <a:endParaRPr b="0" lang="en-US" sz="29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orld Health Organization tables for each gender indicating the end of month weight of a baby for each percentil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Rectangle 121"/>
          <p:cNvSpPr/>
          <p:nvPr/>
        </p:nvSpPr>
        <p:spPr>
          <a:xfrm>
            <a:off x="304920" y="4267080"/>
            <a:ext cx="8534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price and quantity of each diaper option sold by the two websites with the lowest prices for diapers (Amazon.com and Diapers.com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550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Research indicating that babies use 12 diapers/day in month 1, 10/day in months 2-3, 8/day in months 9-12, 7/day in years 2-3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3" name="Picture 8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76312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00b9"/>
                </a:solidFill>
                <a:latin typeface="Georgia"/>
              </a:rPr>
              <a:t>Model Inputs - Spreadsheet</a:t>
            </a:r>
            <a:endParaRPr b="0" lang="en-US" sz="4000" spc="-1" strike="noStrike">
              <a:solidFill>
                <a:srgbClr val="9600b9"/>
              </a:solidFill>
              <a:latin typeface="Georgia"/>
            </a:endParaRPr>
          </a:p>
        </p:txBody>
      </p:sp>
      <p:pic>
        <p:nvPicPr>
          <p:cNvPr id="635" name="Picture 23" descr=""/>
          <p:cNvPicPr/>
          <p:nvPr/>
        </p:nvPicPr>
        <p:blipFill>
          <a:blip r:embed="rId1"/>
          <a:stretch/>
        </p:blipFill>
        <p:spPr>
          <a:xfrm>
            <a:off x="609480" y="4199040"/>
            <a:ext cx="8229600" cy="20970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25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60199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00b9"/>
                </a:solidFill>
                <a:latin typeface="Georgia"/>
              </a:rPr>
              <a:t>Model Results - Spreadsheet</a:t>
            </a:r>
            <a:endParaRPr b="0" lang="en-US" sz="4000" spc="-1" strike="noStrike">
              <a:solidFill>
                <a:srgbClr val="9600b9"/>
              </a:solidFill>
              <a:latin typeface="Georgia"/>
            </a:endParaRPr>
          </a:p>
        </p:txBody>
      </p:sp>
      <p:pic>
        <p:nvPicPr>
          <p:cNvPr id="638" name="Picture 16" descr=""/>
          <p:cNvPicPr/>
          <p:nvPr/>
        </p:nvPicPr>
        <p:blipFill>
          <a:blip r:embed="rId1"/>
          <a:stretch/>
        </p:blipFill>
        <p:spPr>
          <a:xfrm>
            <a:off x="1541520" y="1407960"/>
            <a:ext cx="653580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304560" y="16002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urchase quantity at each size should at least equal the number of diapers need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number of packages purchased of each diaper option should be non-negative and an integ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maximum number of packages of any diaper option should be no greater than 50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nused diapers have no salvage valu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nly disposable diapers will be purchas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apers will only be needed until age thre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Title 1"/>
          <p:cNvSpPr/>
          <p:nvPr/>
        </p:nvSpPr>
        <p:spPr>
          <a:xfrm>
            <a:off x="304920" y="228600"/>
            <a:ext cx="853416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9d"/>
                </a:solidFill>
                <a:latin typeface="Georgia"/>
              </a:rPr>
              <a:t>Constraints and Assumption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9d"/>
                </a:solidFill>
                <a:latin typeface="Georgia"/>
              </a:rPr>
              <a:t>Complexities</a:t>
            </a:r>
            <a:endParaRPr b="0" lang="en-US" sz="4000" spc="-1" strike="noStrike">
              <a:solidFill>
                <a:srgbClr val="9600b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228240" y="1447560"/>
            <a:ext cx="8504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51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Weight percentile may change or may be difficult to determin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51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Price data may need to be periodically updated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51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Due to nature of Evolutionary Solver, it may need to be run more than once to ensure accurac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51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Diaper sizes overlap, so the number of diapers needed at each size is a range rather than one number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51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ff12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7:21:35Z</dcterms:created>
  <dc:creator>J Law</dc:creator>
  <dc:description/>
  <dc:language>en-US</dc:language>
  <cp:lastModifiedBy>cts208</cp:lastModifiedBy>
  <dcterms:modified xsi:type="dcterms:W3CDTF">2010-04-26T14:47:25Z</dcterms:modified>
  <cp:revision>141</cp:revision>
  <dc:subject/>
  <dc:title>Slide 1</dc:title>
</cp:coreProperties>
</file>