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0.png" ContentType="image/png"/>
  <Override PartName="/ppt/media/image26.jpeg" ContentType="image/jpeg"/>
  <Override PartName="/ppt/media/image44.png" ContentType="image/png"/>
  <Override PartName="/ppt/media/image13.jpeg" ContentType="image/jpeg"/>
  <Override PartName="/ppt/media/image56.png" ContentType="image/png"/>
  <Override PartName="/ppt/media/image40.jpeg" ContentType="image/jpeg"/>
  <Override PartName="/ppt/media/image23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6.jpeg" ContentType="image/jpeg"/>
  <Override PartName="/ppt/media/image31.png" ContentType="image/png"/>
  <Override PartName="/ppt/media/image1.png" ContentType="image/png"/>
  <Override PartName="/ppt/media/image29.png" ContentType="image/png"/>
  <Override PartName="/ppt/media/image17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11.png" ContentType="image/png"/>
  <Override PartName="/ppt/media/image48.png" ContentType="image/png"/>
  <Override PartName="/ppt/media/image33.jpeg" ContentType="image/jpeg"/>
  <Override PartName="/ppt/media/image36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783-18D1-46B1-8D1C-615EAB9E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EE9-F061-4AAB-9756-0C616EA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14F37-8693-426D-9D9C-E71C50A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DBF2A-09D0-4717-8074-9DC6424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9C065-F354-4986-A81F-C49F69EC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0D653-021B-47CA-A1FA-F1FC9D2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EA51E-D2DA-45DC-A6BB-88C2260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76BC6-0577-4796-B64D-B84FB98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40D0F-B5F2-4CD9-850D-7292483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254B6-7C37-474B-89B2-44BE1787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D853-A54C-455C-959A-AE577B34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5D33C-F296-4A36-8DD8-0703A894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5BF-FCB6-4911-A1F2-61014FEB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3E037-3446-4F31-8423-0932033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C023C-DDF0-48F9-8325-5791DB4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C7C44-0BA8-48AE-BE1E-D3C93FC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5A1F-E482-47FB-8E37-18DE26FB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86393-9AE6-42FE-BB91-4702408F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3E54B-3D36-4851-BC14-F9A6C93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AF61-70BF-44E6-A118-4F7171D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47F2-A90C-4D95-9A20-D46D778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C5E06-72EB-4284-BED1-4E509B9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8AA73-1B62-4EBF-84E6-1FB79970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816-F244-42A0-A78E-7640E84E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5D906-BCD6-4053-99A4-C03DA5C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D438C-0C73-49FB-9FE1-5AE30F90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599CB-634C-4ED1-BD0C-A818A59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6575F-1754-44FE-8C3E-2A81AAB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58FF5-C11A-4153-A149-802425B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54B83-AB4E-40B5-8736-5A697CE2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C015-8CFA-457B-A6B4-44BDFDB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C3435-C1D0-4B40-835C-60FB7FC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BD57-0111-45CB-AC9F-11F54BC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9A241-CB9B-4F23-AEE4-E2A38CB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C13-53F4-4ECF-AE14-1AE1C4D3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9DF3D-F570-47AF-A407-D6E9C3DD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5C91-2BDB-4240-8E95-6B5BAA2F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21C43-57A6-4B9B-B2AE-34070C39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7955C-D834-4DEC-8EA2-D0A3E8C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1F70-93FD-46F4-AB0D-E430E88B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DC997-E7F0-4742-BC58-626D760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FCB1A-90C7-444C-B6F8-25EAAE87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25245-BE9F-4DB8-899F-200AA8E7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A8C2-6558-48F3-974F-FCA3E86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F2FDD-6C0F-4A01-A15D-0D9705C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4B62-79DC-47AE-8B17-66F0312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BD680-FC4C-4D14-989A-DD661BA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49F2-9A3A-4F6B-912C-DD9A071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BE913-4B5D-493B-A4AB-FEE75CB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327E9-F038-44B5-8CFA-97F2D4C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7E307-1EDD-42D9-B8EA-3D29637F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64679-F268-4376-A36D-53DD40DA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8EA50-E723-4A99-A739-57525A9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CCA2A-B6E7-4851-B010-CD6CBE3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1F61B-96C5-426D-BB42-97C419C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E771F-8423-492D-AA91-1F6C9C2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B3B6-97CE-402F-9290-444B84E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13C7F-3C7E-4D7F-8328-4A9E9214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03412-3B8D-4A93-8B8B-0229C23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01566-0FE9-454A-AA58-D77B49F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2D8F0-04CC-4A3D-8397-DD58FFE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D9188-9A15-455E-B1B7-B23B5F84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1FBFB-043D-47BA-B33B-DE99FB5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870F0-F4BF-4110-9684-DC069AF7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2910F-ABC0-454F-93F3-C8E465C6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B2375-CD5B-4292-8E63-6B77C4E6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583F9-D810-4D47-A262-BAACDD0C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8F6D-4A58-4082-8E36-FEBCC640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39939-2C8E-4E0B-9EA3-C325AB9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048F4-0F54-4919-B75E-631C312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454AE-D990-4F25-B689-3581770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4C3D7-60AA-4588-AD73-A74E4F0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CFE2E-21A2-49EB-8F62-640E5EF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4B79C-E3D8-4586-9CA4-2F8C206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73A87-3884-49B0-BE22-9A062DC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F7127-3B45-4127-BE6D-9A5A71B3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D757C-7446-46DF-94CE-29705026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5EBA-A9F7-4518-B151-D3A454C9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B02F-9925-4EE0-8745-5614518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3610-5164-4970-8A6F-D00B7ED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DE8-5232-4EA4-A24C-8BF5E467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9A25-79BC-4449-8853-8DEFBC3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9FF6-2DA4-4635-ABA6-2881615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5105-1313-4E70-89FC-9979D9F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BF5-2F80-47B5-BB7F-F8350EDC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4BEA-35C4-4609-8CAB-03190818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D3F3-A92E-4A5E-8E44-0AC583BB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4523-AD64-41A9-82D6-8BFD4C6B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F69D-B97A-4B0F-8367-B5FBC3F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92C8-526D-47DD-8F62-9FC5DDE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4A01-8805-4B85-BEA7-91DC580A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826-359E-499F-B008-3369094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AC0B-05AB-480C-8C31-68B664A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E995-9963-45E6-9A3A-48D1435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235F-0D00-4928-AFF8-ED32BF5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E32B-B500-4588-94FA-E8E7DA3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0EBA-D3DC-47A7-8674-50C503C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2CD4-FE31-4A45-9E31-1E1D11B7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3F59-728E-483B-A642-2E218D42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F4DC-EE22-49BA-B3B8-7B78E013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1A56-AC53-4A20-80AD-184938F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FE68-7D65-4B6C-8B78-2486B7B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2B2-263D-4C3A-9614-52D9033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2424-91C9-4982-B825-779C632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97CE-1CE3-4C51-993E-DFAB4158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8140-AFFC-4F40-8F3B-1CF47A4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CACD-D74A-469C-8D10-F85371E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8A90-392A-4A34-9951-02CEF70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6C7E-2ADB-45E8-A54E-6BCC997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D3BE-98A6-4BF2-B906-E8BF871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037A-C95C-49C9-940C-AB59F74F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4CBE-36BE-40D4-9B11-8410AF29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E6F8-16B9-4D7A-A513-7F7D44CA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F75-685B-4BF7-B60E-89F470BC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E045-5D13-4CB4-9548-F1C519B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40FB-ACD1-4663-8337-2D36D808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E306-23FC-4A2B-A0CC-DB144443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0932-0C42-44C4-8DFF-1F562F38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66BC-6C5F-48DA-8E42-FEBEFE9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0025-B60F-44DA-AEA8-2A7DF8A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9753-A351-4AA8-AD6D-60969B5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82DD-1600-43E0-97AE-E47D5DE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6343-DCAB-483B-9602-B88CE0A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CD4A-BA79-4B12-958E-0AA127C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B43-3FEF-4E0A-8AB2-5AE1F0B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3A6D-78FE-4993-8344-6367A760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15E2-D7FC-48EE-BFCE-98283C1B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B772-7D7F-4446-8480-6770C46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7DD9-D8E9-4446-9538-3F28FB5C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C82A-A743-463B-8CB5-C75D6D3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8A94-F8F7-480C-8B3B-A924B56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805C-4746-4CD2-B5E6-DA6E3B8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62DD-EF77-4148-9E33-145AC47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5583-9186-4AC5-B213-840B470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0178-5B58-4A82-BED3-DC9B820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BB7-145E-4DC3-B7D9-231516C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F443-4531-4F7B-9E63-1F5B489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E798-36CF-432F-AB96-927B4D36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94E1-41EB-4D13-9A58-30FB8AC8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7397-35A0-45F5-9CD6-6B6BB254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A41A-CCB2-44BE-8132-B5DB393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3028-B465-4C2C-9513-A3A5C85F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E031-8400-4950-9D14-9203462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98BA-3524-4919-9FD7-1F022C97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3F55-53AE-4448-BB4A-84E2E5B7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FFB9-1BFD-43E1-99D7-EA691B1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8F1-B1A8-4CF0-B11F-D874468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BCEF-11F3-4A0F-B662-AC512DD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FCCB8-1F31-4A10-86E6-BCF900B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9456-4873-4059-BE53-9E05BE7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1CE0-9A9D-4FAB-82BF-0059CB6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7F23-91C6-4CB5-BBB1-651A41E5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091C-1E5C-4994-831D-3C3D834A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3430-27E3-4B11-8FE5-246DD677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F0420-E9B8-442B-A997-1C6B5F8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2871-0C69-42AB-B11D-860A3FC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2149-176A-42D7-903B-89032A9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2A7-DD8F-4CA7-85F4-B68F003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C2D6-3384-476E-82A9-AF66B47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A6CA7-95F7-4DA9-83C9-B1BDC40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DFCB-74E7-4FEA-B9F1-BF649E7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2AFB-624F-44C1-AA78-2ABA931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4E51-15A5-4CE2-A684-55AC254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A10EE-7CA9-4C1C-A77A-5EEF616C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5B33-3268-4475-A7FE-CE3ACA07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B43E5-DB2A-4905-A9B3-A4E3F5F4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83C0-0ACF-4A75-8E62-FE1D1F2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A9E91-0B4F-499A-94A9-FE2BA59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 - Kristen's Cookies/CA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381-A69F-444F-9DF6-486905294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066680" y="1219320"/>
            <a:ext cx="7772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081-7A8B-431F-8A37-0DEC1283F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85F6-3AD8-499B-95C4-9A83322679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1A47-1F59-4352-898A-1DE7E3A77E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F8B-4482-47EF-B363-E6DAA55F0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3BD9-6846-4302-9352-F6DC299D7D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33D6-1F03-4714-93A7-CB65AA912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- Kristen's Cookies/CA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E36-3A5B-41FA-ABC8-7BE603734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d80000"/>
              </a:gs>
              <a:gs pos="50000">
                <a:srgbClr val="ff3030"/>
              </a:gs>
              <a:gs pos="100000">
                <a:srgbClr val="d800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2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9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5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7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F6E-CCCB-4C7F-A96D-C28FA560D1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746-D4AD-4E94-9582-A31F0287D9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50000"/>
              </a:gs>
              <a:gs pos="100000">
                <a:srgbClr val="ff7171"/>
              </a:gs>
            </a:gsLst>
            <a:lin ang="16200000"/>
          </a:gradFill>
          <a:ln cap="rnd" w="3240">
            <a:solidFill>
              <a:srgbClr val="bc000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548-590A-4979-9301-B09C049E57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9EEA-5F00-42CB-93BF-8B1E54541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6EA9-2B71-43E1-9ED1-1636630D47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91B-C363-4CAD-BD86-62CCE33AB8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shani Mukherjee, Kim Toomer, David Umbr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85800" y="7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79" name="TextBox 4"/>
          <p:cNvSpPr/>
          <p:nvPr/>
        </p:nvSpPr>
        <p:spPr>
          <a:xfrm>
            <a:off x="1409760" y="5678640"/>
            <a:ext cx="6324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w we know why Stern always orders from 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309600" y="1600200"/>
            <a:ext cx="4719600" cy="2560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8037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" descr=""/>
          <p:cNvPicPr/>
          <p:nvPr/>
        </p:nvPicPr>
        <p:blipFill>
          <a:blip r:embed="rId2"/>
          <a:srcRect l="0" t="20896" r="5727" b="16427"/>
          <a:stretch/>
        </p:blipFill>
        <p:spPr>
          <a:xfrm>
            <a:off x="168120" y="1528920"/>
            <a:ext cx="8807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5048280" cy="5121000"/>
          </a:xfrm>
          <a:prstGeom prst="rect">
            <a:avLst/>
          </a:prstGeom>
          <a:ln w="0">
            <a:noFill/>
          </a:ln>
        </p:spPr>
      </p:pic>
      <p:sp>
        <p:nvSpPr>
          <p:cNvPr id="686" name="TextBox 4"/>
          <p:cNvSpPr/>
          <p:nvPr/>
        </p:nvSpPr>
        <p:spPr>
          <a:xfrm>
            <a:off x="3809880" y="1295280"/>
            <a:ext cx="51818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European food, Dave does NOT want Italian OR Pizza, Kim wants Healt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m has another meeting to get to so time is the critical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ight Time 75%, split Price and Rating evenly (12.5% 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s: Healthy = 1, Pizza = 0, Italian = 0, and European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Solver to pick find a suggested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763880" cy="1523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"/>
          <p:cNvPicPr/>
          <p:nvPr/>
        </p:nvPicPr>
        <p:blipFill>
          <a:blip r:embed="rId3"/>
          <a:stretch/>
        </p:blipFill>
        <p:spPr>
          <a:xfrm>
            <a:off x="1219320" y="2743200"/>
            <a:ext cx="3276360" cy="3932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4"/>
          <a:stretch/>
        </p:blipFill>
        <p:spPr>
          <a:xfrm>
            <a:off x="5486400" y="16002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4"/>
          <p:cNvSpPr/>
          <p:nvPr/>
        </p:nvSpPr>
        <p:spPr>
          <a:xfrm>
            <a:off x="457200" y="3581280"/>
            <a:ext cx="79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Pizza and we want to get a student discou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how much Price, Ratings, and Time doesn’t matter as much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Price and Rating and Time weights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Normally Distributed Assumptions: ∑ Assumptions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5046840" y="838080"/>
            <a:ext cx="3792240" cy="25480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88620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477280" cy="37908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6"/>
          <p:cNvSpPr/>
          <p:nvPr/>
        </p:nvSpPr>
        <p:spPr>
          <a:xfrm>
            <a:off x="457200" y="4876920"/>
            <a:ext cx="79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Solver after Crystal Ball picks the weigh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http://www.merinews.com/upload/thumbimage/1227942721302_pizza%20chain_t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99" name="Rectangle 2" descr=""/>
          <p:cNvPicPr/>
          <p:nvPr/>
        </p:nvPicPr>
        <p:blipFill>
          <a:blip r:embed="rId2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http://www.econedlink.org/lessons/images_lessons/384_pizza1.jpg"/>
          <p:cNvPicPr/>
          <p:nvPr/>
        </p:nvPicPr>
        <p:blipFill>
          <a:blip r:embed="rId3"/>
          <a:stretch/>
        </p:blipFill>
        <p:spPr>
          <a:xfrm>
            <a:off x="4724280" y="1295280"/>
            <a:ext cx="419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4"/>
          <p:cNvSpPr/>
          <p:nvPr/>
        </p:nvSpPr>
        <p:spPr>
          <a:xfrm>
            <a:off x="485640" y="4687920"/>
            <a:ext cx="79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Still Wants Pizza, but we don’t care about getting a studen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3" descr=""/>
          <p:cNvPicPr/>
          <p:nvPr/>
        </p:nvPicPr>
        <p:blipFill>
          <a:blip r:embed="rId2"/>
          <a:stretch/>
        </p:blipFill>
        <p:spPr>
          <a:xfrm>
            <a:off x="666720" y="838080"/>
            <a:ext cx="78105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717040" cy="9144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http://farm5.static.flickr.com/4103/5059820037_36193442b0.jpg"/>
          <p:cNvPicPr/>
          <p:nvPr/>
        </p:nvPicPr>
        <p:blipFill>
          <a:blip r:embed="rId2"/>
          <a:stretch/>
        </p:blipFill>
        <p:spPr>
          <a:xfrm>
            <a:off x="914400" y="106668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http://www.romespizza.com/images/cartoon_pizza.jpg"/>
          <p:cNvPicPr/>
          <p:nvPr/>
        </p:nvPicPr>
        <p:blipFill>
          <a:blip r:embed="rId3"/>
          <a:stretch/>
        </p:blipFill>
        <p:spPr>
          <a:xfrm>
            <a:off x="4648320" y="1295280"/>
            <a:ext cx="3619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Rectangle 2" descr=""/>
          <p:cNvPicPr/>
          <p:nvPr/>
        </p:nvPicPr>
        <p:blipFill>
          <a:blip r:embed="rId1"/>
          <a:stretch/>
        </p:blipFill>
        <p:spPr>
          <a:xfrm>
            <a:off x="-158760" y="-23760"/>
            <a:ext cx="9309240" cy="871560"/>
          </a:xfrm>
          <a:prstGeom prst="rect">
            <a:avLst/>
          </a:prstGeom>
          <a:ln w="0">
            <a:noFill/>
          </a:ln>
        </p:spPr>
      </p:pic>
      <p:sp>
        <p:nvSpPr>
          <p:cNvPr id="708" name="TextBox 4"/>
          <p:cNvSpPr/>
          <p:nvPr/>
        </p:nvSpPr>
        <p:spPr>
          <a:xfrm>
            <a:off x="457200" y="1143000"/>
            <a:ext cx="797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 preference on Price, Ratings, and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 preference on Food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e won some money playing the nickel slots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City…so who cares if we have a student discount?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Price and Rating and Time weights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as Normally Distributed Assump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∑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ptions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rystal Ball to help us select Food Type and Student Discount Neces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these factors as Uniformly Distributed Assum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up Crystal Ball so that it selects 1 food category for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119" descr=""/>
          <p:cNvPicPr/>
          <p:nvPr/>
        </p:nvPicPr>
        <p:blipFill>
          <a:blip r:embed="rId2"/>
          <a:stretch/>
        </p:blipFill>
        <p:spPr>
          <a:xfrm>
            <a:off x="6858000" y="914400"/>
            <a:ext cx="1800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lution Set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se Case Analysis – Manual Sel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dvanced Analysis – Crystal Ba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5080" indent="-60948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tial Manual Selections / Partial Crystal Ball Sele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5080" indent="-60948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ll Crystal Ball Sele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s and Opport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12"/>
          <p:cNvSpPr/>
          <p:nvPr/>
        </p:nvSpPr>
        <p:spPr>
          <a:xfrm>
            <a:off x="76320" y="-952560"/>
            <a:ext cx="22860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14"/>
          <p:cNvSpPr/>
          <p:nvPr/>
        </p:nvSpPr>
        <p:spPr>
          <a:xfrm>
            <a:off x="76320" y="-693720"/>
            <a:ext cx="165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76320" y="-693720"/>
            <a:ext cx="165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Rectangle 2" descr=""/>
          <p:cNvPicPr/>
          <p:nvPr/>
        </p:nvPicPr>
        <p:blipFill>
          <a:blip r:embed="rId1"/>
          <a:stretch/>
        </p:blipFill>
        <p:spPr>
          <a:xfrm>
            <a:off x="-158760" y="-23760"/>
            <a:ext cx="9309240" cy="8715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662200" cy="1828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"/>
          <p:cNvPicPr/>
          <p:nvPr/>
        </p:nvPicPr>
        <p:blipFill>
          <a:blip r:embed="rId3"/>
          <a:stretch/>
        </p:blipFill>
        <p:spPr>
          <a:xfrm>
            <a:off x="3200400" y="294156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"/>
          <p:cNvPicPr/>
          <p:nvPr/>
        </p:nvPicPr>
        <p:blipFill>
          <a:blip r:embed="rId4"/>
          <a:stretch/>
        </p:blipFill>
        <p:spPr>
          <a:xfrm>
            <a:off x="6095880" y="4684680"/>
            <a:ext cx="26672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15" name="TextBox 4"/>
          <p:cNvSpPr/>
          <p:nvPr/>
        </p:nvSpPr>
        <p:spPr>
          <a:xfrm>
            <a:off x="5334120" y="22860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Solver Constraints to Ensure that only 1 Restaurant is Chosen in the  Food Category that Crystal Ball has Se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Solver to use the Student Discount Flag that Crystal Ball has se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476280" y="1276200"/>
            <a:ext cx="3943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723520" cy="9144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"/>
          <p:cNvPicPr/>
          <p:nvPr/>
        </p:nvPicPr>
        <p:blipFill>
          <a:blip r:embed="rId2"/>
          <a:stretch/>
        </p:blipFill>
        <p:spPr>
          <a:xfrm>
            <a:off x="685800" y="781200"/>
            <a:ext cx="8381880" cy="5184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6711120" y="6172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winner 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2"/>
          <p:cNvSpPr/>
          <p:nvPr/>
        </p:nvSpPr>
        <p:spPr>
          <a:xfrm>
            <a:off x="76320" y="-731880"/>
            <a:ext cx="1523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http://profile.ak.fbcdn.net/hprofile-ak-snc4/41798_97952901582_6390045_n.jpg"/>
          <p:cNvPicPr/>
          <p:nvPr/>
        </p:nvPicPr>
        <p:blipFill>
          <a:blip r:embed="rId2"/>
          <a:stretch/>
        </p:blipFill>
        <p:spPr>
          <a:xfrm>
            <a:off x="3276720" y="2133720"/>
            <a:ext cx="2819160" cy="2847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http://akueats.com/_library/images/miyabi-sushi.jpg"/>
          <p:cNvPicPr/>
          <p:nvPr/>
        </p:nvPicPr>
        <p:blipFill>
          <a:blip r:embed="rId3"/>
          <a:stretch/>
        </p:blipFill>
        <p:spPr>
          <a:xfrm>
            <a:off x="228600" y="9144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http://4.bp.blogspot.com/_vKaXM5lYSAY/SeT6uKkZgpI/AAAAAAAAElY/0tlbne0yrw4/s320/Miyabi%2BSushi%2B-%2BMaguro%2BTuna%2B(041009).JPG"/>
          <p:cNvPicPr/>
          <p:nvPr/>
        </p:nvPicPr>
        <p:blipFill>
          <a:blip r:embed="rId4"/>
          <a:stretch/>
        </p:blipFill>
        <p:spPr>
          <a:xfrm>
            <a:off x="6629400" y="3657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726" name="TextBox 4"/>
          <p:cNvSpPr/>
          <p:nvPr/>
        </p:nvSpPr>
        <p:spPr>
          <a:xfrm>
            <a:off x="561960" y="762120"/>
            <a:ext cx="797256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uses data extracted on a Sunday afternoon. Data is subject to change based on day of week and time of day (i.e., which restaurants deliver on a specific day and how long is the average wait tim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orporate days of week/time of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re freedom you give to the model to make your decisions, the more likely you are to get a place you don’t know/lik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Model to take out restaurants you definitely DO NOT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s of payment not a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lude cash vs. credit card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accounts for delivery restaurants on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Data to include options for food pick-up restaurants, in addition to 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has Crystal Ball selecting 1 Food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to pick multiple food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returns 1 restaurant ch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to choose multiple restaurants by rank (could utilize Crystal Ball forecasting tool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http://www.paceywilliams.com/Raising_Hand.gif"/>
          <p:cNvPicPr/>
          <p:nvPr/>
        </p:nvPicPr>
        <p:blipFill>
          <a:blip r:embed="rId2"/>
          <a:stretch/>
        </p:blipFill>
        <p:spPr>
          <a:xfrm>
            <a:off x="2743200" y="990720"/>
            <a:ext cx="32767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Title 1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57200" y="1480680"/>
            <a:ext cx="457200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 models homework takes a substantial amount of 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’re often putting the “final touches” on the homework on Sunday…and we’re HUNGR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52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7"/>
          <p:cNvGrpSpPr/>
          <p:nvPr/>
        </p:nvGrpSpPr>
        <p:grpSpPr>
          <a:xfrm>
            <a:off x="3048120" y="3657600"/>
            <a:ext cx="3656880" cy="2209680"/>
            <a:chOff x="3048120" y="3657600"/>
            <a:chExt cx="3656880" cy="2209680"/>
          </a:xfrm>
        </p:grpSpPr>
        <p:pic>
          <p:nvPicPr>
            <p:cNvPr id="653" name="Picture 5" descr=""/>
            <p:cNvPicPr/>
            <p:nvPr/>
          </p:nvPicPr>
          <p:blipFill>
            <a:blip r:embed="rId1"/>
            <a:stretch/>
          </p:blipFill>
          <p:spPr>
            <a:xfrm>
              <a:off x="3071520" y="3657600"/>
              <a:ext cx="36104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Isosceles Triangle 6"/>
            <p:cNvSpPr/>
            <p:nvPr/>
          </p:nvSpPr>
          <p:spPr>
            <a:xfrm rot="10800000">
              <a:off x="3048120" y="3657600"/>
              <a:ext cx="2114640" cy="104112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Isosceles Triangle 10"/>
            <p:cNvSpPr/>
            <p:nvPr/>
          </p:nvSpPr>
          <p:spPr>
            <a:xfrm flipH="1" rot="10800000">
              <a:off x="5504760" y="3657600"/>
              <a:ext cx="1199880" cy="104112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Isosceles Triangle 11"/>
            <p:cNvSpPr/>
            <p:nvPr/>
          </p:nvSpPr>
          <p:spPr>
            <a:xfrm flipH="1" rot="10800000">
              <a:off x="3790800" y="3734640"/>
              <a:ext cx="1225440" cy="127296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Title 1" descr=""/>
          <p:cNvPicPr/>
          <p:nvPr/>
        </p:nvPicPr>
        <p:blipFill>
          <a:blip r:embed="rId2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58" name="Content Placeholder 2"/>
          <p:cNvSpPr/>
          <p:nvPr/>
        </p:nvSpPr>
        <p:spPr>
          <a:xfrm>
            <a:off x="457200" y="1066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often “enjoyed ourselves” too much on Saturday and we’re paying for it on Su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to get 3 people to agree on what food to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e lazy and in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ve particular cravings or aversions to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Content Placeholder 2"/>
          <p:cNvSpPr/>
          <p:nvPr/>
        </p:nvSpPr>
        <p:spPr>
          <a:xfrm>
            <a:off x="5943600" y="34290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sn’t Umbro photogenic?!? Ladies: he’s singl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3" descr="C:\Users\Ishani Mukherjee\Desktop\photo.jpg"/>
          <p:cNvPicPr/>
          <p:nvPr/>
        </p:nvPicPr>
        <p:blipFill>
          <a:blip r:embed="rId3"/>
          <a:stretch/>
        </p:blipFill>
        <p:spPr>
          <a:xfrm>
            <a:off x="1295280" y="3429000"/>
            <a:ext cx="1295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Title 1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5443560" cy="330696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pic>
        <p:nvPicPr>
          <p:cNvPr id="663" name="Picture 2" descr=""/>
          <p:cNvPicPr/>
          <p:nvPr/>
        </p:nvPicPr>
        <p:blipFill>
          <a:blip r:embed="rId3"/>
          <a:stretch/>
        </p:blipFill>
        <p:spPr>
          <a:xfrm>
            <a:off x="2286000" y="3763800"/>
            <a:ext cx="6708600" cy="301788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sp>
        <p:nvSpPr>
          <p:cNvPr id="664" name=""/>
          <p:cNvSpPr txBox="1"/>
          <p:nvPr/>
        </p:nvSpPr>
        <p:spPr>
          <a:xfrm>
            <a:off x="2636640" y="3505320"/>
            <a:ext cx="4601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+ Our Mod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5" name="Picture 5" descr="splash-seamlessweb.gif"/>
          <p:cNvPicPr/>
          <p:nvPr/>
        </p:nvPicPr>
        <p:blipFill>
          <a:blip r:embed="rId4"/>
          <a:stretch/>
        </p:blipFill>
        <p:spPr>
          <a:xfrm>
            <a:off x="2438280" y="3505320"/>
            <a:ext cx="27432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lways want food delivered…because we’re laz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mlessweb is our new best fri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the criteria available on Seamles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ice - low price is prefer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ating - high rating is prefer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livery Time - short delivery ti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ood Category - used as constrain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We weight the criteria differently depending on how we’re feeling that wee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7" name="Title 2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7200" y="106632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 44 West 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Street as add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e always want food delivered because we’re lazy and hung-ov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taurant must be open to order from i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rder at 1:00p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l 3 of us are hungry each week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ways meet the minimum order since there are 3 of u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d not include any restaurants with missing dat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enough reviews to get a star rat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Money rat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f multiple options of the same restaurant (multiple locations), picked the closest option to includ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id not include anything with a minimum over $50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laces that take campus cash have a student discount availab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9" name="Title 2" descr=""/>
          <p:cNvPicPr/>
          <p:nvPr/>
        </p:nvPicPr>
        <p:blipFill>
          <a:blip r:embed="rId1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"/>
          <p:cNvSpPr/>
          <p:nvPr/>
        </p:nvSpPr>
        <p:spPr>
          <a:xfrm>
            <a:off x="311040" y="41911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hani Wants Pizza and we want to get a student discou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re about the criteria (Price, Ratings, and Time) 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minimize the “Happiness Fact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3886200" y="6019920"/>
            <a:ext cx="5029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“Happiness Factor” is like a golf score – the lower, the bett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1" descr=""/>
          <p:cNvPicPr/>
          <p:nvPr/>
        </p:nvPicPr>
        <p:blipFill>
          <a:blip r:embed="rId2"/>
          <a:stretch/>
        </p:blipFill>
        <p:spPr>
          <a:xfrm>
            <a:off x="5391000" y="3886200"/>
            <a:ext cx="3448080" cy="19699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"/>
          <p:cNvPicPr/>
          <p:nvPr/>
        </p:nvPicPr>
        <p:blipFill>
          <a:blip r:embed="rId3"/>
          <a:stretch/>
        </p:blipFill>
        <p:spPr>
          <a:xfrm>
            <a:off x="195120" y="762120"/>
            <a:ext cx="8753760" cy="310824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Content Placeholder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5956200"/>
          </a:xfrm>
          <a:prstGeom prst="rect">
            <a:avLst/>
          </a:prstGeom>
          <a:ln w="0">
            <a:noFill/>
          </a:ln>
        </p:spPr>
      </p:pic>
      <p:pic>
        <p:nvPicPr>
          <p:cNvPr id="676" name="Title 2" descr=""/>
          <p:cNvPicPr/>
          <p:nvPr/>
        </p:nvPicPr>
        <p:blipFill>
          <a:blip r:embed="rId2"/>
          <a:stretch/>
        </p:blipFill>
        <p:spPr>
          <a:xfrm>
            <a:off x="-189000" y="-60480"/>
            <a:ext cx="8497800" cy="908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4"/>
          <p:cNvSpPr/>
          <p:nvPr/>
        </p:nvSpPr>
        <p:spPr>
          <a:xfrm>
            <a:off x="809640" y="2565360"/>
            <a:ext cx="518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Variables – Restaurant choice is bin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11Z</dcterms:created>
  <dc:creator>Vishal Gaur</dc:creator>
  <dc:description/>
  <dc:language>en-US</dc:language>
  <cp:lastModifiedBy>Ishani Mukherjee</cp:lastModifiedBy>
  <dcterms:modified xsi:type="dcterms:W3CDTF">2011-05-04T12:51:59Z</dcterms:modified>
  <cp:revision>499</cp:revision>
  <dc:subject/>
  <dc:title>Kristen’s Cookies: Process Flow Chart</dc:title>
</cp:coreProperties>
</file>