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0.png" ContentType="image/png"/>
  <Override PartName="/ppt/media/image26.jpeg" ContentType="image/jpeg"/>
  <Override PartName="/ppt/media/image44.png" ContentType="image/png"/>
  <Override PartName="/ppt/media/image13.jpeg" ContentType="image/jpeg"/>
  <Override PartName="/ppt/media/image56.png" ContentType="image/png"/>
  <Override PartName="/ppt/media/image40.jpeg" ContentType="image/jpeg"/>
  <Override PartName="/ppt/media/image23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6.jpeg" ContentType="image/jpeg"/>
  <Override PartName="/ppt/media/image31.png" ContentType="image/png"/>
  <Override PartName="/ppt/media/image1.png" ContentType="image/png"/>
  <Override PartName="/ppt/media/image29.png" ContentType="image/png"/>
  <Override PartName="/ppt/media/image17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35.jpeg" ContentType="image/jpeg"/>
  <Override PartName="/ppt/media/image11.png" ContentType="image/png"/>
  <Override PartName="/ppt/media/image48.png" ContentType="image/png"/>
  <Override PartName="/ppt/media/image33.jpeg" ContentType="image/jpeg"/>
  <Override PartName="/ppt/media/image36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51.png" ContentType="image/png"/>
  <Override PartName="/ppt/media/image53.png" ContentType="image/png"/>
  <Override PartName="/ppt/media/image58.jpeg" ContentType="image/jpe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00B-8A9E-448C-A3B3-B2D3CF7A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EE0-A7AF-4622-8050-6ECAC89F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6B480-5939-4722-B8FF-BB8551D4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BD17B-B22A-483A-A4F9-C7AC8C37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A3993-8095-449D-9E74-FE5106E3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CCFE6-CCA9-4D8D-B540-CA0DB5E2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4D004-2224-4BE5-844C-00D099D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30ABF-986D-4D7E-9233-DDE7D0F8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1EF28-561C-43B5-8CFD-C3393667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0E1F1-1274-46EF-A8C6-8975CC25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4C9C6-3417-4356-A568-F8E3D455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86F5D-2387-4B0F-82F7-9C7B8D78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F75-A752-4921-9A33-C9D014F9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9D030-DA96-4843-AC79-D36EED77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46B94-46C2-43F3-865E-74820F9F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DD3FB-1442-4656-B609-67F422AD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2F662-B07C-4FA6-9A85-DBA8588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0C2CA-57BF-4586-A993-96FE7953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DBAB2-F28F-49A6-BD9B-F43727C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B967A-0AB8-4BEB-A659-A362228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D7F64-3B72-4F28-8D40-EED4FDF9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2FAE5-585D-4292-9680-ED419206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AC334-8BCF-4578-BCA7-A3F1BE9A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830-1CFB-43B3-BF5C-1687A42C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4BB10-7D6C-47A8-A232-099F119A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B90FE-2E74-442E-8214-ABD88BE9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0DC56-F2E0-434F-9A1B-251CCFB2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F395E-D134-4D41-B0F7-252A27AE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45832-A0AD-4C25-A4BA-2A098E2D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98D9B-F57B-4152-9F46-51948EDF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9236B-A423-4178-92F1-0C89AB07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9FE71-1033-4CBA-B18D-F7BBEFF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F79C9-95DC-438A-937F-B1A2F6A7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9DD2E-0EB2-4E55-8A10-64CF2BF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2CD5-2106-4D03-A6D8-8986D5E4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7E95D-72F2-4262-8F65-433B91E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F0F7A-9AA4-4C0A-BE2C-567E27B0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445E2-C2FC-4155-BE66-BEEBC3C4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649BE-F106-4FBF-8694-E8C44634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7FC07-2ED6-4B32-8509-98612BD8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3520F-55AA-46E6-8A2A-B36F912C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A1879-7FDE-40BE-9FEE-940D666B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8E5A0-2B33-46BF-84F9-BD8C4359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970D2-E637-4B90-ADFC-B340CA4C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5B8AF-F8D9-421F-84B2-D72E6C0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4128-D52E-4907-8E7F-A3C2B5F6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D943E-3F58-45D5-964B-0ACD3E2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B2344-178E-469D-9C11-51B5077F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98A0F-F18A-43FD-A519-971E272E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A953B-BC1F-4F38-BD02-20C2440A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0A5A2-B00A-4BD1-9B8D-C821A658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74469-66F0-4AD8-A199-E3EF9EC7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360C5-4A93-4D99-9000-059E3E94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9E5D8-460F-4BEC-BF3F-6DF9483D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48E87-2BF3-49DA-A55D-B75769E3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8AA5A-9509-499A-98DD-E2755E3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2169-0EEC-42BD-8DC6-D7BBAF18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65792-C380-4F41-ADF6-48337B53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D82DF-4766-4707-A577-E1BA87AC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DED6C-7BCC-42B8-BA5D-E675BC6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464EB-5C5F-4180-8041-60C07F26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BD422-7801-48BE-93BA-9A935845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9741B-9B3F-475B-922E-DD8E5B3C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9D975-146C-4B18-B478-CB00AF25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E9143-75E3-42AB-9FCA-D3D48460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C6E53-CB7C-44F0-98E8-4A13EF75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ACFA6-CA06-4539-B0BC-118B1D96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AC39-A0DF-4639-BFDD-5B52F81F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54A2E-7B7C-40FB-88E3-289C9910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3D85E-4725-43D0-83B8-1C0180A8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39759-419E-4B67-8409-FE5E1E77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B88A7-3382-4E5E-B4C3-FFEF733A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AEFA7-5C5D-4C3E-A8BF-7DE7A6FD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9F7AF-B050-4AD7-864D-0584BEB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5E29C-FE7E-40FA-91D0-69104188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C33D5-EE42-41AC-80ED-7F57C5EE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DAAFC-BF73-494E-8740-E5976BC0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40BC-F1C2-47DC-A89B-667C2254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C841-C512-4D4E-99FF-97947DF6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CA99-8F6F-4095-A25F-2053A9F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835-0728-4E53-AFD8-D5E33AE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0C84-1C2D-46FC-8550-45959DB3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D9C0-A408-448C-8491-A7BB3D6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5833-4AA3-4798-AF88-D45F54C1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5E1C-FBD3-412B-B9A5-3FF4DA29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6D16-59A5-4092-AB4E-D051C4D0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DA8E-C045-42AE-A0A2-3D21B655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3AEA-C244-435F-A55C-5949390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9DD3-F1C4-4523-BF37-8024D3CB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C0DF-EAF1-4A11-96B3-80F159DA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9606-2A03-4FB1-A5CB-0DDF090A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890-FD9E-4D93-B68D-1A3F53F1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C0EF-471A-4FBA-88EF-ACD0642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0F46-4E56-4ED7-87CC-B7CFDEA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F8BE-4282-4AF6-A945-5259AAD5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0C42-540F-4802-8124-00A556DC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DDE2A-DBFE-48F3-A31C-D18104CA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8C35-B172-45EE-BAB9-5BA53903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31A0-EB92-41A9-8251-9CB17C55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F875-8216-41C8-ADB2-4BCCE6CF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C1C6-D291-4AEE-B65A-7048309A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8200-A8E9-4976-9BE8-D3852D2F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940-6EF4-4911-BF31-E02CEDA2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7614B-9D5F-4BD8-9E34-4766548C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F77DA-4F90-4C79-9751-2558FA16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5DED-CFC9-4A06-B1D4-A44C6574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F177-C699-404F-BF66-CB37C0B5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79D0-D98C-4F04-8E66-441BDB0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7334-78AB-46D0-983E-AA17A37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C36F-D11B-4ADE-930F-F40139E0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AB41-3A14-41EF-B7F5-EF214013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A087-EE6B-47AC-A565-80CA813F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FFA01-A903-48E8-A593-5997599B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0DB-BA96-42E3-9F6A-DCCE6770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C01FB-1AAC-4D57-9465-11106F3E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302B9-44CD-4518-8A06-7186093C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55EFF-7EFB-41F9-889A-58A7193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2AB93-3F42-4BB8-9A04-ABCE5721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E285E-3C39-4B98-8DD7-D6BEF792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46B97-16E5-4399-8B97-640FBA18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7DEC-D0E7-4720-A365-AE593F51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A990D-A747-4053-B5D1-1477BFD0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F45A9-3B3D-4106-B9BE-CCFA8CAE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C0472-CC35-4A70-B532-2486E1DC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334-3EEF-461F-9AEC-A1DF1732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E6870-2F88-43EB-A5BC-E9CC3F67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2C472-8F61-46A0-ABB7-CDD7B4A4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EFB4-BC33-461F-95B2-939AF04F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A5B9-6F75-46CE-90FF-DE3F278E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5719-F090-422F-9BE0-CD58F80B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4A6E4-721F-4FC7-BC00-75638B81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29AFC-1C49-40C0-ABDD-18647D6D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624E8-3DB8-448B-A945-70557BF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D85FE-D807-4B04-9178-1020785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3C11-FB54-47F6-B7CE-C17F547A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450-CB40-489E-BA85-4274B89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B2A4-42DA-4982-89E0-2F016A89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7347D-BF2F-4FC0-B5EE-3A07758D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1EE9B-3669-4216-A8C0-7EBE35E2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A2492-3761-41EF-9137-47462971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3DED-2178-4540-9775-206883F4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7C75-A5E0-43F7-802A-8AD1B7D9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C2B61-02F8-4193-A61E-F90EF40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FD6A8-F80F-4E0B-B9FF-58409797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ABBC6-94CA-4135-B3C0-B4ED3CA5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4CAF2-AFDE-4966-B3B6-C70870FC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387-DA72-4510-91DF-5B66A15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C86D4-C01A-494B-927C-F986228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F5886-442F-4D1A-ACCD-00967EE0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04ED-C7E9-4A09-91E4-13AEF29E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7AFC-9B2B-488A-BEC8-9D238A21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47FE-03D8-4B03-9C29-43883A43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72AD4-A863-4B87-B15B-36E5A181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1D8F-EAB4-46CC-B58D-DEDF0C87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14CD9-6E94-4AD3-8F16-3FDA05C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86E6C-8426-472A-B9B0-50D6C0D4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A4F82-1365-4251-B148-F0DAF8F0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EE7-33E0-4028-82A5-006734E3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8FFD3-A186-426D-91FD-CA67110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0EA0A-0A37-49C6-9E19-BB30A07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CECF-64B1-45E0-BB5D-19CAF40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5F754-644C-4499-BF06-1C3A116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8B23E-088C-418C-979C-E80A934F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37883-D367-4E0F-A5D0-79604582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D80E-2D1B-4F26-9F72-DA78B493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DDBBB-3734-4048-8D8A-91F08319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A72DF-DB8B-4171-9B05-84C4D1EF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1D07D-88AD-4665-81C6-36CF0CEF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 - Kristen's Cookies/CA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C64A-61F4-4892-B4C6-4D0512EBF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066680" y="1219320"/>
            <a:ext cx="7772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54A5-B871-4B43-9363-0C33F47169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8448-C647-46B2-9CBD-2DAE98B49D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1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3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4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ff7171"/>
              </a:gs>
            </a:gsLst>
            <a:lin ang="16200000"/>
          </a:gradFill>
          <a:ln cap="rnd" w="3240">
            <a:solidFill>
              <a:srgbClr val="bc000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ff7171"/>
              </a:gs>
            </a:gsLst>
            <a:lin ang="16200000"/>
          </a:gradFill>
          <a:ln cap="rnd" w="3240">
            <a:solidFill>
              <a:srgbClr val="bc000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741-F578-4204-BF97-E34471C2CA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13C7-9945-47EE-9CD8-B81FFD90B3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9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9A4-0CEA-4D08-B848-D95B9244E9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C72-7867-4021-9765-FF810033F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- Kristen's Cookies/CA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CB8E-1E12-4761-AA52-5451A7536B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d80000"/>
              </a:gs>
              <a:gs pos="50000">
                <a:srgbClr val="ff3030"/>
              </a:gs>
              <a:gs pos="100000">
                <a:srgbClr val="d800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2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9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5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7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728C-C8EF-4655-9F66-7FAD3B953B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BE42-BA77-4046-9FE8-1EC22EE0BB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ff7171"/>
              </a:gs>
            </a:gsLst>
            <a:lin ang="16200000"/>
          </a:gradFill>
          <a:ln cap="rnd" w="3240">
            <a:solidFill>
              <a:srgbClr val="bc000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ff7171"/>
              </a:gs>
            </a:gsLst>
            <a:lin ang="16200000"/>
          </a:gradFill>
          <a:ln cap="rnd" w="3240">
            <a:solidFill>
              <a:srgbClr val="bc000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4E1-C348-4FA5-ACA6-7EAE23B359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C3D-AA61-4836-B41C-41612DF725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723-2AAF-4563-9B8C-4CC702F9BC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C631-EB5D-4ACF-A0B7-8F050BC7E2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29600" cy="18414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shani Mukherjee, Kim Toomer, David Umbr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Title 1"/>
          <p:cNvSpPr/>
          <p:nvPr/>
        </p:nvSpPr>
        <p:spPr>
          <a:xfrm>
            <a:off x="68580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679" name="TextBox 4"/>
          <p:cNvSpPr/>
          <p:nvPr/>
        </p:nvSpPr>
        <p:spPr>
          <a:xfrm>
            <a:off x="1409760" y="5678640"/>
            <a:ext cx="6324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w we know why Stern always orders from 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0" name="Picture 2" descr=""/>
          <p:cNvPicPr/>
          <p:nvPr/>
        </p:nvPicPr>
        <p:blipFill>
          <a:blip r:embed="rId2"/>
          <a:stretch/>
        </p:blipFill>
        <p:spPr>
          <a:xfrm>
            <a:off x="309600" y="1600200"/>
            <a:ext cx="4719600" cy="25606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8037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" descr=""/>
          <p:cNvPicPr/>
          <p:nvPr/>
        </p:nvPicPr>
        <p:blipFill>
          <a:blip r:embed="rId2"/>
          <a:srcRect l="0" t="20896" r="5727" b="16427"/>
          <a:stretch/>
        </p:blipFill>
        <p:spPr>
          <a:xfrm>
            <a:off x="168120" y="1528920"/>
            <a:ext cx="8807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5048280" cy="5121000"/>
          </a:xfrm>
          <a:prstGeom prst="rect">
            <a:avLst/>
          </a:prstGeom>
          <a:ln w="0">
            <a:noFill/>
          </a:ln>
        </p:spPr>
      </p:pic>
      <p:sp>
        <p:nvSpPr>
          <p:cNvPr id="686" name="TextBox 4"/>
          <p:cNvSpPr/>
          <p:nvPr/>
        </p:nvSpPr>
        <p:spPr>
          <a:xfrm>
            <a:off x="3809880" y="1295280"/>
            <a:ext cx="51818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hani wants European food, Dave does NOT want Italian OR Pizza, Kim wants Health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m has another meeting to get to so time is the critical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ight Time 75%, split Price and Rating evenly (12.5% 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aints: Healthy = 1, Pizza = 0, Italian = 0, and European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Solver to pick find a suggested restau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763880" cy="15238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" descr=""/>
          <p:cNvPicPr/>
          <p:nvPr/>
        </p:nvPicPr>
        <p:blipFill>
          <a:blip r:embed="rId3"/>
          <a:stretch/>
        </p:blipFill>
        <p:spPr>
          <a:xfrm>
            <a:off x="1219320" y="2743200"/>
            <a:ext cx="3276360" cy="3932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"/>
          <p:cNvPicPr/>
          <p:nvPr/>
        </p:nvPicPr>
        <p:blipFill>
          <a:blip r:embed="rId4"/>
          <a:stretch/>
        </p:blipFill>
        <p:spPr>
          <a:xfrm>
            <a:off x="5486400" y="16002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4"/>
          <p:cNvSpPr/>
          <p:nvPr/>
        </p:nvSpPr>
        <p:spPr>
          <a:xfrm>
            <a:off x="457200" y="3581280"/>
            <a:ext cx="79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hani Wants Pizza and we want to get a student discou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how much Price, Ratings, and Time doesn’t matter as much 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Crystal Ball to help us select Price and Rating and Time weights for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these factors Normally Distributed Assumptions: ∑ Assumptions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4" descr=""/>
          <p:cNvPicPr/>
          <p:nvPr/>
        </p:nvPicPr>
        <p:blipFill>
          <a:blip r:embed="rId2"/>
          <a:stretch/>
        </p:blipFill>
        <p:spPr>
          <a:xfrm>
            <a:off x="5046840" y="838080"/>
            <a:ext cx="3792240" cy="25480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88620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477280" cy="3790800"/>
          </a:xfrm>
          <a:prstGeom prst="rect">
            <a:avLst/>
          </a:prstGeom>
          <a:ln w="0">
            <a:noFill/>
          </a:ln>
        </p:spPr>
      </p:pic>
      <p:sp>
        <p:nvSpPr>
          <p:cNvPr id="697" name="TextBox 6"/>
          <p:cNvSpPr/>
          <p:nvPr/>
        </p:nvSpPr>
        <p:spPr>
          <a:xfrm>
            <a:off x="457200" y="4876920"/>
            <a:ext cx="79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Solver after Crystal Ball picks the weigh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winner is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http://www.merinews.com/upload/thumbimage/1227942721302_pizza%20chain_t.JPG"/>
          <p:cNvPicPr/>
          <p:nvPr/>
        </p:nvPicPr>
        <p:blipFill>
          <a:blip r:embed="rId1"/>
          <a:stretch/>
        </p:blipFill>
        <p:spPr>
          <a:xfrm>
            <a:off x="304920" y="12952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699" name="Rectangle 2" descr=""/>
          <p:cNvPicPr/>
          <p:nvPr/>
        </p:nvPicPr>
        <p:blipFill>
          <a:blip r:embed="rId2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http://www.econedlink.org/lessons/images_lessons/384_pizza1.jpg"/>
          <p:cNvPicPr/>
          <p:nvPr/>
        </p:nvPicPr>
        <p:blipFill>
          <a:blip r:embed="rId3"/>
          <a:stretch/>
        </p:blipFill>
        <p:spPr>
          <a:xfrm>
            <a:off x="4724280" y="1295280"/>
            <a:ext cx="419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702" name="TextBox 4"/>
          <p:cNvSpPr/>
          <p:nvPr/>
        </p:nvSpPr>
        <p:spPr>
          <a:xfrm>
            <a:off x="485640" y="4687920"/>
            <a:ext cx="79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hani Still Wants Pizza, but we don’t care about getting a studen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winner 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Picture 3" descr=""/>
          <p:cNvPicPr/>
          <p:nvPr/>
        </p:nvPicPr>
        <p:blipFill>
          <a:blip r:embed="rId2"/>
          <a:stretch/>
        </p:blipFill>
        <p:spPr>
          <a:xfrm>
            <a:off x="666720" y="838080"/>
            <a:ext cx="78105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717040" cy="9144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" descr="http://farm5.static.flickr.com/4103/5059820037_36193442b0.jpg"/>
          <p:cNvPicPr/>
          <p:nvPr/>
        </p:nvPicPr>
        <p:blipFill>
          <a:blip r:embed="rId2"/>
          <a:stretch/>
        </p:blipFill>
        <p:spPr>
          <a:xfrm>
            <a:off x="914400" y="106668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http://www.romespizza.com/images/cartoon_pizza.jpg"/>
          <p:cNvPicPr/>
          <p:nvPr/>
        </p:nvPicPr>
        <p:blipFill>
          <a:blip r:embed="rId3"/>
          <a:stretch/>
        </p:blipFill>
        <p:spPr>
          <a:xfrm>
            <a:off x="4648320" y="1295280"/>
            <a:ext cx="36194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Rectangle 2" descr=""/>
          <p:cNvPicPr/>
          <p:nvPr/>
        </p:nvPicPr>
        <p:blipFill>
          <a:blip r:embed="rId1"/>
          <a:stretch/>
        </p:blipFill>
        <p:spPr>
          <a:xfrm>
            <a:off x="-158760" y="-23760"/>
            <a:ext cx="9309240" cy="871560"/>
          </a:xfrm>
          <a:prstGeom prst="rect">
            <a:avLst/>
          </a:prstGeom>
          <a:ln w="0">
            <a:noFill/>
          </a:ln>
        </p:spPr>
      </p:pic>
      <p:sp>
        <p:nvSpPr>
          <p:cNvPr id="708" name="TextBox 4"/>
          <p:cNvSpPr/>
          <p:nvPr/>
        </p:nvSpPr>
        <p:spPr>
          <a:xfrm>
            <a:off x="457200" y="1143000"/>
            <a:ext cx="797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have no preference on Price, Ratings, and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have no preference on Food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e won some money playing the nickel slots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lantic City…so who cares if we have a student discount?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Crystal Ball to help us select Price and Rating and Time weights for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these factors as Normally Distributed Assump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∑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ptions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Crystal Ball to help us select Food Type and Student Discount Neces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these factors as Uniformly Distributed Assum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up Crystal Ball so that it selects 1 food category for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Picture 119" descr=""/>
          <p:cNvPicPr/>
          <p:nvPr/>
        </p:nvPicPr>
        <p:blipFill>
          <a:blip r:embed="rId2"/>
          <a:stretch/>
        </p:blipFill>
        <p:spPr>
          <a:xfrm>
            <a:off x="6858000" y="914400"/>
            <a:ext cx="1800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lution Setu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se Case Analysis – Manual Sel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dvanced Analysis – Crystal Ba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5080" indent="-60948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rtial Manual Selections / Partial Crystal Ball Sele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5080" indent="-60948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ull Crystal Ball Sele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sks and Opportun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12"/>
          <p:cNvSpPr/>
          <p:nvPr/>
        </p:nvSpPr>
        <p:spPr>
          <a:xfrm>
            <a:off x="76320" y="-952560"/>
            <a:ext cx="22860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14"/>
          <p:cNvSpPr/>
          <p:nvPr/>
        </p:nvSpPr>
        <p:spPr>
          <a:xfrm>
            <a:off x="76320" y="-693720"/>
            <a:ext cx="165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16"/>
          <p:cNvSpPr/>
          <p:nvPr/>
        </p:nvSpPr>
        <p:spPr>
          <a:xfrm>
            <a:off x="76320" y="-693720"/>
            <a:ext cx="165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Rectangle 2" descr=""/>
          <p:cNvPicPr/>
          <p:nvPr/>
        </p:nvPicPr>
        <p:blipFill>
          <a:blip r:embed="rId1"/>
          <a:stretch/>
        </p:blipFill>
        <p:spPr>
          <a:xfrm>
            <a:off x="-158760" y="-23760"/>
            <a:ext cx="9309240" cy="8715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662200" cy="1828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" descr=""/>
          <p:cNvPicPr/>
          <p:nvPr/>
        </p:nvPicPr>
        <p:blipFill>
          <a:blip r:embed="rId3"/>
          <a:stretch/>
        </p:blipFill>
        <p:spPr>
          <a:xfrm>
            <a:off x="3200400" y="294156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" descr=""/>
          <p:cNvPicPr/>
          <p:nvPr/>
        </p:nvPicPr>
        <p:blipFill>
          <a:blip r:embed="rId4"/>
          <a:stretch/>
        </p:blipFill>
        <p:spPr>
          <a:xfrm>
            <a:off x="6095880" y="4684680"/>
            <a:ext cx="26672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715" name="TextBox 4"/>
          <p:cNvSpPr/>
          <p:nvPr/>
        </p:nvSpPr>
        <p:spPr>
          <a:xfrm>
            <a:off x="5334120" y="2286000"/>
            <a:ext cx="3124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Solver Constraints to Ensure that only 1 Restaurant is Chosen in the  Food Category that Crystal Ball has Sel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Solver to use the Student Discount Flag that Crystal Ball has sel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2"/>
          <a:stretch/>
        </p:blipFill>
        <p:spPr>
          <a:xfrm>
            <a:off x="476280" y="1276200"/>
            <a:ext cx="3943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723520" cy="9144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" descr=""/>
          <p:cNvPicPr/>
          <p:nvPr/>
        </p:nvPicPr>
        <p:blipFill>
          <a:blip r:embed="rId2"/>
          <a:stretch/>
        </p:blipFill>
        <p:spPr>
          <a:xfrm>
            <a:off x="685800" y="781200"/>
            <a:ext cx="8381880" cy="51847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5"/>
          <p:cNvSpPr/>
          <p:nvPr/>
        </p:nvSpPr>
        <p:spPr>
          <a:xfrm>
            <a:off x="6711120" y="6172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winner 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2"/>
          <p:cNvSpPr/>
          <p:nvPr/>
        </p:nvSpPr>
        <p:spPr>
          <a:xfrm>
            <a:off x="76320" y="-731880"/>
            <a:ext cx="1523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http://profile.ak.fbcdn.net/hprofile-ak-snc4/41798_97952901582_6390045_n.jpg"/>
          <p:cNvPicPr/>
          <p:nvPr/>
        </p:nvPicPr>
        <p:blipFill>
          <a:blip r:embed="rId2"/>
          <a:stretch/>
        </p:blipFill>
        <p:spPr>
          <a:xfrm>
            <a:off x="3276720" y="2133720"/>
            <a:ext cx="2819160" cy="28479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" descr="http://akueats.com/_library/images/miyabi-sushi.jpg"/>
          <p:cNvPicPr/>
          <p:nvPr/>
        </p:nvPicPr>
        <p:blipFill>
          <a:blip r:embed="rId3"/>
          <a:stretch/>
        </p:blipFill>
        <p:spPr>
          <a:xfrm>
            <a:off x="228600" y="91440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http://4.bp.blogspot.com/_vKaXM5lYSAY/SeT6uKkZgpI/AAAAAAAAElY/0tlbne0yrw4/s320/Miyabi%2BSushi%2B-%2BMaguro%2BTuna%2B(041009).JPG"/>
          <p:cNvPicPr/>
          <p:nvPr/>
        </p:nvPicPr>
        <p:blipFill>
          <a:blip r:embed="rId4"/>
          <a:stretch/>
        </p:blipFill>
        <p:spPr>
          <a:xfrm>
            <a:off x="6629400" y="36576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726" name="TextBox 4"/>
          <p:cNvSpPr/>
          <p:nvPr/>
        </p:nvSpPr>
        <p:spPr>
          <a:xfrm>
            <a:off x="561960" y="762120"/>
            <a:ext cx="797256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uses data extracted on a Sunday afternoon. Data is subject to change based on day of week and time of day (i.e., which restaurants deliver on a specific day and how long is the average wait tim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Data to incorporate days of week/time of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re freedom you give to the model to make your decisions, the more likely you are to get a place you don’t know/lik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Model to take out restaurants you definitely DO NOT w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s of payment not a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Data to include cash vs. credit card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accounts for delivery restaurants on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Data to include options for food pick-up restaurants, in addition to 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has Crystal Ball selecting 1 Food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to pick multiple food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returns 1 restaurant cho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to choose multiple restaurants by rank (could utilize Crystal Ball forecasting tool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" descr="http://www.paceywilliams.com/Raising_Hand.gif"/>
          <p:cNvPicPr/>
          <p:nvPr/>
        </p:nvPicPr>
        <p:blipFill>
          <a:blip r:embed="rId2"/>
          <a:stretch/>
        </p:blipFill>
        <p:spPr>
          <a:xfrm>
            <a:off x="2743200" y="990720"/>
            <a:ext cx="32767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Title 1" descr=""/>
          <p:cNvPicPr/>
          <p:nvPr/>
        </p:nvPicPr>
        <p:blipFill>
          <a:blip r:embed="rId1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457200" y="1480680"/>
            <a:ext cx="457200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ision models homework takes a substantial amount of ti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’re often putting the “final touches” on the homework on Sunday…and we’re HUNGRY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552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7"/>
          <p:cNvGrpSpPr/>
          <p:nvPr/>
        </p:nvGrpSpPr>
        <p:grpSpPr>
          <a:xfrm>
            <a:off x="3048120" y="3657600"/>
            <a:ext cx="3656880" cy="2209680"/>
            <a:chOff x="3048120" y="3657600"/>
            <a:chExt cx="3656880" cy="2209680"/>
          </a:xfrm>
        </p:grpSpPr>
        <p:pic>
          <p:nvPicPr>
            <p:cNvPr id="653" name="Picture 5" descr=""/>
            <p:cNvPicPr/>
            <p:nvPr/>
          </p:nvPicPr>
          <p:blipFill>
            <a:blip r:embed="rId1"/>
            <a:stretch/>
          </p:blipFill>
          <p:spPr>
            <a:xfrm>
              <a:off x="3071520" y="3657600"/>
              <a:ext cx="36104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Isosceles Triangle 6"/>
            <p:cNvSpPr/>
            <p:nvPr/>
          </p:nvSpPr>
          <p:spPr>
            <a:xfrm rot="10800000">
              <a:off x="3048120" y="3657600"/>
              <a:ext cx="2114640" cy="104112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Isosceles Triangle 10"/>
            <p:cNvSpPr/>
            <p:nvPr/>
          </p:nvSpPr>
          <p:spPr>
            <a:xfrm flipH="1" rot="10800000">
              <a:off x="5504760" y="3657600"/>
              <a:ext cx="1199880" cy="104112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Isosceles Triangle 11"/>
            <p:cNvSpPr/>
            <p:nvPr/>
          </p:nvSpPr>
          <p:spPr>
            <a:xfrm flipH="1" rot="10800000">
              <a:off x="3790800" y="3734640"/>
              <a:ext cx="1225440" cy="127296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Title 1" descr=""/>
          <p:cNvPicPr/>
          <p:nvPr/>
        </p:nvPicPr>
        <p:blipFill>
          <a:blip r:embed="rId2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  <p:sp>
        <p:nvSpPr>
          <p:cNvPr id="658" name="Content Placeholder 2"/>
          <p:cNvSpPr/>
          <p:nvPr/>
        </p:nvSpPr>
        <p:spPr>
          <a:xfrm>
            <a:off x="457200" y="1066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often “enjoyed ourselves” too much on Saturday and we’re paying for it on Sun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to get 3 people to agree on what food to 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be lazy and indeci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particular cravings or aversions to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Content Placeholder 2"/>
          <p:cNvSpPr/>
          <p:nvPr/>
        </p:nvSpPr>
        <p:spPr>
          <a:xfrm>
            <a:off x="5943600" y="34290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sn’t Umbro photogenic?!? Ladies: he’s singl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3" descr="C:\Users\Ishani Mukherjee\Desktop\photo.jpg"/>
          <p:cNvPicPr/>
          <p:nvPr/>
        </p:nvPicPr>
        <p:blipFill>
          <a:blip r:embed="rId3"/>
          <a:stretch/>
        </p:blipFill>
        <p:spPr>
          <a:xfrm>
            <a:off x="1295280" y="3429000"/>
            <a:ext cx="1295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Title 1" descr=""/>
          <p:cNvPicPr/>
          <p:nvPr/>
        </p:nvPicPr>
        <p:blipFill>
          <a:blip r:embed="rId1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5443560" cy="330696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  <p:pic>
        <p:nvPicPr>
          <p:cNvPr id="663" name="Picture 2" descr=""/>
          <p:cNvPicPr/>
          <p:nvPr/>
        </p:nvPicPr>
        <p:blipFill>
          <a:blip r:embed="rId3"/>
          <a:stretch/>
        </p:blipFill>
        <p:spPr>
          <a:xfrm>
            <a:off x="2286000" y="3763800"/>
            <a:ext cx="6708600" cy="301788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  <p:sp>
        <p:nvSpPr>
          <p:cNvPr id="664" name=""/>
          <p:cNvSpPr txBox="1"/>
          <p:nvPr/>
        </p:nvSpPr>
        <p:spPr>
          <a:xfrm>
            <a:off x="2636640" y="3505320"/>
            <a:ext cx="4601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+ Our Mod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5" name="Picture 5" descr="splash-seamlessweb.gif"/>
          <p:cNvPicPr/>
          <p:nvPr/>
        </p:nvPicPr>
        <p:blipFill>
          <a:blip r:embed="rId4"/>
          <a:stretch/>
        </p:blipFill>
        <p:spPr>
          <a:xfrm>
            <a:off x="2438280" y="3505320"/>
            <a:ext cx="27432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lways want food delivered…because we’re laz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mlessweb is our new best fri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use the criteria available on Seamles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ice - low price is preferab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ating - high rating is preferab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livery Time - short delivery tim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ood Category - used as constrain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We weight the criteria differently depending on how we’re feeling that wee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7" name="Title 2" descr=""/>
          <p:cNvPicPr/>
          <p:nvPr/>
        </p:nvPicPr>
        <p:blipFill>
          <a:blip r:embed="rId1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57200" y="106632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se 44 West 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Street as addr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e always want food delivered because we’re lazy and hung-ov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taurant must be open to order from i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rder at 1:00pm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l 3 of us are hungry each week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ways meet the minimum order since there are 3 of u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d not include any restaurants with missing dat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enough reviews to get a star rat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Money rat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f multiple options of the same restaurant (multiple locations), picked the closest option to includ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d not include anything with a minimum over $50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laces that take campus cash have a student discount availab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9" name="Title 2" descr=""/>
          <p:cNvPicPr/>
          <p:nvPr/>
        </p:nvPicPr>
        <p:blipFill>
          <a:blip r:embed="rId1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671" name="TextBox 4"/>
          <p:cNvSpPr/>
          <p:nvPr/>
        </p:nvSpPr>
        <p:spPr>
          <a:xfrm>
            <a:off x="311040" y="419112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hani Wants Pizza and we want to get a student discou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re about the criteria (Price, Ratings, and Time) 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minimize the “Happiness Facto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3886200" y="6019920"/>
            <a:ext cx="5029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“Happiness Factor” is like a golf score – the lower, the bett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Picture 1" descr=""/>
          <p:cNvPicPr/>
          <p:nvPr/>
        </p:nvPicPr>
        <p:blipFill>
          <a:blip r:embed="rId2"/>
          <a:stretch/>
        </p:blipFill>
        <p:spPr>
          <a:xfrm>
            <a:off x="5391000" y="3886200"/>
            <a:ext cx="3448080" cy="19699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"/>
          <p:cNvPicPr/>
          <p:nvPr/>
        </p:nvPicPr>
        <p:blipFill>
          <a:blip r:embed="rId3"/>
          <a:stretch/>
        </p:blipFill>
        <p:spPr>
          <a:xfrm>
            <a:off x="195120" y="762120"/>
            <a:ext cx="8753760" cy="310824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Content Placeholder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5956200"/>
          </a:xfrm>
          <a:prstGeom prst="rect">
            <a:avLst/>
          </a:prstGeom>
          <a:ln w="0">
            <a:noFill/>
          </a:ln>
        </p:spPr>
      </p:pic>
      <p:pic>
        <p:nvPicPr>
          <p:cNvPr id="676" name="Title 2" descr=""/>
          <p:cNvPicPr/>
          <p:nvPr/>
        </p:nvPicPr>
        <p:blipFill>
          <a:blip r:embed="rId2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4"/>
          <p:cNvSpPr/>
          <p:nvPr/>
        </p:nvSpPr>
        <p:spPr>
          <a:xfrm>
            <a:off x="809640" y="2565360"/>
            <a:ext cx="5181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sion Variables – Restaurant choice is bin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45:11Z</dcterms:created>
  <dc:creator>Vishal Gaur</dc:creator>
  <dc:description/>
  <dc:language>en-US</dc:language>
  <cp:lastModifiedBy>Ishani Mukherjee</cp:lastModifiedBy>
  <dcterms:modified xsi:type="dcterms:W3CDTF">2011-05-04T12:51:59Z</dcterms:modified>
  <cp:revision>499</cp:revision>
  <dc:subject/>
  <dc:title>Kristen’s Cookies: Process Flow Chart</dc:title>
</cp:coreProperties>
</file>