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8.wmf" ContentType="image/x-wmf"/>
  <Override PartName="/ppt/media/image4.png" ContentType="image/png"/>
  <Override PartName="/ppt/media/image27.png" ContentType="image/png"/>
  <Override PartName="/ppt/media/image23.wmf" ContentType="image/x-wmf"/>
  <Override PartName="/ppt/media/image22.png" ContentType="image/png"/>
  <Override PartName="/ppt/media/image20.png" ContentType="image/png"/>
  <Override PartName="/ppt/media/image21.wmf" ContentType="image/x-wmf"/>
  <Override PartName="/ppt/media/image19.wmf" ContentType="image/x-wmf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4AC7-FCDF-4231-8425-76C7D8EDC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36BF-A00D-421F-B039-789C96D3C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55A-BD29-4885-A2F2-33CC95D9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581-5764-4A2C-870E-6F3C1ED8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051-118C-4E52-BA5E-195D1404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E86-6ABD-4E02-9D8D-15D33BED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50A1-BE85-49F8-A2B1-755633E8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E7ED-13FF-4082-BDBE-4C100150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6E37-95A0-4199-BFFA-48D3125B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C9A9-AC55-4286-95A4-3FEB1C05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2F12-F33D-461B-86C2-187F421E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6A99-ED2C-42F5-8B6F-028B500A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029C-B313-4747-9799-9F2991A0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1009-3BD5-40C2-B0B3-5644ACF0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3325-8A8F-4911-9031-D668D146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D9CD-0C30-419B-A2F8-484A5C29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1E64-541D-47FC-8A22-199C90B2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A1F6-C88B-4438-808D-7A869EEE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056C-E694-443B-9611-BD3DD9EB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A8DA5-7191-4B2E-9EDF-C8F4FA3E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1C108-A8C6-4353-9B30-D4DB62C7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7322-B0D9-4422-8686-DB9CD616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F7128-659A-47B8-BD63-28281342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BF125-AEFF-4930-8D46-1590EBE5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B13-0452-4025-9B90-BBA75CA5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42E1-641F-4639-9820-5ABE466F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E8085-3BD0-40CF-87BE-7D0E608D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C5EBD-A4DB-4A49-8C32-05E6C54C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6125-71D9-4634-8B9D-FC2AF731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14A4-54E1-45E1-A420-9F7956DF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B432B-161F-4DF7-82E0-18507B06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9267-380C-46D2-9CF5-3A1335CE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21E2F-B6E1-49F2-B89F-FED40B04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E99BD-EAF2-43E0-81F2-F5E115FE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18CB8-63EE-49A2-ADF1-9379F7C5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69E-3031-4133-BC2E-1B000B05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9BBE4-BAC3-42E6-BB72-F647A863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823D8-CBFF-4D73-8796-D5EC68A7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61072-BF5F-40F3-BE2D-F67AEDD0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4C3E1-E030-4797-BEF7-2D90F432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2E793-427E-4FC2-A391-FDC70DA8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9BA10-36A5-452E-A5B7-C42F7885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86B56-CDB6-4D87-B9A5-179B8390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2AB36-D5E0-438B-9058-3D945A48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94DCE-C45B-43C1-A9D9-58EF9C0D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D36F4-7E49-4965-96AD-474ACED1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CAF-9A28-47E8-B3DA-6ADBBE97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FC272-C0A4-4693-A01E-2541D49F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36F5E-174F-458D-BCDA-48BB3842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BB2E0-736F-4BC0-8FEE-834DD93C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2469A-5DC6-4540-8FED-75486617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77B6B-9C98-4559-A871-F149D960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E2CAC-8228-44EC-BBFB-51C98C4A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2C35A-0C87-4587-B031-8D75F85A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9D973-1B62-4CD5-808B-E89E859C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59CAC-49AD-4D65-96FE-55337699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9F0D7-2447-4331-8647-F6B1E055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1D6-7451-4EC3-B9ED-F69B690F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9C7D6-EA3D-4639-B1F4-A3415DC0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32033-1F63-46A5-B647-2EEF9C84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A2884-CB98-4330-9DEF-93E741C8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AC0E8-9A0F-49AA-8039-D0AC9B0B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C1022-BC2E-465B-8C74-F58E807D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F0089-4DE4-404E-AD14-55BAC8BE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F2F18-40B5-4A45-B1B1-761F0F4F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7ECC7-F21D-434F-8CDA-32C1101D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25C86-07A6-4D5C-AAD1-49562676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69BD2-52AD-420E-9359-475EAA41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39A-C1B9-476D-9034-82A34022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1D0BA-29D2-42FC-A76F-D80640BD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4C44D-04EC-44E7-82D3-7C8188F3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5ADE2-57CD-4A8D-B138-6C0E328B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B8C1B-FEB7-4EC5-B860-299C0A8D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3C2B6-0ACC-468B-9116-A11FFC3C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4AAB1-1BBC-4DD1-A828-7AC83C75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39DDC-85EA-443B-AA63-16D0F687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10F73-CD32-4031-A3B5-CC77D783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AA78E-7FF1-4371-A80A-732BE3AF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E5588-8F39-46DE-90D0-DFEA0C5E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D6F-8F84-42D2-BFED-FFF94E51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71D80-1960-40F1-B780-A0C2949A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21F79-EFB4-4B42-B184-0757B23A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5A640-AD1F-4F0B-92FA-48876518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538A4-4744-4D98-BCAD-14DB0841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94D1B-3F34-45B6-814A-432BA1F0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C5E44-6529-4C2C-81E8-E6E4E530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D0712-B268-4ACC-BD6E-A9B7D390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CE56E-6C55-4FE4-8BF9-329A4C7A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1BE8C-AE00-4127-99B7-ACA1AD2F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67094-CCF3-4DD7-A209-4C6F93C9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FE2-E785-45D9-BF1E-E8CC64AC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B4ED4-DBC9-4356-B40E-21AF5E0E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A9434-70CA-41C4-80D4-F759DD57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7AEF7-F0EA-40E3-9397-FC7571FF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D3975-D439-4D82-B544-E80ACF62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AF51F-046E-46A6-82A8-43BC9CB7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56F00-271D-4F7D-9DB7-28675955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0C800-BE09-419E-AA95-7BF2878D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CE93-79FE-4F28-B50B-F314BDF6E3C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88E7-6ABB-47E0-8260-9A54EDED8C2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8605-138D-4608-B112-9975D79544E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5E65-6356-43E9-949C-144292D14CB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7AC4-B33F-465E-8079-2DDA30C72ED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5B30-A6D2-4CD6-8F47-A6C79B8206A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A8A3-19A3-4F23-A075-A9A10D84965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6257-942C-483A-90B4-CE9F50C465E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755640" y="1444680"/>
            <a:ext cx="7785000" cy="1987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990720" y="373356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hris Bottiglie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Rajan Vedamanick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Content Placeholder 1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r the indebted college student, these three cards were the most pertinent option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497196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4" name="Content Placeholder 1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6" descr=""/>
          <p:cNvPicPr/>
          <p:nvPr/>
        </p:nvPicPr>
        <p:blipFill>
          <a:blip r:embed="rId2"/>
          <a:stretch/>
        </p:blipFill>
        <p:spPr>
          <a:xfrm>
            <a:off x="1276200" y="1386000"/>
            <a:ext cx="65916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odel can be used for different demographic patterns based on gender, spending habits, geographic locations et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odel can be enhanced to understand different consumer spending patterns and enter a list of cards belonging to them instead of different compan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odel can be flexible to other similar applications like choosing the vacation spot, holiday package, resort et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530280" y="2432160"/>
            <a:ext cx="82422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Content Placeholder 3" descr=""/>
          <p:cNvPicPr/>
          <p:nvPr/>
        </p:nvPicPr>
        <p:blipFill>
          <a:blip r:embed="rId2"/>
          <a:stretch/>
        </p:blipFill>
        <p:spPr>
          <a:xfrm>
            <a:off x="390600" y="1432080"/>
            <a:ext cx="83628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user could decide which card will suit his needs based on his spending pattern and other choices like preferred hotel, flier, credit card servicers, average expected balance et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odel takes into account the uncertainty in spending and bunch of other factors to help the user choose the right car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odel takes the mean and standard deviation of a typical user data and ranks the list of cards available in the matri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lso tries to rank the cards for different income grou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ugh all the assumption run together the model only forecasts for the choice given by the us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ypically it tries to run on five different assump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8229600" cy="3930480"/>
          </a:xfrm>
          <a:prstGeom prst="rect">
            <a:avLst/>
          </a:prstGeom>
          <a:ln w="0">
            <a:noFill/>
          </a:ln>
        </p:spPr>
      </p:pic>
      <p:sp>
        <p:nvSpPr>
          <p:cNvPr id="387" name="Content Placeholder 1"/>
          <p:cNvSpPr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rv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nding patter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image-1.jpg"/>
          <p:cNvPicPr/>
          <p:nvPr/>
        </p:nvPicPr>
        <p:blipFill>
          <a:blip r:embed="rId2"/>
          <a:stretch/>
        </p:blipFill>
        <p:spPr>
          <a:xfrm>
            <a:off x="2971800" y="2362320"/>
            <a:ext cx="380988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392" name="Content Placeholder 5" descr="image-3.jpg"/>
          <p:cNvPicPr/>
          <p:nvPr/>
        </p:nvPicPr>
        <p:blipFill>
          <a:blip r:embed="rId2"/>
          <a:stretch/>
        </p:blipFill>
        <p:spPr>
          <a:xfrm>
            <a:off x="1238400" y="1487520"/>
            <a:ext cx="66672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629480" cy="1996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"/>
          <p:cNvPicPr/>
          <p:nvPr/>
        </p:nvPicPr>
        <p:blipFill>
          <a:blip r:embed="rId3"/>
          <a:stretch/>
        </p:blipFill>
        <p:spPr>
          <a:xfrm>
            <a:off x="6629400" y="1295280"/>
            <a:ext cx="1905120" cy="2502000"/>
          </a:xfrm>
          <a:prstGeom prst="rect">
            <a:avLst/>
          </a:prstGeom>
          <a:ln w="0">
            <a:noFill/>
          </a:ln>
        </p:spPr>
      </p:pic>
      <p:sp>
        <p:nvSpPr>
          <p:cNvPr id="396" name="Content Placeholder 1"/>
          <p:cNvSpPr/>
          <p:nvPr/>
        </p:nvSpPr>
        <p:spPr>
          <a:xfrm>
            <a:off x="457200" y="1295280"/>
            <a:ext cx="5867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come level drives spending patterns and crystal ball runs results based on normal distribution.  Affects points and spending bo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maining survey results do not utilize CB, but a value is calculated for each question which determines the value of that attrib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odel then ranks credit card by highest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Content Placeholder 1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 predicted, each type of consumer had a different preference for a preferred credit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Crystal Ball simulation had more of an impact on lower spending levels.  Implicit within the dataset are spending bands under which a credit card becomes most eff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imulation would offer a lot more variability had we not limited dataset to only the top credit cards on the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2"/>
          <a:stretch/>
        </p:blipFill>
        <p:spPr>
          <a:xfrm>
            <a:off x="2133720" y="3505320"/>
            <a:ext cx="517212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22:15:53Z</dcterms:created>
  <dc:creator>Rajan</dc:creator>
  <dc:description/>
  <dc:language>en-US</dc:language>
  <cp:lastModifiedBy>Rajan</cp:lastModifiedBy>
  <dcterms:modified xsi:type="dcterms:W3CDTF">2011-05-09T05:37:23Z</dcterms:modified>
  <cp:revision>45</cp:revision>
  <dc:subject/>
  <dc:title>Slide 1</dc:title>
</cp:coreProperties>
</file>