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.wmf" ContentType="image/x-wmf"/>
  <Override PartName="/ppt/media/image4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DA6-0884-4559-B7C5-C4737BEA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F84-F648-4AD8-B1C0-8B14C33D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873-E521-4CB0-907F-0433414B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A71-32CD-4B82-A328-B4E17C77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B907-7EDF-4E8E-B9B3-A996A391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3D15-61D8-4ADD-8B8E-4BC3D11C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352D-CEBF-49FD-9140-D5BE78C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8473-7095-43B1-9E95-0490C3CE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1900-B292-4CEC-8414-32F93C4B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CD6A-2310-45B8-AEAA-B6075F3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8B20-72BA-4B98-AA03-043A3AD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2F8-13AB-466D-92CE-F28FE4A1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D6AF-2764-47A0-8E72-FDCF149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8589-471A-4755-A804-38013FE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E06E-64E9-4EB7-AE87-B43E579B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0961-D9BF-447B-B542-3899E394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0CCE-D3AB-4F70-9F41-9DB7866F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F02-8144-470C-8C9F-1A043841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6E5-6BC5-4E3C-83D3-71B3351E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506-911C-4FB1-B1A3-B63C9610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57A-B289-420A-B847-CA6DD614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C4A2-D898-4EAD-906D-5361A7C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37E7-BD61-4EF7-ADE2-522AB87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826-AE18-48FB-8BDD-9A0E298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718B-4936-475F-AB92-25486268EB93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7B65-9F95-48C5-9377-DDBC39635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ep’m Running, Inc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imi Chiu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ndy Gr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othi Kesava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hyam Krishnamurthy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onu Samuel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ichael Yakir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conomic Scenario detai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53160" y="2362320"/>
            <a:ext cx="861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conomic Cycle: Cycle starts with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 years of averag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 follow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 years of good 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 follow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 years of average 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 follow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 years of ba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conomy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 Cycle will repeat again at the end of 10 yea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553716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rowth Rates –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venues &amp; Cos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4069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stomer &amp; PC Estima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1513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enue Estim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066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Calculations –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k Space Co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2211480"/>
            <a:ext cx="9144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eakdown &amp; Service R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498920" cy="517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14600" y="4267080"/>
            <a:ext cx="449892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nses – PC Costs Proj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751880" cy="1725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22320" y="2782800"/>
            <a:ext cx="72979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penses -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loyee Costs Proje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7515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tal Expenses Proj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518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h Flow Proj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9880" y="6095880"/>
            <a:ext cx="1836720" cy="277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53960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 provide our clients with “continuity” in the use of their PC based network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 achieve this b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outine backup of their data &amp;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n Demand” availability of PC hardwa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uarante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e guarantee a maximum of not greater than 3 hours of downtime for our clients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 Exte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2133720"/>
          <a:ext cx="6850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6850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e Exte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0" y="2057400"/>
          <a:ext cx="4356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57400"/>
                    <a:ext cx="4356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Simulation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3680" y="2017800"/>
            <a:ext cx="56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ple Simulation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13000" y="2244600"/>
            <a:ext cx="551196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nt Extend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47920" y="2057400"/>
          <a:ext cx="6767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6767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mpany employs too many technicians at present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company will have positive cash flows from its fourth year of operation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The IRR over ten years is expected at  64%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Exten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sign probabilities to each state of economy – triangular distribut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Generate multiple possible paths, using simulation package such as Crystal Ball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un Extend simulation and obtain results from the spreadsheet for each path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Obtain average cost numbers from the results of multiple ru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 and Answ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pany Snapshot: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arted Operation this year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15 Clients each with 10 to 100 PC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timate the following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sts &amp; Cash Flow Analysis of the company in a 10 year business cycle period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ep I – Gather data on input parameter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s, Revenues, &amp; Growth Rates (State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ep II – Use Extend Model: Determi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# of Employees, PCs, Data Restores, &amp; Storag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ep III – Use Excel to estimate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sts &amp; Cash Flow Analysis for a 10 year business cycle period.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l Cash Flow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cted Customer Profi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4735800" cy="998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95280" y="3581280"/>
            <a:ext cx="3208320" cy="100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95280" y="4952880"/>
            <a:ext cx="383076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detai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3794040" cy="124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3610080" cy="1238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00200" y="5181480"/>
            <a:ext cx="362916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detail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3473640" cy="1241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3610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detail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083200" cy="147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50832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7T12:37:34Z</dcterms:created>
  <dc:creator>compaq</dc:creator>
  <dc:description/>
  <dc:language>en-US</dc:language>
  <cp:lastModifiedBy>Mike Yakir</cp:lastModifiedBy>
  <dcterms:modified xsi:type="dcterms:W3CDTF">2002-05-01T13:15:21Z</dcterms:modified>
  <cp:revision>41</cp:revision>
  <dc:subject/>
  <dc:title>PowerPoint Presentation</dc:title>
</cp:coreProperties>
</file>