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8.wmf" ContentType="image/x-wmf"/>
  <Override PartName="/ppt/media/image3.wmf" ContentType="image/x-wmf"/>
  <Override PartName="/ppt/media/image2.wmf" ContentType="image/x-wmf"/>
  <Override PartName="/ppt/media/image4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1FCE-31AE-4452-A602-54C2860B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9CF-2B18-4AB6-9FB0-CF30BE9B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878-A1BE-49C6-A1A8-BBE7509F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14A-C7EB-4087-9DC3-FF46F7E9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34D0-1331-4536-9C56-63757042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EC16-25DE-4CEB-9408-BFC5FC4B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72E1-C1A1-4F71-8952-386DE0AA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67E3-28CC-4C8B-9CD6-B0E21149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14BB-E189-4E09-BEE4-13DABC0D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425C-63F0-4A61-8176-916D9456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EEC8-952F-4EC0-B57E-920AF581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C24-E802-4CD2-9C82-7268E0E2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21A0-1A79-4745-B77F-8A70A456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D215-FBD5-48E4-8C96-552B1B63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E302-D92B-4DDE-B459-1478C419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3669-B1AA-4DC0-BF33-BB48DF85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D2E5-4E28-4CFA-A128-99F378A2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6DC-0818-4229-8B4B-49E7381F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1B1E-EF45-45A3-8E42-4C72F338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643-6F4B-4A4F-92FB-EBCCBE8B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829-0896-4973-9360-68544766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F36-75E5-47A8-9364-A72FEDA0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864-AA14-497B-8F42-1A80879E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0611-118E-4CF7-83C6-D9753202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29AB-68DC-498E-AB1B-1BEB4B356A00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F26B-A388-4F7C-B7C4-E66749C849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ep’m Running, Inc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imi Chiu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endy Gr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Jothi Kesava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hyam Krishnamurthy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onu Samuel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ichael Yaki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conomic Scenario detai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53160" y="2362320"/>
            <a:ext cx="861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conomic Cycle: Cycle starts with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 years of average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conomy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, followed b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 years of good economy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, follow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 years of average economy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, followed b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 years of bad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conomy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. Cycle will repeat again at the end of 10 year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553716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rowth Rates –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venues &amp; Cos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4069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ustomer &amp; PC Estimat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1513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enue Estima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0660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ple Calculations –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k Space Co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2211480"/>
            <a:ext cx="91440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eakdown &amp; Service Ra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498920" cy="517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14600" y="4267080"/>
            <a:ext cx="44989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penses – PC Costs Proj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751880" cy="1725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22320" y="2782800"/>
            <a:ext cx="72979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penses -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mployee Costs Proj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77515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tal Expenses Proj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518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h Flow Proj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809880" y="6095880"/>
            <a:ext cx="1836720" cy="277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53960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e provide our clients with “continuity” in the use of their PC based network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e achieve this b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outine backup of their data &amp;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n Demand” availability of PC hardwa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Guarante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e guarantee a maximum of not greater than 3 hours of downtime for our client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e Extend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19320" y="2133720"/>
          <a:ext cx="6850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6850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e Extend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286000" y="2057400"/>
          <a:ext cx="4356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057400"/>
                    <a:ext cx="4356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ple Simulation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63680" y="2017800"/>
            <a:ext cx="56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ple Simulation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313000" y="2244600"/>
            <a:ext cx="551196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nt Extend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47920" y="2057400"/>
          <a:ext cx="6767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6767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ompany employs too many technicians at present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ompany will have positive cash flows from its fourth year of operatio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The IRR over ten years is expected at  64%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Exten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ssign probabilities to each state of economy – triangular distributio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Generate multiple possible paths, using simulation package such as Crystal Ball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un Extend simulation and obtain results from the spreadsheet for each path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btain average cost numbers from the results of multiple run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s and Answ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any Snapshot: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arted Operation this year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15 Clients each with 10 to 100 PC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timate the following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sts &amp; Cash Flow Analysis of the company in a 10 year business cycle period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ep I – Gather data on input paramete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sts, Revenues, &amp; Growth Rates (State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ep II – Use Extend Model: Determi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# of Employees, PCs, Data Restores, &amp; Storag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ep III – Use Excel to estimate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sts &amp; Cash Flow Analysis for a 10 year business cycle period.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l Cash Flow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cted Customer Pro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4735800" cy="998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95280" y="3581280"/>
            <a:ext cx="3208320" cy="1000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295280" y="4952880"/>
            <a:ext cx="383076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detail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3794040" cy="124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00200" y="3505320"/>
            <a:ext cx="3610080" cy="1238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00200" y="5181480"/>
            <a:ext cx="362916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detail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4191120"/>
            <a:ext cx="3473640" cy="124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36100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detail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083200" cy="1479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50832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7T12:37:34Z</dcterms:created>
  <dc:creator>compaq</dc:creator>
  <dc:description/>
  <dc:language>en-US</dc:language>
  <cp:lastModifiedBy>Mike Yakir</cp:lastModifiedBy>
  <dcterms:modified xsi:type="dcterms:W3CDTF">2002-05-01T13:15:21Z</dcterms:modified>
  <cp:revision>41</cp:revision>
  <dc:subject/>
  <dc:title>PowerPoint Presentation</dc:title>
</cp:coreProperties>
</file>