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57440" y="609120"/>
            <a:ext cx="582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57440" y="609120"/>
            <a:ext cx="582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57440" y="609120"/>
            <a:ext cx="582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657440" y="609120"/>
            <a:ext cx="582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57440" y="609120"/>
            <a:ext cx="582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57440" y="609120"/>
            <a:ext cx="582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57440" y="609120"/>
            <a:ext cx="582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657440" y="609120"/>
            <a:ext cx="5829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57440" y="609120"/>
            <a:ext cx="582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57440" y="609120"/>
            <a:ext cx="582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57440" y="609120"/>
            <a:ext cx="582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57440" y="609120"/>
            <a:ext cx="582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e01686_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67796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tn00561_" descr=""/>
          <p:cNvPicPr/>
          <p:nvPr/>
        </p:nvPicPr>
        <p:blipFill>
          <a:blip r:embed="rId3"/>
          <a:stretch/>
        </p:blipFill>
        <p:spPr>
          <a:xfrm>
            <a:off x="7010280" y="5181480"/>
            <a:ext cx="1973520" cy="150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57440" y="609120"/>
            <a:ext cx="582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eball Te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ika Dali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lina Nikol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helle Poul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hannes Ruzic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ul Wil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57440" y="609120"/>
            <a:ext cx="582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ment of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are a Travel Company who is trying to create the ultimate package for baseball fa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attend a home game at every Major League Baseball p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trip requires us to provide the route that must be taken to achieve this while minimizing driving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57440" y="609120"/>
            <a:ext cx="582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iving Time between stadiums as estimated by MapQuest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iving time is continuous as there will always be a replacement driver avail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me Times as listed by Major League Baseb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me Duration is 6 hou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p will begin on 2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June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57440" y="609120"/>
            <a:ext cx="582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visit every baseball stad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see each team play at its home stad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arrive at each game early or on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minimize driving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achieve all of the above in one mon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57440" y="609120"/>
            <a:ext cx="582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enalty system was impo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000,000 for not visiting a stadiu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000,000 for not seeing the team play at 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00 for every hour late to a ga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point for every hour of driving tim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57440" y="609120"/>
            <a:ext cx="582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ision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m Name  / Home Stad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der of stadiums vis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57440" y="609120"/>
            <a:ext cx="582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erfect solution was not reached despite many hours of running Evolutionary Solv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Stadium was visi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 out of 30 games were attended on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Driving time was 452 ho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 to 3 games but arrived before game 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sed 8 games due to late arri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57440" y="380520"/>
            <a:ext cx="582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s Encounter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runs required all of which gave alternative “optimum” sol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465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perfect solution reach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465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rival at several stadiums is after game has finished but the model still allows that stadium to be vis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57440" y="380520"/>
            <a:ext cx="582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tential Enhanc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improve the model to have a stepwise penalty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2408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00 for each hour l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32408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000,000 for being more than 6 hours l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465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hanced model would allow for variable  start 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465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me duration would be a random distrib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13:22:02Z</dcterms:created>
  <dc:creator>test</dc:creator>
  <dc:description/>
  <dc:language>en-US</dc:language>
  <cp:lastModifiedBy>Stern School</cp:lastModifiedBy>
  <dcterms:modified xsi:type="dcterms:W3CDTF">2002-04-23T20:04:58Z</dcterms:modified>
  <cp:revision>49</cp:revision>
  <dc:subject/>
  <dc:title>PowerPoint Presentation</dc:title>
</cp:coreProperties>
</file>