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721-A489-4801-949B-25E3D5C4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788-DD85-474D-B62A-A8E66935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166-4A3A-45AB-BA82-8C5D1731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3F7-3354-498A-BD3C-781166BA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9C4D-302C-43B4-A644-B89D5C6B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CAB0-67C5-4A56-9939-911E08B1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23D8-F5B2-46F2-9F2D-CEEFCF1F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43FD-2FBA-4233-95E1-0896AE6C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D970-C846-4AB5-BB44-41139C39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AADA-7B27-4011-BE85-6B7FC126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9796-FEA2-437C-B619-7C4F954C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FF2D-1BE4-435B-994B-5BB11FC6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3564-249A-49F6-81CE-D1BF8E81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0C84-2544-455B-9899-BFCC223D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835E-30B5-4DB7-B67E-32EF6262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CAC9-DCAF-4E3A-9392-FF2047D4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0F08-564A-4A6D-8A66-DCFC6F68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33B-3DEA-4878-BB2E-FC1E473E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614-F6D4-4D98-A283-A035602B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DF1-31AB-44D1-AC76-750894E0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9DC-315A-4BB6-8D4B-994A00FE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5FB-0F4A-4B80-ABC6-161780F7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817-1F58-4BBC-A48A-24373B31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0E6-8712-4708-AC6F-B6018DD8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B6C7-C4A6-4C7A-9E3A-692B9D0144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682D-CE62-40C5-B206-E62E164C30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vin’ on up!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rn and the MBA Rank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 Gro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g Lellou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sh Lev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it Maor-Itzikowi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es Spitz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5: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00200" y="1976400"/>
            <a:ext cx="609588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6: Optim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06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7: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7724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order to move up in the FT rankings, Stern should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ruit more female facul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nd substantially less on marketing to prospective foreign stud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re fewer faculty with docto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id we use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inancial Tim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FT) ranking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steps did we take in building our mode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Stern optimize its rank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did we use the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Financial Tim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ranking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 rankings data is the most quantitative and least subjective of the major rank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used to calculate FT rankings is readily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 rankings are arguably the most world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1: Regression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ran a regression to determine how the independent variables influenced the rank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hen used the coefficients to construct an equation that predicts an MBA program’s ran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1: Regression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4840" y="2017800"/>
            <a:ext cx="738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2: Objective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edicted ranking becomes our objective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course, we wish to maximize our objective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7282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3: Decision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cision variables concern how Stern should allocate its budg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2836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4: Constra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rn faces budgetary constrai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4819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 4: Constra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3276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22:06:56Z</dcterms:created>
  <dc:creator>Stern School</dc:creator>
  <dc:description/>
  <dc:language>en-US</dc:language>
  <cp:lastModifiedBy>Stern School</cp:lastModifiedBy>
  <dcterms:modified xsi:type="dcterms:W3CDTF">2002-04-24T20:09:37Z</dcterms:modified>
  <cp:revision>41</cp:revision>
  <dc:subject/>
  <dc:title>Movin’ on up! Stern and the MBA Rankings</dc:title>
</cp:coreProperties>
</file>