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7B3-6C77-4D9F-8FB3-99C8D7DF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E1D-06FD-4F88-A194-6ED0FFC2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B89-397E-45ED-BA6E-C73F350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A0E-D9B9-4F82-95AA-059F83E8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7189-DECE-454B-BC94-271BB658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8BB9-C080-4F6F-B427-E9C5B8BB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AB1-3CBB-4C68-80A9-90238DF9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5655-011B-4AE5-8BE6-CC614FFA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B669-155B-4F09-A8A9-D7D33AF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73D3-715F-4717-91A4-54565D3E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FAC6-28B0-4AE5-964A-1409896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628-C38A-4284-AEDB-424F77C1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A8E-42E0-463E-A91F-9E14FFA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130-F8A6-4DED-8833-596F448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007C-EABA-4D98-A661-4F66E9BC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406B-F009-4A66-968A-0ECACA9E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BC1B-B715-4E72-BA25-EAA9AA0E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E59-CB24-4554-82F8-75F8BD41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78C-9004-4680-9905-ED20F80D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417-FCC1-4998-956E-C77F9FE0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39D-DEE1-4D0A-99CF-F6676AC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A1B-FE26-4E6C-A666-C9B820C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C3D-F722-42A0-8A6A-23AE8E6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9C6-6423-4A9A-970E-C11F031F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79A5-B1BA-4E31-9F7E-69CF4CE9E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23C6-B26D-408D-A48F-46CDDF53E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in’ on up!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rn and the MBA Rank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 Gr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g Lellou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sh Lev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it Maor-Itzikowi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es Spit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5: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1976400"/>
            <a:ext cx="60958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6: Optim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6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7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772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rder to move up in the FT rankings, Stern should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ruit more female facul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nd substantially less on marketing to prospective foreign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re fewer faculty with docto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id we use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inancial Ti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FT) rank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teps did we take in building our mode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Stern optimize its rank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id we use the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Financial Tim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ranking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 rankings data is the most quantitative and least subjective of the major rank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used to calculate FT rankings is 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 rankings are arguably the most world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Regression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ran a regression to determine how the independent variables influenced the rank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hen used the coefficients to construct an equation that predicts an MBA program’s ra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Regression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4840" y="2017800"/>
            <a:ext cx="738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Objectiv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edicted ranking becomes our objective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course, we wish to maximize our objectiv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7282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3: Decision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cision variables concern how Stern should allocate its budg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2836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4: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n faces budgetary constrai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4819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4: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27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22:06:56Z</dcterms:created>
  <dc:creator>Stern School</dc:creator>
  <dc:description/>
  <dc:language>en-US</dc:language>
  <cp:lastModifiedBy>Stern School</cp:lastModifiedBy>
  <dcterms:modified xsi:type="dcterms:W3CDTF">2002-04-24T20:09:37Z</dcterms:modified>
  <cp:revision>41</cp:revision>
  <dc:subject/>
  <dc:title>Movin’ on up! Stern and the MBA Rankings</dc:title>
</cp:coreProperties>
</file>