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151-D1FF-42A0-8B38-49AEDDC5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777-718D-4D36-8514-8644B465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EBC-E08F-43DC-BF6E-16DF82DD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9C0-82A8-4D1C-BCE7-E71D0F34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410D-031C-488C-857B-3F48F25F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2302-5CC4-45EE-863C-E587B6A3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93F7-AAF2-4E8D-9D48-7783DB5E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869B-2B3D-4C81-9D7F-778252E8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2295-8334-4332-BCB2-5D156411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E919-E17A-41AB-A59C-B2BD209E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9866-7346-478E-9B99-4C107B9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1D4-25B0-4721-B45A-FB4D3F4D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8EFA-8D50-4E59-A109-52D6A921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48D7-5692-4ADB-AE51-06EAF98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2A96-63C7-4B61-92B4-3C84543E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2335-0034-4B91-9606-20986DAF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E7D5-E4BC-4A5C-9F93-C1A7F6DB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E27-74C3-4CB7-81C7-95C45F87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A87-4F12-4EB7-8117-F515DA3A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E6C-E96D-463A-9DBB-3B9E0767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0456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CE4-4CCB-4D04-9C65-EE263978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11B-0764-4DFF-93A2-9943B655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1E5-F31B-4C3A-AE88-59D4EBF2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977-F84E-4655-96C6-F1F0957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68CD-1057-4F2E-A873-C14BF255A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69AE-F93E-4E5A-BCB0-CEABBEF71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folio Optim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anne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han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or Stella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ump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eriod:  Portfolio optimization is done only at the beginning of th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ty in stock returns:  Upside and downside are symmetr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of the standard Utility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 = (average upside return + average downside return) + RAP * upside variance - RAP * downside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hort se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838080" y="228600"/>
          <a:ext cx="8305920" cy="654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"/>
                    <a:ext cx="8305920" cy="654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5800" y="228600"/>
          <a:ext cx="8153280" cy="65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8153280" cy="65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mmetric risk and return approach scored the highest return with 5.54% beating the benchmark sector return by about 11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n annualized basis, the performance is gre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with after-tax adjusted basis, this portfolio beat the benchm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4280" y="24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781200" y="304920"/>
          <a:ext cx="8362800" cy="631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304920"/>
                    <a:ext cx="8362800" cy="63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sector of S&amp;P500 has been difficult to man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metrics like P/E and expected growth are not applicable to these st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better approach to managing this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ortfolio of technology stocks with greater upside and smaller downside relative to the benchmark (S&amp;P Tech Inde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difference between upside return and downside retur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standard deviation of upside return and decrease the standard deviation of downside re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Focus on the Technology Sec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 sector is one of the largest sectors in the overall S&amp;P500 benchm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excluding this sector a portfolio manager would not benefit from gains should tech stocks do well, and diversification would be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 sector is wildly volatile and therefore needs careful att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itional metrics such as ROE, P/E, Growth Rates, and DCF models have generated nonsensical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 advantage will arise if a better methodology is discov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mpile daily returns of the S&amp;P Technology Sector stocks (Currently 80 stock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“survivorship bias” we chose 9/19/2000 (latest date for which all 80 stocks have retur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lack of data, daily returns were used in lieu of month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imul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rcity of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conomy - not enough historical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atility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returns and standard deviation would be unstable due to heavy fluctuation of daily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estimates of parameters will change wildly from day to day, portfolio optimization will be difficult leading to higher transaction co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we need to simulate the returns from past data to create “smoothed” more stable parameter estim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sample mean return of each stock when the S&amp;P Tech Index is posi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the likely distribution of what the “smoothed” or average upside return would be by sampling from the prior 250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each day in the sampling period an index (1 to 25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ll returns if S&amp;P generated positiv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generate another random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he process until a sample size of 1/3 of the number of total days in which the S&amp;P 500 Tech sector was posi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all of the above 36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the means across all 36 samples for each stock to get an estimate of the sample mean upside retur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cess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sample mean return of each stock when the S&amp;P Tech Index in nega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the likely distribution of what the “smoothed” or average upside return would be by sampling from the prior 250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each day in the sampling period an index (1 to 25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ll returns if S&amp;P generated negativ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generate another random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he process until a sample size of 1/3 of the number of total days in which the S&amp;P 500 Tech sector was neg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all of the above 36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the means across all 36 samples for each stock to get an estimate of the sample mean downside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mulation Process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risk and correlation structure of tech stoc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variance-covariance matrix on the time series of upside and downsid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lculation is done over a 30 day period and rolled forward by one day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non-linear optimization, create optimal portfol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e the estimated parameters with an Objective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 = Mean - RAP * variance (Markowi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version Parameter = 0.4668 (Shar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0:58:25Z</dcterms:created>
  <dc:creator>JungWon Lee</dc:creator>
  <dc:description/>
  <dc:language>en-US</dc:language>
  <cp:lastModifiedBy>Victor Stellakis</cp:lastModifiedBy>
  <dcterms:modified xsi:type="dcterms:W3CDTF">2002-05-01T15:45:46Z</dcterms:modified>
  <cp:revision>39</cp:revision>
  <dc:subject/>
  <dc:title>Portfolio Optimization</dc:title>
</cp:coreProperties>
</file>