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4D-5DA6-4CE7-806B-A1DB5EF1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16D-59EA-44B8-93F4-9C45568E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692-6235-4A7C-8696-8161BFA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EFD-2C5B-4B33-9018-CD25911A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ADF-ED23-450F-8E00-4C50C280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219-6868-4C8C-8D9F-F42DA34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E08-E67F-4E6D-ABD2-F8F4565E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00B6-2051-45E8-83FF-BA86B29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955-C307-4AD9-A4A7-8C916A1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E7C2-F26F-4AA2-A9B8-61503891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FCC-F245-4381-AB23-1B01303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5DF-7A6A-4329-B31D-9B5BA2A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D388-84F8-46C7-B018-7F76128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E6CB-4506-4AF1-AADD-9E054F2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4F3-0FCC-404B-B9DB-38B4D59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4136-7584-4AC9-9D94-2BB845C4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B21D-FBC7-4C6C-B480-CF411559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EDA-854C-4911-ABB0-70B3875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E8C-E3BA-4DA9-B4BE-9E260A8D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54A-1D12-4939-8D0C-7E88AFA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324-BC5C-4987-9068-F48E883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615-BCC9-40FD-AA6C-F748CFC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934-70D7-45A3-A20F-51B0D419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D10-78DE-4D2D-A8CC-2FDA475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F36-1654-437B-8663-6FBE99453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29F-0AB7-4A53-A569-907AF2BEAB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mutHut Analy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dnesday, 5/1/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cisco Casasus, Shaun Doherty, James Fint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 Helpinstill, Vanessa Ignatowski, Felipe Suar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65760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acKinsey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220160" cy="4600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Redu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9640" y="2421000"/>
            <a:ext cx="7524720" cy="201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mendation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rdering Polici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ring Pract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it 5% Dis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 Exploit 5% Ordering Discount to 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Ordering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-Time Order (Januar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June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 6 Months of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Intelligence gained from Annual Adult Video Convention &amp; Swingers 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ory: Exploit Better Demand Forcast in Second Ha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Daily Demand for Pornogra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nographic Demand is Amazingly Uncor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 Estim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Mean Estimates are historically +/-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 Year Estimates Great Approxi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 Demand Historically Right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Deviation of Half of Initial Estimat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it Calc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5% Required CSL b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ventory at EOY Sold at Salv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eca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48600" cy="4119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358128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wo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e Stag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4038480"/>
          <a:ext cx="8763120" cy="19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38480"/>
                    <a:ext cx="876312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905120" y="876240"/>
          <a:ext cx="69148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876240"/>
                    <a:ext cx="69148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414520"/>
            <a:ext cx="777240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1879560"/>
            <a:ext cx="6553080" cy="395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5791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$33,085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Comic Sans MS"/>
              </a:rPr>
              <a:t>95% Confidence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&lt;</a:t>
            </a: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 $44,8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II – Queuing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Warehous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SmutH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wide Distributor of Adult Paraphernalia (Books, Toys, Video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 Products from Producers (Mafia) and Distribute to Independent Retail Outl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utHut Business Model Under At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rinking Demand &amp; Pro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Porn, Pay-per-View, European 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Eng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competitive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4400" y="1218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Warehouse Assumption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20968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verage Orders/Hour (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) = 10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ceiv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100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ull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80/hr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ackaging Department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= 40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st/Value Assumption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erage order value (AOV) = $100/ord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ceiving Department Cost = $8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lling Department Cost = $10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ing Department Cost= $1200/hou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ckages Not Shipped = PN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0% of PNS = Loss of 50% of AOV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urrently, warehouse has one of each department.  </a:t>
            </a:r>
            <a:br>
              <a:rPr sz="32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05000" y="2286000"/>
            <a:ext cx="533880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3,0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92 Arrivals/4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4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4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0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ackag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36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22287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4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0 Arrivals/57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7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25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1,25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Question!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hould they consider adding another pulling departme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uld the costs involved in creating another department increase efficiencies enough to make it worthwhile?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 - Distribution Center Locations (Feli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 - Multi Stage Ordering (Sha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III - Queuing within Store (Vaness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Model III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00200" y="2197080"/>
            <a:ext cx="5943600" cy="4280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867280" cy="422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Sum of Transactions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loyee Costs = - $5,2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86 Arrivals/55 Shipments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+ $5500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-$300 (Loss on PNS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tal Profit: $0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56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Conclus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odel II is optimal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- Adding more employees to reduce EVERY queue isn’t necessarily optimal!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0570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&amp;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art I - Optimal Number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reg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products: each with a demand and a standard deviation specific to each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ands are independent from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rents the warehouses for an annual f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regions have to be 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warehouse is rented in a region it will serve that reg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does not wants to be under-stocked more than 5% of the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objective of the company is to minimized the cost of distribution for the 5 re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straints that the company ha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hipping, ordering and storage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arehouse that serves a region has to do it for the 10 produ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any orders only once, at the beginning  of the y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642000" cy="439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rrent Situation: 5 warehou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8960" y="2674800"/>
            <a:ext cx="7964640" cy="150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of Wareho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725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timal solution is to have 2 warehouses located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North and Nor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thwest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serve West, Southwest and South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9:23:03Z</dcterms:created>
  <dc:creator>Rick Cutler</dc:creator>
  <dc:description/>
  <dc:language>en-US</dc:language>
  <cp:lastModifiedBy>Stern School</cp:lastModifiedBy>
  <cp:lastPrinted>2001-04-03T19:57:21Z</cp:lastPrinted>
  <dcterms:modified xsi:type="dcterms:W3CDTF">2002-05-01T21:46:59Z</dcterms:modified>
  <cp:revision>186</cp:revision>
  <dc:subject/>
  <dc:title>Factors that block creativity</dc:title>
</cp:coreProperties>
</file>