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09A-C9F6-4DDE-9B63-AC5BDB34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CC9-1D0F-4B60-8EFA-0A19C1C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410-1138-4D2F-B1AB-F7B8ADD4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BA8-C074-4CD2-B0A6-0E3419D7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19EA-1574-4A38-9EA4-D7BE312D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138F-9D48-44DC-AB55-BEE40E4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BFFD-7CF8-413E-8EFA-8E3831CC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FC3B-73A9-4BD9-BFB6-0AFE6CE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9416-DFF1-420B-9169-89A0C54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610-0213-43D9-8195-0D77AB5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37B2-2A94-4830-8156-836FC15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B50-E7E1-4882-8A89-A92CAA61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F01-B9CB-4A53-991E-FE68307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E615-DD61-424B-A8FB-761C0E74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7EA-DD74-43BD-88AB-6E5B64F0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3E3-C72D-461B-9BA0-2C9D3E64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4214-9B23-4B3A-B13E-2CF33484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1EE-1F4D-4BE0-896C-F795489B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F2F-2B43-4CE8-95C9-125A13C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443-7FAA-4DA2-A168-A5EA3952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C9B-AC2E-49AC-96E2-7BBD677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FFB-C68D-4751-91AB-F99C2A3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BC0-3723-4B3A-89F3-FCFBC0F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2FE-A023-4850-B492-38E62D7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CB5-6732-4498-B2F4-4A1C80382F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636-1887-489B-93DC-D6AAA209A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mutHut Analy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dnesday, 5/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cisco Casasus, Shaun Doherty, James Fin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 Helpinstill, Vanessa Ignatowski, Felipe Sua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6576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cKinsey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20160" cy="4600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9640" y="2421000"/>
            <a:ext cx="7524720" cy="201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mendation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dering Polici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ring Pract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it 5% Dis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 Exploit 5% Ordering Discount to 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June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 6 Months of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Intelligence gained from Annual Adult Video Convention &amp; Swingers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Exploit Better Demand Forcast in Second Ha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Daily Demand for Pornogra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nographic Demand is Amazingly Uncor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Estim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Mean Estimates are historically +/-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 Year Estimates Great Approxi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 Demand Historically Right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Deviation of Half of Initial Estim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i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% Required CSL b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ventory at EOY Sold at Salv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eca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48600" cy="4119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35812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wo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e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4038480"/>
          <a:ext cx="8763120" cy="19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38480"/>
                    <a:ext cx="876312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5120" y="876240"/>
          <a:ext cx="69148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876240"/>
                    <a:ext cx="69148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414520"/>
            <a:ext cx="77724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879560"/>
            <a:ext cx="655308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5791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$33,085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Comic Sans MS"/>
              </a:rPr>
              <a:t>95% Confidence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$44,8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II – Queuing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Warehous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SmutH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wide Distributor of Adult Paraphernalia (Books, Toys, Video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 Products from Producers (Mafia) and Distribute to Independent Retail Out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utHut Business Model Under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inking Demand &amp; Pro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Porn, Pay-per-View, European 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Eng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competitiv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440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Warehouse Assumption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20968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verage Orders/Hour (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 = 10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ceiv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100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ll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80/h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ckag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40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st/Value Assumption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erage order value (AOV) = $100/ord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ceiving Department Cost = $8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lling Department Cost = $10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ing Department Cost= $12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es Not Shipped = PN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0% of PNS = Loss of 50% of AOV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urrently, warehouse has one of each department.  </a:t>
            </a:r>
            <a:br>
              <a:rPr sz="32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05000" y="2286000"/>
            <a:ext cx="533880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3,0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92 Arrivals/4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4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4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0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ackag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36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2287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4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0 Arrivals/57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7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2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2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ull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 - Distribution Center Locations (Feli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 - Multi Stage Ordering (Sha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I - Queuing within Store (Vanes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2197080"/>
            <a:ext cx="594360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867280" cy="42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5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6 Arrivals/5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30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nclus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del II is optimal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- Adding more employees to reduce EVERY queue isn’t necessarily optimal!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057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 - Optimal Number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reg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products: each with a demand and a standard deviation specific to each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ands are independent from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rents the warehouses for an annual f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regions have to be 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warehouse is rented in a region it will serve that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does not wants to be under-stocked more than 5% of the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objective of the company is to minimized the cost of distribution for the 5 re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straints that the company ha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hipping, ordering and storage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arehouse that serves a region has to do it for the 10 produ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orders only once, at the beginning  of the y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42000" cy="439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rrent Situation: 5 warehou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8960" y="2674800"/>
            <a:ext cx="7964640" cy="150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725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is to have 2 warehouses located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North and Nor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west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West, Southwest and Sou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23:03Z</dcterms:created>
  <dc:creator>Rick Cutler</dc:creator>
  <dc:description/>
  <dc:language>en-US</dc:language>
  <cp:lastModifiedBy>Stern School</cp:lastModifiedBy>
  <cp:lastPrinted>2001-04-03T19:57:21Z</cp:lastPrinted>
  <dcterms:modified xsi:type="dcterms:W3CDTF">2002-05-01T21:46:59Z</dcterms:modified>
  <cp:revision>186</cp:revision>
  <dc:subject/>
  <dc:title>Factors that block creativity</dc:title>
</cp:coreProperties>
</file>