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45A-8314-45F6-9F8B-93390CA1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7E3-2D1F-4F20-84B8-8F04937E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9C9-A1A5-42DB-AE32-48D372F2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521-AB86-4AC8-892E-991A3666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0802-D3F8-4E1F-93CA-001E04A9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99AD-D516-4864-B1B9-995E09D9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6704-A42C-4A45-87A6-203B6E68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C5AB-547F-4DAF-B4F9-B5E51974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69C7-6387-47E6-B099-F157B847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AAF2-55DD-4A68-AB97-FDE498F1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F4B4-7492-4CA6-A3F9-FDF1D9B7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F4C-787E-4257-826D-09E8B845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7AEA-72FC-4C8D-AB54-A1CCD5C3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58D3-15F2-419A-94B9-184B248A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5133-8CBC-45F9-A6D2-B985087E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2D99-DAF1-4AEA-8F2E-932F2784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6ACA-E965-4C21-A3DA-51ECE536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964-4198-4C78-B1F2-D6842A96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2B4-AB3F-4A59-A35B-143C685D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2DF-E9A6-4573-AC54-F7F0DB2D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163-4D39-461F-A2AD-F3CE5FC4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1C4-C2BB-41ED-9AC0-E8C72DA0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3B2-176E-4AB9-A2DC-EDFD9FA9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32D-624A-4556-A7F3-69CD1821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B9A2-F55A-4C09-9D21-C547CB1980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7773-570C-4C9B-8872-B1C0A3E5DB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SmutHut Analy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dnesday, 5/1/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ncisco Casasus, Shaun Doherty, James Fin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 Helpinstill, Vanessa Ignatowski, Felipe Suar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65760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cisio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cKinsey Consu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Red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220160" cy="4600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Red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09640" y="2421000"/>
            <a:ext cx="7524720" cy="201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ommendation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rdering Polici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dering Pract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Ordering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-Time Order (Januar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it 5% Dis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ory:  Exploit 5% Ordering Discount to Reduce Co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sed Ordering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-Time Order (Januar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amp; June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 6 Months of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et Intelligence gained from Annual Adult Video Convention &amp; Swingers B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ory: Exploit Better Demand Forcast in Second Hal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um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Daily Demand for Pornograp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nographic Demand is Amazingly Uncorre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and Estim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Mean Estimates are historically +/- 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 Year Estimates Great Approxi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 Demand Historically Right 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Deviation of Half of Initial Estimat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it Calc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5% Required CSL by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ventory at EOY Sold at Salv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eca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8148600" cy="4119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35812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wo Stage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ne Stage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280" y="4038480"/>
          <a:ext cx="8763120" cy="19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38480"/>
                    <a:ext cx="8763120" cy="19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905120" y="876240"/>
          <a:ext cx="69148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876240"/>
                    <a:ext cx="69148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co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480" y="2414520"/>
            <a:ext cx="7772400" cy="3529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d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1879560"/>
            <a:ext cx="6553080" cy="3959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2120" y="5791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$33,085 </a:t>
            </a: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&lt;</a:t>
            </a: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990033"/>
                </a:solidFill>
                <a:latin typeface="Comic Sans MS"/>
              </a:rPr>
              <a:t>95% Confidence</a:t>
            </a: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&lt;</a:t>
            </a: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 $44,8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art III – Queuing with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Warehouse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SmutH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ionwide Distributor of Adult Paraphernalia (Books, Toys, Video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 Products from Producers (Mafia) and Distribute to Independent Retail Out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utHut Business Model Under At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rinking Demand &amp; Pro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Porn, Pay-per-View, European Compet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Eng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co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e competitive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4400" y="1218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Warehouse Assumptions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2209680"/>
            <a:ext cx="7848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verage Orders/Hour (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) = 10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ceiving Department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= 100/h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ulling Department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= 80/hr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ckaging Department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= 40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Cost/Value Assumptions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verage order value (AOV) = $100/orde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ceiving Department Cost = $800/hou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lling Department Cost = $1000/hou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ackaging Department Cost= $1200/hou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ackages Not Shipped = PN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20% of PNS = Loss of 50% of AOV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urrently, warehouse has one of each department.  </a:t>
            </a:r>
            <a:br>
              <a:rPr sz="32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Model I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05000" y="2286000"/>
            <a:ext cx="533880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7617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Model I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Sum of Transactions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mployee Costs = - $3,0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92 Arrivals/45 Shipment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+ $45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-$450 (Loss on PNS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tal Profit: $1,050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Question!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hould they consider adding another packaging department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ould the costs involved in creating another department increase efficiencies enough to make it worthwhile?</a:t>
            </a:r>
            <a:br>
              <a:rPr sz="3600"/>
            </a:b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Model II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52480" y="222876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40080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Sum of Transactions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mployee Costs = - $4,2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80 Arrivals/57 Shipment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+ $57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-$250 (Loss on PNS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tal Profit: $1,250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Question!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hould they consider adding another pulling department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ould the costs involved in creating another department increase efficiencies enough to make it worthwhile?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sis Breakdow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I - Distribution Center Locations (Feli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II - Multi Stage Ordering (Shau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III - Queuing within Store (Vaness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Model III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00200" y="2197080"/>
            <a:ext cx="5943600" cy="4280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867280" cy="4224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Sum of Transactions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mployee Costs = - $5,2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86 Arrivals/55 Shipment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+ $55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-$300 (Loss on PNS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tal Profit: $0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Conclus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odel II is optimal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- Adding more employees to reduce EVERY queue isn’t necessarily optimal!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5120" y="20570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&amp;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art I - Optimal Number of Wareho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um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reg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products: each with a demand and a standard deviation specific to each reg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ands are independent from each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any rents the warehouses for an annual f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regions have to be 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warehouse is rented in a region it will serve that reg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any does not wants to be under-stocked more than 5% of the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objective of the company is to minimized the cost of distribution for the 5 reg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straints that the company has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shipping, ordering and storage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arehouse that serves a region has to do it for the 10 produ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any orders only once, at the beginning  of the y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Co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642000" cy="439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urrent Situation: 5 warehou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8960" y="2674800"/>
            <a:ext cx="7964640" cy="1506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of Wareho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572520" cy="1552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timal solution is to have 2 warehouses located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serve North and North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thwest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serve West, Southwest and South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19:23:03Z</dcterms:created>
  <dc:creator>Rick Cutler</dc:creator>
  <dc:description/>
  <dc:language>en-US</dc:language>
  <cp:lastModifiedBy>Stern School</cp:lastModifiedBy>
  <cp:lastPrinted>2001-04-03T19:57:21Z</cp:lastPrinted>
  <dcterms:modified xsi:type="dcterms:W3CDTF">2002-05-01T21:46:59Z</dcterms:modified>
  <cp:revision>186</cp:revision>
  <dc:subject/>
  <dc:title>Factors that block creativity</dc:title>
</cp:coreProperties>
</file>