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4E60-5868-451B-9528-842C627B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D41-EEF7-42F9-B529-D774F23D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A4A7-0E5D-4F1C-8850-D918116A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E45-2F20-4C88-BE3E-927D9DCE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0CBA-DD9F-466C-8936-0B1957C9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3D3F-3391-492B-886E-E42AD236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67B9-0173-4C1E-A20B-7936B6B6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099E-813A-471A-A129-488EC5AE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DF4F-0B7F-438D-BAEE-0F797648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F197-B85B-46D7-9487-8E7C44E5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4E31-876B-4893-941B-302B6FF5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CF7-D324-45A8-8FC2-E36D45B8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8E4F-D80A-43ED-AFC0-44B120F3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C72D-FB1E-4C93-B24B-0474B928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5D0B-5D3A-49F2-BD6C-45FB402D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1F00-6D3E-44C2-B82E-B8F07D2A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FF08-44D9-42C0-ACA7-8297B7A5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598-20DC-4868-BD9C-8E9F85B2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FF4D-4CD2-46D8-88BA-EA3B0998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5D66-E71D-47D5-A7AC-4D7B23F4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A1C0-1E9B-49C8-82CD-2FBE3AD6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897A-5C81-4640-A191-2C541EFB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FA95-FC7C-43E9-A175-6D0AF3ED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2963-7434-43DB-A5EA-AF58E142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F0A4-BB2E-4A30-B90B-D43BD9ADEF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7600" y="106200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0280" y="106200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41440" y="14842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11160" y="148428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7080" y="1411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2120" y="9540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42800" y="1744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E6E4-62AD-4750-AB5C-B8830C8540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19160" y="1905120"/>
            <a:ext cx="715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ortgage Cho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12720" y="3733920"/>
            <a:ext cx="7156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Group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avid Barb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tthew Callah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rk Da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nty Gand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m Jozefac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es Sh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ristin Wh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Managerial Definition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purchasing a home, there are many different mortgage options available. We want to develop a model that will assess the optimal type of mortgage to minimize the overall cash outlays over the term of the loa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The Model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Crystal Ball simulation to determine the future interest rates to calculate future monthly payments for adjustable rate mortg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ical mortgage and interest rates will be used to determine the historical means and standard devi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Formulation - Inputs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rchase Price of H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 Pay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ngth of Mortgage (mont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Fixed Interest Rates (15 and 30 yea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M Margin and C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torical 1 Year Treasury Bill M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torical 1 Year Treasury Bill St. Dev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Formulation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 of Mortgage (Fixed v. 1, 3, 5, 7, 10 A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in interest rates for ARM’s from year to year and over the life of the lo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bjective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the total cash outlay over the term of the lo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ill actually measure this by the Internal Rate of Return (IRR) for each mortgage type (I.e. the mortgage with the lowest IRR is the cheapes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monthly pay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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mount of loan, mortgage type, interest ra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= time in mon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02:22:43Z</dcterms:created>
  <dc:creator>sutanto</dc:creator>
  <dc:description/>
  <dc:language>en-US</dc:language>
  <cp:lastModifiedBy>Matthew T. Callahan</cp:lastModifiedBy>
  <cp:lastPrinted>1999-11-19T15:32:46Z</cp:lastPrinted>
  <dcterms:modified xsi:type="dcterms:W3CDTF">2002-04-30T18:12:31Z</dcterms:modified>
  <cp:revision>607</cp:revision>
  <dc:subject/>
  <dc:title>No Slide Title</dc:title>
</cp:coreProperties>
</file>