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jpeg" ContentType="image/jpeg"/>
  <Override PartName="/ppt/media/image9.wmf" ContentType="image/x-wmf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0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4433-A823-4CCA-9F9F-703BE6025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x0008__x0008__x0008_Fixed costs (machine, pay operator @ least 4 hours/day – we’re in Swed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ble costs (materials, overtime labor, # of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% Discount for each late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trained by our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E99-3B79-42D3-83E9-F523843B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23880" y="38390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CE4D-0A67-44DE-B169-A9D6131D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770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24BA-60C6-41B4-AB68-F00B5430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6856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13240" y="13712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2388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6856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13240" y="3839040"/>
            <a:ext cx="22327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89CA-6418-4CCB-8C7D-75E5A578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EB1B-2876-40F6-ACE5-8F66C6EB7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0A7E-5557-4A4A-8327-1277AF9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6733-EB7A-4B76-A10A-71E85034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32FB-B1F5-41CE-A592-CBF67D004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23520" y="151920"/>
            <a:ext cx="76201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ACB-2939-48C6-A600-81A066E8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4447-31B5-4D1F-BF0C-3AEE392C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77080" y="38390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F00-63F8-4621-936F-A0C01015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77080" y="1371240"/>
            <a:ext cx="338364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23880" y="3839040"/>
            <a:ext cx="693432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A9D-127F-42D9-853B-6B73259A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0"/>
            <a:ext cx="815328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219320" y="914400"/>
            <a:ext cx="6476760" cy="152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84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D589-90ED-4180-A20D-21648B170F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window%20frames%20ready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-2362320" y="0"/>
            <a:ext cx="37990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&amp; Sons</a:t>
            </a:r>
            <a:br>
              <a:rPr sz="3600"/>
            </a:b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Glass Manufacturing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181120" y="3885840"/>
            <a:ext cx="2590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40000"/>
                </a:solidFill>
                <a:uFillTx/>
                <a:latin typeface="Tahoma"/>
              </a:rPr>
              <a:t>Team 9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Kavithy Chetti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Olaf Halfstorm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Laura Kupersmith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Michael Lesnik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40000"/>
                </a:solidFill>
                <a:latin typeface="Tahoma"/>
              </a:rPr>
              <a:t>Metta Murdayan</a:t>
            </a:r>
            <a:endParaRPr b="0" lang="en-US" sz="1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6019920"/>
            <a:ext cx="6477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4792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odel Demonstration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590560" y="4647960"/>
            <a:ext cx="190476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ata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&amp;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raph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666880" y="6019920"/>
            <a:ext cx="6477120" cy="152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600200" y="5562360"/>
            <a:ext cx="2514600" cy="7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3048120" y="5105160"/>
            <a:ext cx="2361960" cy="75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4495680"/>
            <a:ext cx="2362320" cy="763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42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76520" y="1219320"/>
          <a:ext cx="6933960" cy="41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693396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828800" y="57150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600200" y="5562720"/>
            <a:ext cx="7111800" cy="1143000"/>
            <a:chOff x="1600200" y="5562720"/>
            <a:chExt cx="7111800" cy="1143000"/>
          </a:xfrm>
        </p:grpSpPr>
        <p:sp>
          <p:nvSpPr>
            <p:cNvPr id="100" name=""/>
            <p:cNvSpPr/>
            <p:nvPr/>
          </p:nvSpPr>
          <p:spPr>
            <a:xfrm>
              <a:off x="1600200" y="5562720"/>
              <a:ext cx="7086600" cy="11430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8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" name=""/>
            <p:cNvGrpSpPr/>
            <p:nvPr/>
          </p:nvGrpSpPr>
          <p:grpSpPr>
            <a:xfrm>
              <a:off x="1664280" y="5639040"/>
              <a:ext cx="7047720" cy="916920"/>
              <a:chOff x="1664280" y="5639040"/>
              <a:chExt cx="7047720" cy="916920"/>
            </a:xfrm>
          </p:grpSpPr>
          <p:sp>
            <p:nvSpPr>
              <p:cNvPr id="102" name=""/>
              <p:cNvSpPr/>
              <p:nvPr/>
            </p:nvSpPr>
            <p:spPr>
              <a:xfrm>
                <a:off x="1664280" y="5639040"/>
                <a:ext cx="704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840000"/>
                    </a:solidFill>
                    <a:latin typeface="Tahoma"/>
                  </a:rPr>
                  <a:t>Average Waste Reduction Percentage per Style: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1881720" y="6096240"/>
                <a:ext cx="6601320" cy="459720"/>
                <a:chOff x="1881720" y="6096240"/>
                <a:chExt cx="6601320" cy="45972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1881720" y="6096240"/>
                  <a:ext cx="6601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840000"/>
                      </a:solidFill>
                      <a:latin typeface="Tahoma"/>
                    </a:rPr>
                    <a:t>Style 1: - 43%    Style 2: - 53%     Style 3: - 72%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3888000" y="6248520"/>
                  <a:ext cx="7596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249960" y="6248520"/>
                  <a:ext cx="76320" cy="763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5334120" y="2666880"/>
          <a:ext cx="3733560" cy="23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666880"/>
                    <a:ext cx="37335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523880" y="3962520"/>
            <a:ext cx="3733920" cy="2361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1523880" y="1371600"/>
            <a:ext cx="3733920" cy="23623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Waste Reduction by Styl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Key figure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28800" y="1905120"/>
          <a:ext cx="6095880" cy="3657600"/>
        </p:xfrm>
        <a:graphic>
          <a:graphicData uri="http://schemas.openxmlformats.org/drawingml/2006/table">
            <a:tbl>
              <a:tblPr/>
              <a:tblGrid>
                <a:gridCol w="2286000"/>
                <a:gridCol w="1778040"/>
                <a:gridCol w="2031840"/>
              </a:tblGrid>
              <a:tr h="59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Aver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Benchmar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duc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3 h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4 hrs regul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2 hrs over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fit /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$825.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High $1,5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Low $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Produced / 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221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840000"/>
                          </a:solidFill>
                          <a:latin typeface="Tahoma"/>
                        </a:rPr>
                        <a:t>One length40 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Conclusion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ptimal production schedul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Reduced wast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odel not suited to large order quantiti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ood improvement over ‘make large first’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al improvement over ‘make as they come’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Further Work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velop model that is less calculation intensive in order to handle large quantiti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sider future penalties when optimizing schedul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Use of remaining piece at end of order for next day’s order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Background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Solu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clusion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Objective: Mo’ money G!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duction Scheduling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aximize profit through intelligent use of resources 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cess Optimiz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ize waste through creation of optimal cutting li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&amp; Son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anufacturers windows to custom order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ffers three styles 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inimum lead time 10 day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Production sequenc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981080" y="5334120"/>
            <a:ext cx="6400800" cy="838080"/>
            <a:chOff x="1981080" y="5334120"/>
            <a:chExt cx="6400800" cy="838080"/>
          </a:xfrm>
        </p:grpSpPr>
        <p:sp>
          <p:nvSpPr>
            <p:cNvPr id="61" name=""/>
            <p:cNvSpPr/>
            <p:nvPr/>
          </p:nvSpPr>
          <p:spPr>
            <a:xfrm>
              <a:off x="198108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npu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73392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od’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che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8640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f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38880" y="5334120"/>
              <a:ext cx="11430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124080" y="5715000"/>
              <a:ext cx="609840" cy="152280"/>
            </a:xfrm>
            <a:prstGeom prst="rightArrow">
              <a:avLst>
                <a:gd name="adj1" fmla="val 50000"/>
                <a:gd name="adj2" fmla="val 10011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5715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9400" y="571500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vensson Model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1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Generate Order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2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termine production schedule 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(minimize production cost)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Stage 3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ptimize cutting list for minimum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waste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Production Schedule Constraints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40000"/>
                </a:solidFill>
                <a:uFillTx/>
                <a:latin typeface="Tahoma"/>
              </a:rPr>
              <a:t>Input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ixed co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Variable cost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Overtime penalt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livery requirements – late penalt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Resource availability (machine + labor)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105520"/>
            <a:ext cx="4572000" cy="581400"/>
          </a:xfrm>
          <a:prstGeom prst="rect">
            <a:avLst/>
          </a:prstGeom>
          <a:solidFill>
            <a:srgbClr val="b2b2b2"/>
          </a:solidFill>
          <a:ln w="76320">
            <a:solidFill>
              <a:srgbClr val="813603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40000"/>
                </a:solidFill>
                <a:latin typeface="Tahoma"/>
              </a:rPr>
              <a:t>Goal: Maximize Prof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05120" y="4267080"/>
            <a:ext cx="1523880" cy="302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40000"/>
                </a:solidFill>
                <a:latin typeface="Brush Script MT"/>
              </a:rPr>
              <a:t>$$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5029200"/>
            <a:ext cx="1523880" cy="1557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840000"/>
                </a:solidFill>
                <a:latin typeface="Brush Script MT"/>
              </a:rPr>
              <a:t>$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Schedule Optimization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cision variabl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Make today?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Constraint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Resource availability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Delivery date – late penalty 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Labor costs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Delivery date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Methodology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Evolutionary solver (trial and error)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763120" y="6553080"/>
            <a:ext cx="114120" cy="76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inimize Wast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pic>
        <p:nvPicPr>
          <p:cNvPr id="79" name="waste%20material%201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5791320" cy="2881440"/>
          </a:xfrm>
          <a:prstGeom prst="rect">
            <a:avLst/>
          </a:prstGeom>
          <a:ln w="0">
            <a:noFill/>
          </a:ln>
        </p:spPr>
      </p:pic>
      <p:pic>
        <p:nvPicPr>
          <p:cNvPr id="80" name="priceisright" descr=""/>
          <p:cNvPicPr/>
          <p:nvPr/>
        </p:nvPicPr>
        <p:blipFill>
          <a:blip r:embed="rId3"/>
          <a:srcRect l="0" t="0" r="70597" b="0"/>
          <a:stretch/>
        </p:blipFill>
        <p:spPr>
          <a:xfrm>
            <a:off x="1676520" y="5410080"/>
            <a:ext cx="1371600" cy="1108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1" name="bob&amp;beauties" descr=""/>
          <p:cNvPicPr/>
          <p:nvPr/>
        </p:nvPicPr>
        <p:blipFill>
          <a:blip r:embed="rId4"/>
          <a:stretch/>
        </p:blipFill>
        <p:spPr>
          <a:xfrm>
            <a:off x="6934320" y="4343400"/>
            <a:ext cx="1714320" cy="2286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7467480" y="1523880"/>
            <a:ext cx="1600200" cy="1828800"/>
          </a:xfrm>
          <a:prstGeom prst="wedgeRoundRectCallout">
            <a:avLst>
              <a:gd name="adj1" fmla="val -33333"/>
              <a:gd name="adj2" fmla="val 11423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dea is to come as close to 40ft without going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40000"/>
                </a:solidFill>
                <a:latin typeface="Tahoma"/>
              </a:rPr>
              <a:t>Minimize Waste</a:t>
            </a:r>
            <a:endParaRPr b="0" lang="en-US" sz="3600" spc="-1" strike="noStrike">
              <a:solidFill>
                <a:srgbClr val="84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6934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Decision Variables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Assign piece to certain stock length (1,2,3….j)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4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40000"/>
                </a:solidFill>
                <a:latin typeface="Tahoma"/>
              </a:rPr>
              <a:t>Formulation</a:t>
            </a: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Subset i = Number of piece identification 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4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40000"/>
                </a:solidFill>
                <a:latin typeface="Tahoma"/>
              </a:rPr>
              <a:t>Subset j = Length identification</a:t>
            </a:r>
            <a:endParaRPr b="0" lang="en-US" sz="20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000"/>
              </a:solidFill>
              <a:latin typeface="Tahoma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3886200" y="4267080"/>
          <a:ext cx="228600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4267080"/>
                    <a:ext cx="228600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20:42:42Z</dcterms:created>
  <dc:creator>Michael Lesnie</dc:creator>
  <dc:description/>
  <dc:language>en-US</dc:language>
  <cp:lastModifiedBy>Ola Holmstrom</cp:lastModifiedBy>
  <dcterms:modified xsi:type="dcterms:W3CDTF">2002-05-01T21:55:04Z</dcterms:modified>
  <cp:revision>13</cp:revision>
  <dc:subject/>
  <dc:title>Svensson &amp; Sons Glass Manufacturing</dc:title>
</cp:coreProperties>
</file>