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53FA-CFAC-4B59-B042-5BE64215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A063-4329-4BB9-A412-5FCCECF4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E55E-74CC-47E7-A170-1491D95A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189-0463-40AD-98E6-E3F14353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C565-FD8E-4AD0-8581-91804259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4352-77F8-4E7C-A6F2-2B7C5277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A5AA-E49A-4F4C-A64E-CB9F3D49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4BB7-4175-41ED-98F2-51494694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1C89-6DB6-4945-9730-5EAB4308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3603-8CCA-4541-92A9-86955043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81A5-7709-45BA-9309-6542FBD1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2E06-2E17-48C1-A67A-CF028A4A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4853-B25E-4491-911C-5A6056DB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9DD0-4D84-4F30-B350-C55F1C1C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04DD-5D52-47D4-AD71-51C7ACF4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5B6F-A005-41B9-82F8-D785204E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103C-89BA-48C2-A312-E91C0CB8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08A7-8872-4E84-A644-DF3CB6A5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3D60-C7E0-4DBC-9982-29AC49EC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8479-1BD6-419B-A24C-10FAC833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F86D-6BF9-433E-86F0-68F8624D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8044-108C-4889-997F-F2286286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21FE-52D8-4BCB-86BA-476C70BD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655E-1D15-4A6E-906A-3C157DC2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E3D0-AD80-45A9-B1EB-6D6024013A98}" type="slidenum">
              <a:rPr b="1" lang="en-US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13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57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64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E07E-2C14-4783-ABCB-4EFBEE20523E}" type="slidenum">
              <a:rPr b="1" lang="en-US" sz="3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lan Your Ultimate European Vaca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48765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ahoma"/>
              </a:rPr>
              <a:t>Annie Zheng </a:t>
            </a:r>
            <a:endParaRPr b="0" lang="en-US" sz="28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ahoma"/>
              </a:rPr>
              <a:t>Mirey Sen</a:t>
            </a:r>
            <a:endParaRPr b="0" lang="en-US" sz="28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ahoma"/>
              </a:rPr>
              <a:t>Jie Qu</a:t>
            </a:r>
            <a:endParaRPr b="0" lang="en-US" sz="28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ahoma"/>
              </a:rPr>
              <a:t>Matthew Nicklos</a:t>
            </a:r>
            <a:endParaRPr b="0" lang="en-US" sz="28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ahoma"/>
              </a:rPr>
              <a:t>John Bennett</a:t>
            </a:r>
            <a:endParaRPr b="0" lang="en-US" sz="28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Model Overview - Utility Func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274284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Optimal solution based on utility point system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oints are allocated based on user’s ranking of the city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Ex. 100 points/day for highest priority city, 90 points for next highest priority, etc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Utility increases with accommodation typ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2639880" y="5570640"/>
            <a:ext cx="19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Accommodation Type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09720" y="5778360"/>
            <a:ext cx="167004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1920" y="5570640"/>
            <a:ext cx="11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Utility Points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54760" y="5778360"/>
            <a:ext cx="141444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5000" y="5818320"/>
            <a:ext cx="65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Budget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1280" y="5818320"/>
            <a:ext cx="12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1x base utility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41400" y="6066000"/>
            <a:ext cx="9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Mid-range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21280" y="6066000"/>
            <a:ext cx="12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2x base utility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55800" y="6311880"/>
            <a:ext cx="74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Top-end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21280" y="6311880"/>
            <a:ext cx="12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3x base utility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Model Overview - Penalty System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ailure to visit most preferred city -500 point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xcessive travel time penalti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&lt;0.5 hr.                  0 point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0.5&lt; t &lt;5.0 hr.       10 point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5.0&lt; t &lt;10 hr.        30 point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10&lt; t &lt;15 hr.         50 point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15&lt; t &lt;24 hr.         80 point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&gt;24 hr.                100 point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xcessive stays at destinations based on city prioriti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(# days over min. days) X (penalty points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Model Overview - Penalty Tabl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830592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Model Output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3423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Suggestions for Version 2.0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4920" y="26668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eed to run the solver multiple times to get consistent result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n some cases, there is clearly room for improvement but Solver stops optimizin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dd more functionality to enable user to further customize vaca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Refine method of assigning utility point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3998880" cy="5034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181480" y="1371600"/>
            <a:ext cx="3200400" cy="1066680"/>
          </a:xfrm>
          <a:prstGeom prst="wedgeRoundRectCallout">
            <a:avLst>
              <a:gd name="adj1" fmla="val -115180"/>
              <a:gd name="adj2" fmla="val 164287"/>
              <a:gd name="adj3" fmla="val 16667"/>
            </a:avLst>
          </a:prstGeom>
          <a:solidFill>
            <a:srgbClr val="cc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182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160020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436840" y="1219320"/>
          <a:ext cx="370692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6840" y="1219320"/>
                    <a:ext cx="370692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6197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roject Overview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Managerial Problem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efini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ormula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Model Overview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uggestions for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ersion 2.0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343400" y="1219320"/>
            <a:ext cx="4711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ject Overview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251460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 trip planner for your European vacation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15 possible destinatio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gnificant user customization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rioritization of destination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Budget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Length of stay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Class of service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inimize travel tim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76520" y="3276720"/>
            <a:ext cx="662940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Managerial Problem Defini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74284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o maximize vacation enjoyment of our customers, given their individual preferences and constraint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e consider the following criteri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Prioritization of citi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inimum stay at priority citi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raveler’s budge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Length of trip: 5, 15, 21, 30, 60 day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lass of service: budget, midrange, top-end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tarting cit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Formula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4382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ecision Variables:  Which cities to visit and for how lo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Objective: To maximize “utility” of traveler based on individual preferenc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onstraint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inimum stay in each desired cit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User specified priority citi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Default minimum stay of 1 day for non-priority citi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nnot visit a city more than onc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rip cost must be less than specified budge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Non-negativit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Objective Data Used in Model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320" y="1824120"/>
            <a:ext cx="899136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Model Overview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ignificant user customization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Utility point system based on user preferences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Utility reduced by penalty point syste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Output based on utility maximiza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ser Input Scree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475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2T21:31:28Z</dcterms:created>
  <dc:creator>Joanne Lupatkin</dc:creator>
  <dc:description/>
  <dc:language>en-US</dc:language>
  <cp:lastModifiedBy>Annie Zheng</cp:lastModifiedBy>
  <cp:lastPrinted>2000-04-25T19:59:41Z</cp:lastPrinted>
  <dcterms:modified xsi:type="dcterms:W3CDTF">2002-05-01T22:58:57Z</dcterms:modified>
  <cp:revision>73</cp:revision>
  <dc:subject/>
  <dc:title>Title of Presentation</dc:title>
</cp:coreProperties>
</file>