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B460-9F40-483D-AB4F-87F31FF8E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Palmolive uses a centralized Global Information Technology (GIT) department to create global IT solutions, subsequently used in Colgate subsidiaries around the world.  After the global model is developed, a project is created and staffed in order to roll-out the global model to the regional sub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Recently, Colgate developed a “key performance indicator” (KPI) solution to track customer service.  This tool reports Colgate’s customer service by providing benchmarks such as the “% of orders shipped complete”, “% of orders on-time”, the “average customer order cycle time”, and many others.  The goal of this tool is to create consistency of KPI calculations across regions, create transparency of data within and across regions, and create consolidation of reports.  This in turn will allow management to identify areas of needed improvement in the supply chain throughout the Colgate world and implement the appropriate process chang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The challenge that Colgate IT now faces is to determine the most cost-effective way to install this KPI tool in all subsidiaries around the world.  Although most regions use the same underlying transaction system, the way those systems are set-up and maintained differs from region to region.  In addition, the customer order process can vary substantially between regions.  So Colgate must take the time to review the business rules in each region and insure that there are no major gaps between the business assumptions used in the global model, and those used in the subsidia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IT is organized into one Global IT department (GIT) and several regional “shared service organizations” (SSO’s)  The objective of the regional SSO is to provide local implementation support to Global initiatives and to provide full IT support to regional initiatives.  Therefore, the roll-out of Customer Service KPI’s will require resources from GIT, the regional SSO, and the regional business users.  Each SSO supports multiple countries in its region and is responsible for interfacing with the key business users and local IT staff at each lo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is trying to determine how long each region will take.  The first region to be rolled out is Asia.  The attached table shows a list of necessary tasks that must occur in order for each country to “go-live” with the Customer Service KPI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There are some things to consider.  First, the countries can start the process in parallel.  So China and Malaysia can be rolling out the product simultaneously, for example.  The same GIT and SSO resources are utilized for all regions.  So there are constraints on their time.  The total available resource from GIT is 1.0 full-time equivalents.  The total available resource from the SSO is 1.0 full-time equivalents.  The business resources for each subsidiary are independent of one another.  The Malaysia business resource is not the same person as the China business resource, for example.  Total business resources available are .5 full-time equivalents per country.  For simplicity, we will assume that work begins in the second quarter of 2002.  There are 5 working days in a week and no holidays.  When will the roll-out of the 3 Asian countries be comple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EA3B3-669A-42BC-BCAC-0C6B3FCA1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8712-1B74-489B-B521-7503B36B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6CB70-98E5-4DF7-97CE-D404804C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522D-E0A1-4814-B79D-DEA5FDC80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006D5-2FF3-457D-A6D1-6D343C36E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0EBC2-6891-4051-8D54-F00233C69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CACFC-53FC-41A1-88E2-93FF9F367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AAF92-B4BA-4968-8455-976A2851F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E07C4-A1F6-4206-9D24-696886C49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D0016-85AA-447E-9963-75B5A12E3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C4D47-9668-4CE2-A622-1D7B8ECCE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111C-EA86-45C0-87C8-1FEBFDE7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F2BAD-5E82-4373-B179-29184782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3A10-031D-4EAC-85AC-0BEDD0E6D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F8F6-8F02-4DAA-BC95-1BDAE1735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14C58-ACBB-4B42-A722-35C20FA52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1E67F-297B-4830-BD34-66EBD3B67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CB84-5BD3-4CB6-9FE8-E24A7757F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1A2E-B4DA-4A05-9725-DFF94CDE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ABEEE-73BC-426E-9DAB-6F182C06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9C50B-6325-4806-8B03-75C5A90A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2AB5B-5C2E-4A0E-8415-B05DDE41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3F77-A1C7-4CC8-BD6E-BFBDF7A7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FF82-E5CB-48CD-923F-C9B119376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8002-6614-48D0-9D99-31B4C46D39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750D-1916-403D-BB11-47F159FA5C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Book Antiqua"/>
                <a:ea typeface="MS Mincho"/>
              </a:rPr>
              <a:t>Data Warehousing at Colgate Palmolive</a:t>
            </a:r>
            <a:br>
              <a:rPr sz="3600"/>
            </a:b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20574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shua Fluh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vid Fost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sh Kuma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oria Lowth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ly Shacham</a:t>
            </a:r>
            <a:endParaRPr b="0" lang="en-US" sz="2800" spc="-1" strike="noStrike">
              <a:solidFill>
                <a:srgbClr val="ffffff"/>
              </a:solidFill>
              <a:latin typeface="Times New Roman"/>
            </a:endParaRPr>
          </a:p>
        </p:txBody>
      </p:sp>
      <p:pic>
        <p:nvPicPr>
          <p:cNvPr id="98" name="" descr=""/>
          <p:cNvPicPr/>
          <p:nvPr/>
        </p:nvPicPr>
        <p:blipFill>
          <a:blip r:embed="rId1"/>
          <a:srcRect l="21093" t="17709" r="65628" b="67712"/>
          <a:stretch/>
        </p:blipFill>
        <p:spPr>
          <a:xfrm>
            <a:off x="457200" y="380880"/>
            <a:ext cx="1295280" cy="1067040"/>
          </a:xfrm>
          <a:prstGeom prst="rect">
            <a:avLst/>
          </a:prstGeom>
          <a:ln w="0">
            <a:noFill/>
          </a:ln>
        </p:spPr>
      </p:pic>
      <p:pic>
        <p:nvPicPr>
          <p:cNvPr id="99" name="" descr=""/>
          <p:cNvPicPr/>
          <p:nvPr/>
        </p:nvPicPr>
        <p:blipFill>
          <a:blip r:embed="rId2">
            <a:lum bright="6000"/>
          </a:blip>
          <a:srcRect l="21093" t="29168" r="32031" b="63543"/>
          <a:stretch/>
        </p:blipFill>
        <p:spPr>
          <a:xfrm>
            <a:off x="3200400" y="685800"/>
            <a:ext cx="4572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 . &amp; more Solver!</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762120" y="1981080"/>
            <a:ext cx="7619760" cy="449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Dialog Box</a:t>
            </a:r>
            <a:endParaRPr b="0" lang="en-US" sz="4400" spc="-1" strike="noStrike">
              <a:solidFill>
                <a:srgbClr val="cbcbcb"/>
              </a:solidFill>
              <a:latin typeface="Times New Roman"/>
            </a:endParaRPr>
          </a:p>
        </p:txBody>
      </p:sp>
      <p:pic>
        <p:nvPicPr>
          <p:cNvPr id="125" name="" descr=""/>
          <p:cNvPicPr/>
          <p:nvPr/>
        </p:nvPicPr>
        <p:blipFill>
          <a:blip r:embed="rId1"/>
          <a:srcRect l="24220" t="37501" r="31253" b="30211"/>
          <a:stretch/>
        </p:blipFill>
        <p:spPr>
          <a:xfrm>
            <a:off x="1295280" y="2286000"/>
            <a:ext cx="7239240" cy="39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ond Approach - Microsoft Project</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753480" cy="708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75348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Crashing</a:t>
            </a:r>
            <a:endParaRPr b="0" lang="en-US" sz="4400" spc="-1" strike="noStrike">
              <a:solidFill>
                <a:srgbClr val="cbcbcb"/>
              </a:solidFill>
              <a:latin typeface="Times New Roman"/>
            </a:endParaRPr>
          </a:p>
        </p:txBody>
      </p:sp>
      <p:graphicFrame>
        <p:nvGraphicFramePr>
          <p:cNvPr id="130" name=""/>
          <p:cNvGraphicFramePr/>
          <p:nvPr/>
        </p:nvGraphicFramePr>
        <p:xfrm>
          <a:off x="609480" y="1752480"/>
          <a:ext cx="7810560" cy="4934160"/>
        </p:xfrm>
        <a:graphic>
          <a:graphicData uri="http://schemas.openxmlformats.org/presentationml/2006/ole">
            <p:oleObj progId="Excel.Sheet.12" r:id="rId1" spid="">
              <p:embed/>
              <p:pic>
                <p:nvPicPr>
                  <p:cNvPr id="131" name="" descr=""/>
                  <p:cNvPicPr/>
                  <p:nvPr/>
                </p:nvPicPr>
                <p:blipFill>
                  <a:blip r:embed="rId2"/>
                  <a:stretch/>
                </p:blipFill>
                <p:spPr>
                  <a:xfrm>
                    <a:off x="609480" y="1752480"/>
                    <a:ext cx="7810560" cy="49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Crashing</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to crash the project completion time per $100,000 additional cos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mentary Dear Watson</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Duration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Duration – Crash Tim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ash Tim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Duration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 </a:t>
            </a:r>
            <a:r>
              <a:rPr b="1" lang="en-US" sz="3200" spc="-1" strike="noStrike">
                <a:solidFill>
                  <a:srgbClr val="ffffff"/>
                </a:solidFill>
                <a:latin typeface="Arial"/>
              </a:rPr>
              <a:t>[Basic Duration/(1+Addl. F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Book Antiqua"/>
                <a:ea typeface="MS Mincho"/>
              </a:rPr>
              <a:t>Global Technology</a:t>
            </a:r>
            <a:r>
              <a:rPr b="0" lang="en-US" sz="4400" spc="-1" strike="noStrike">
                <a:solidFill>
                  <a:srgbClr val="cbcbcb"/>
                </a:solidFill>
                <a:latin typeface="Times New Roman"/>
              </a:rPr>
              <a:t> at Colgate</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Global information technology (GIT) department</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Global IT solutions are used in Colgate subsidiaries around the world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model is rolled out to the regional subs</a:t>
            </a:r>
            <a:endParaRPr b="1" lang="en-US" sz="3200" spc="-1" strike="noStrike">
              <a:solidFill>
                <a:srgbClr val="ffffff"/>
              </a:solidFill>
              <a:latin typeface="Arial"/>
            </a:endParaRPr>
          </a:p>
        </p:txBody>
      </p:sp>
      <p:graphicFrame>
        <p:nvGraphicFramePr>
          <p:cNvPr id="102" name=""/>
          <p:cNvGraphicFramePr/>
          <p:nvPr/>
        </p:nvGraphicFramePr>
        <p:xfrm>
          <a:off x="6858000" y="5257800"/>
          <a:ext cx="1755720" cy="1387440"/>
        </p:xfrm>
        <a:graphic>
          <a:graphicData uri="http://schemas.openxmlformats.org/presentationml/2006/ole">
            <p:oleObj r:id="rId1" spid="">
              <p:embed/>
              <p:pic>
                <p:nvPicPr>
                  <p:cNvPr id="103" name="" descr=""/>
                  <p:cNvPicPr/>
                  <p:nvPr/>
                </p:nvPicPr>
                <p:blipFill>
                  <a:blip r:embed="rId2"/>
                  <a:stretch/>
                </p:blipFill>
                <p:spPr>
                  <a:xfrm>
                    <a:off x="6858000" y="5257800"/>
                    <a:ext cx="175572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Dialogue Box</a:t>
            </a:r>
            <a:endParaRPr b="0" lang="en-US" sz="4400" spc="-1" strike="noStrike">
              <a:solidFill>
                <a:srgbClr val="cbcbcb"/>
              </a:solidFill>
              <a:latin typeface="Times New Roman"/>
            </a:endParaRPr>
          </a:p>
        </p:txBody>
      </p:sp>
      <p:sp>
        <p:nvSpPr>
          <p:cNvPr id="139" name=""/>
          <p:cNvSpPr/>
          <p:nvPr/>
        </p:nvSpPr>
        <p:spPr>
          <a:xfrm>
            <a:off x="240516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762120" y="2133720"/>
            <a:ext cx="7729560" cy="42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Table Results</a:t>
            </a:r>
            <a:endParaRPr b="0" lang="en-US" sz="4400" spc="-1" strike="noStrike">
              <a:solidFill>
                <a:srgbClr val="cbcbcb"/>
              </a:solidFill>
              <a:latin typeface="Times New Roman"/>
            </a:endParaRPr>
          </a:p>
        </p:txBody>
      </p:sp>
      <p:pic>
        <p:nvPicPr>
          <p:cNvPr id="142" name="" descr=""/>
          <p:cNvPicPr/>
          <p:nvPr/>
        </p:nvPicPr>
        <p:blipFill>
          <a:blip r:embed="rId1"/>
          <a:stretch/>
        </p:blipFill>
        <p:spPr>
          <a:xfrm>
            <a:off x="1371600" y="1447920"/>
            <a:ext cx="6872400" cy="51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current assumptions, project ends in November</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 can be crashed back to August at a cost of $200,000</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 benefits are maximized when all subsidiaries are installe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benefits are difficult to quantify</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 It Worth It?</a:t>
            </a: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just 3 subsidiaries, probably no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80 subsidiaries total, maybe</a:t>
            </a:r>
            <a:r>
              <a:rPr b="1" lang="en-US" sz="3200" spc="-1" strike="noStrike">
                <a:solidFill>
                  <a:srgbClr val="ffffff"/>
                </a:solidFill>
                <a:latin typeface="Courier New"/>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PI Solution</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PI = key performance indicato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cks customer servic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Creates consistency of KPI calculations across regions</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Allows management to identify areas of needed improvement in the supply chai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hallenge</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Determine the most cost-effective way to install this KPI tool in all subsidiaries around the world</a:t>
            </a:r>
            <a:r>
              <a:rPr b="1" lang="en-US" sz="3200" spc="-1" strike="noStrike">
                <a:solidFill>
                  <a:srgbClr val="ffffff"/>
                </a:solidFill>
                <a:latin typeface="Arial"/>
              </a:rPr>
              <a:t> </a:t>
            </a:r>
            <a:endParaRPr b="1" lang="en-US" sz="3200" spc="-1" strike="noStrike">
              <a:solidFill>
                <a:srgbClr val="ffffff"/>
              </a:solidFill>
              <a:latin typeface="Arial"/>
            </a:endParaRPr>
          </a:p>
        </p:txBody>
      </p:sp>
      <p:pic>
        <p:nvPicPr>
          <p:cNvPr id="108" name="bd00028_" descr=""/>
          <p:cNvPicPr/>
          <p:nvPr/>
        </p:nvPicPr>
        <p:blipFill>
          <a:blip r:embed="rId1"/>
          <a:stretch/>
        </p:blipFill>
        <p:spPr>
          <a:xfrm>
            <a:off x="3429000" y="4114800"/>
            <a:ext cx="1676520" cy="16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gs to Consider</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The countries can start the process in parallel</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The same GIT (global information technology ) and SSO (shared service organizations)  resources are utilized for all regions</a:t>
            </a: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rst Approach - Excel</a:t>
            </a:r>
            <a:endParaRPr b="0" lang="en-US" sz="4400" spc="-1" strike="noStrike">
              <a:solidFill>
                <a:srgbClr val="cbcbcb"/>
              </a:solidFill>
              <a:latin typeface="Times New Roman"/>
            </a:endParaRPr>
          </a:p>
        </p:txBody>
      </p:sp>
      <p:sp>
        <p:nvSpPr>
          <p:cNvPr id="112" name="PlaceHolder 2"/>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ample Data</a:t>
            </a:r>
            <a:endParaRPr b="0" lang="en-US" sz="4400" spc="-1" strike="noStrike">
              <a:solidFill>
                <a:srgbClr val="cbcbcb"/>
              </a:solidFill>
              <a:latin typeface="Times New Roman"/>
            </a:endParaRPr>
          </a:p>
        </p:txBody>
      </p:sp>
      <p:sp>
        <p:nvSpPr>
          <p:cNvPr id="114" name="PlaceHolder 2"/>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pic>
        <p:nvPicPr>
          <p:cNvPr id="115" name="" descr=""/>
          <p:cNvPicPr/>
          <p:nvPr/>
        </p:nvPicPr>
        <p:blipFill>
          <a:blip r:embed="rId1"/>
          <a:stretch/>
        </p:blipFill>
        <p:spPr>
          <a:xfrm>
            <a:off x="380880" y="1981080"/>
            <a:ext cx="8534520" cy="453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UGLY! – the Gant Chart . . .</a:t>
            </a:r>
            <a:endParaRPr b="0" lang="en-US" sz="4400" spc="-1" strike="noStrike">
              <a:solidFill>
                <a:srgbClr val="cbcbcb"/>
              </a:solidFill>
              <a:latin typeface="Times New Roman"/>
            </a:endParaRPr>
          </a:p>
        </p:txBody>
      </p:sp>
      <p:grpSp>
        <p:nvGrpSpPr>
          <p:cNvPr id="117" name=""/>
          <p:cNvGrpSpPr/>
          <p:nvPr/>
        </p:nvGrpSpPr>
        <p:grpSpPr>
          <a:xfrm>
            <a:off x="533520" y="2209680"/>
            <a:ext cx="7772400" cy="4114800"/>
            <a:chOff x="533520" y="2209680"/>
            <a:chExt cx="7772400" cy="4114800"/>
          </a:xfrm>
        </p:grpSpPr>
        <p:pic>
          <p:nvPicPr>
            <p:cNvPr id="118" name="" descr=""/>
            <p:cNvPicPr/>
            <p:nvPr/>
          </p:nvPicPr>
          <p:blipFill>
            <a:blip r:embed="rId1"/>
            <a:stretch/>
          </p:blipFill>
          <p:spPr>
            <a:xfrm>
              <a:off x="533520" y="2209680"/>
              <a:ext cx="7772400" cy="4114800"/>
            </a:xfrm>
            <a:prstGeom prst="rect">
              <a:avLst/>
            </a:prstGeom>
            <a:ln w="0">
              <a:noFill/>
            </a:ln>
          </p:spPr>
        </p:pic>
        <p:sp>
          <p:nvSpPr>
            <p:cNvPr id="119" name=""/>
            <p:cNvSpPr txBox="1"/>
            <p:nvPr/>
          </p:nvSpPr>
          <p:spPr>
            <a:xfrm>
              <a:off x="533520" y="22096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 . &amp;  Solver!?</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762120" y="1981080"/>
            <a:ext cx="7619760" cy="445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9:00:49Z</dcterms:created>
  <dc:creator>Orly shacham</dc:creator>
  <dc:description/>
  <dc:language>en-US</dc:language>
  <cp:lastModifiedBy>Manish Kumar</cp:lastModifiedBy>
  <dcterms:modified xsi:type="dcterms:W3CDTF">2002-04-27T15:23:13Z</dcterms:modified>
  <cp:revision>67</cp:revision>
  <dc:subject/>
  <dc:title>Data Warehousing at Colgate Palmol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38491196</vt:r8>
  </property>
  <property fmtid="{D5CDD505-2E9C-101B-9397-08002B2CF9AE}" pid="3" name="_AuthorEmail">
    <vt:lpwstr>mk789@stern.nyu.edu</vt:lpwstr>
  </property>
  <property fmtid="{D5CDD505-2E9C-101B-9397-08002B2CF9AE}" pid="4" name="_AuthorEmailDisplayName">
    <vt:lpwstr>Manish Kumar</vt:lpwstr>
  </property>
  <property fmtid="{D5CDD505-2E9C-101B-9397-08002B2CF9AE}" pid="5" name="_EmailSubject">
    <vt:lpwstr>Executive Summary</vt:lpwstr>
  </property>
  <property fmtid="{D5CDD505-2E9C-101B-9397-08002B2CF9AE}" pid="6" name="_PreviousAdHocReviewCycleID">
    <vt:r8>-938491196</vt:r8>
  </property>
</Properties>
</file>