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A9E1-A644-470B-8273-AA361635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5BF-6253-4C8C-836E-F39AF922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AE8-DC1E-46CA-9225-06AD7056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076-2930-4F0C-9111-E4F05A55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F910-8322-4468-915B-4E65FDC1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99C7-BE05-41FC-BBDC-5F19928B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8A24-DBA9-4AC3-8FCA-D974ACE6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9BFA-2E5B-40D2-975E-6CB116B2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30BF-BCE5-4E1D-A990-6D769E05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720E-6F37-41EF-A545-81C6C957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9EA4-766B-450F-A607-9DA8D17E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A3ED-76A0-4071-A37C-63DFEC26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A565-4BA9-4876-81F8-57ECA243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9AD6-A9BE-4156-8593-B455DC35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6956-51B4-4FD4-A5DE-E3C55C83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A952-86D5-4DC3-B0C9-E4609D51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29E6-8589-4D62-BA2D-195948F6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E9A3-6CD6-40E9-B4D7-E14E55F0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187-51B9-4799-A2BB-40AD5E7B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8707-D59F-428E-9942-C006CC66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52A-E240-4B3B-8689-5075D44A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4037-B220-47BD-88B2-31B4B6CA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96BF-D345-4CE3-9398-57801B24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B0D-E3C1-43EB-B11B-4DC11082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7FB0-B5BC-4878-BB0A-60F4D6118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2E47-4C6D-4F13-9644-F550DF785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54036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asino Juran</a:t>
            </a:r>
            <a:br>
              <a:rPr sz="7200"/>
            </a:b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BlackJack2000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071800" y="4290840"/>
            <a:ext cx="54957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ff Li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hn K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 1, 20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d a six-deck shoe with no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layer against the dealer, 10,000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d payout rates under various rule regi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d success rates under different player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1CD-45F9-4E94-8DA4-8C7CBF1B5E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ing BlackJac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have taken odds from book or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have calculated odds using probability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eing a modeling class, we decided to model BJ play and run simulation to generate probable outcomes given playing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modularity in playing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modularity in house rules and pay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A8E-1762-403E-A862-81660B73CF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213080" cy="51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8C1-48D1-4173-A0C0-B01D945AE2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J Play and P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2438280"/>
            <a:ext cx="7924680" cy="4267440"/>
            <a:chOff x="914400" y="2438280"/>
            <a:chExt cx="7924680" cy="4267440"/>
          </a:xfrm>
        </p:grpSpPr>
        <p:sp>
          <p:nvSpPr>
            <p:cNvPr id="154" name=""/>
            <p:cNvSpPr/>
            <p:nvPr/>
          </p:nvSpPr>
          <p:spPr>
            <a:xfrm>
              <a:off x="914400" y="2438280"/>
              <a:ext cx="7924680" cy="426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1054440" y="2512800"/>
              <a:ext cx="7398720" cy="256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124640" y="5283000"/>
              <a:ext cx="739872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>
              <a:off x="1124640" y="5807160"/>
              <a:ext cx="7398720" cy="49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990720" y="1600200"/>
            <a:ext cx="3990960" cy="67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34C-2A72-43A4-A25E-0EE7A62881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514600" y="609480"/>
            <a:ext cx="6324120" cy="5943240"/>
            <a:chOff x="2514600" y="609480"/>
            <a:chExt cx="6324120" cy="594324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2514600" y="609480"/>
              <a:ext cx="632412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2514600" y="849240"/>
              <a:ext cx="6302160" cy="570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838080" y="114300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lay &amp; 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.g.: Splitting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3EA-8699-48F1-B706-C19BA46BF9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895480" y="152280"/>
          <a:ext cx="5762880" cy="648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52280"/>
                    <a:ext cx="5762880" cy="64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066680" y="304920"/>
            <a:ext cx="289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ne Hand of BJ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Decision Fo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0BF-634C-4AFC-92E2-1A6F118688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Strateg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6095880" cy="5081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1485720" cy="281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7A7-F790-4DE4-8377-7632586185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er Strateg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200400" y="1981080"/>
            <a:ext cx="2612880" cy="39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527-B8E9-47C7-946D-9D9190CE08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u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Crystal Ball, we ran two simulations of 10,000 BJ hands eac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for the standard BJ payout of 1.5x, one for BJ2000 payout of 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followed basic strategy and basic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House Take percentage under different payout reg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BFA-C269-4CB0-838D-CD50BD7E89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ulation Resul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8077320" cy="4876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676520" y="129528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of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CD2-E8ED-47FF-9ED1-0E8B115132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erial Problem Defini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ino revenues are stag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ino wants to start a new marketing campaign to draw more customers to the BJ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onsidering numerous options, market research has determined that traditional casino tactics such as manipulating playing rules to improve player’s odds have not been sufficiently effective in drawing 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A3B-6EF8-4242-9606-3DF1BCA143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House Take is 4.7%, ie for every $1 wagered the house keeps about a nic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Js on first hand represent 4.65% of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ing an additional 33% payout for each BJ (including those on splits) will reduce the House Take by almost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asino adopts the BJ2x payout, the House Take drops to 3.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2E2-A2DC-4131-83A4-6CD585B132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usiness Deci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924680" cy="1076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279440" y="3241800"/>
            <a:ext cx="7559640" cy="1922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asino decides to offer the BJ 2x payout, the marketing campaign must deliver an additional 24% more dollars wagered, either in the form of additional players, more hands played, or bigger b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B83-46A3-4F6D-972B-DAFBED9306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nal Though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 of modeling one hand of B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se simple “problem” to demonstrate simul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uses of BJ model—flexibility/ modu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impact of other decision rules on casino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876-7BCC-49D5-809D-BFEC3EEEB2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erial Problem Defini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gamblers really want is more winnings—i.e., bigger pay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department recommends advertising campaign based on “BlackJack2000: Double Payout for all BlackJack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: to estimate the impact on the house “take” and determine the necessary increase in play volume required to equalize profit under the two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1D9-D0DC-4621-A5CB-B875B6D399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cking the Problem with a Blackjack Simulation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model that would accurately calculate house ta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layer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ayou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ly use the model as a base to optimize other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16A-DA1C-4D1E-90ED-411B7AA0E1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ino Da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,000 blackjack hands per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er’s edge is 4.7% or $0.47 per hand on a $10 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payout for blackjack is 1.5x; payout for a win is 1.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8AA-6B3D-4ABE-8069-970176E8DA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u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of Hands Played (or dollars wage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remain profi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a genuine increase in value for players—a compelling dr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CE88-F6ED-4B16-BDDC-7D045C0718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sion Var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payout because odds are fixed (assuming decks are “fair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know what increase in volume of hands played will result in equal profits to th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ED8-23AA-432F-9724-8353261BFF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 Fun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2.0x payout instead of the standard 1.5x p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Take Differential = Expected Percentage under the two payout ra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= (Average Wager x Volume) x House 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720-5F58-4279-B050-5005FE903F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 under the two payout schemes must be eq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53D-BA51-45DD-87D2-0B30E3AF4F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30T19:08:54Z</dcterms:created>
  <dc:creator>John Kim</dc:creator>
  <dc:description/>
  <dc:language>en-US</dc:language>
  <cp:lastModifiedBy>Jeffrey S. Link</cp:lastModifiedBy>
  <dcterms:modified xsi:type="dcterms:W3CDTF">2002-05-01T22:29:17Z</dcterms:modified>
  <cp:revision>31</cp:revision>
  <dc:subject/>
  <dc:title>Casino Marino Odds Calculations</dc:title>
</cp:coreProperties>
</file>