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7DE-EBED-46E7-B0DB-9A93BEE3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0EE-54A4-4C4C-B325-AB32ABB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438-766F-4748-A021-6E3DB25C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FB-96B1-4CE4-AFDA-7F5B483E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00C-2C4C-40E4-8A5F-EAFDF315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11E-EA40-4AA3-88F5-1FC18E1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BBA5-8FA9-411A-B053-F31C686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4307-366E-420C-B172-9503AE1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6A0B-98DD-4310-BCD7-2F04D707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AC9C-E366-408F-AB7D-D1DDAD9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3E71-3F95-4031-A941-5EFA60C6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D25-04DF-44E3-856E-D67B3CE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AD1-18C1-4BD4-B1EB-1FADF2A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91B3-588B-42FF-B1FF-2C968F0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204-B3DF-4E87-A5B8-4404F1F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B450-A80E-4C2F-8E33-2316AA9C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7F0-3048-47B6-AEEE-0727AFAA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21B-25DF-4E60-914B-64C8D1A3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21F-E37E-4E6D-8E51-6235592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CE0-464B-4264-B758-FAEB74D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32F-C992-46EF-AB0A-8AEB3729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4DA-CBF9-4217-B815-5C120BD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377-BE1D-410D-94A9-3574D00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53B-A4DC-42F3-B42B-9D5C954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D81-4D8B-4F65-96BA-4A6856C84C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D3BC-1A55-418A-8BBD-0D294C2B00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shop &amp; Kim LLC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artners in Law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vid Bishop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drew Ki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5375160"/>
            <a:ext cx="22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fessor Jur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cision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mmer 20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ing a more formal and timely partner payout plan would greatly increase partner satisfaction at a low c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firm with 215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compensation – salary plus share of firm’s annual net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of net income paid via distributions throughout the year as cash i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due to cash flow issues, distributions are inconsis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 has historical policy of not drawing on credit lines to pay partner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924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 has strong desire to keep partners happy – high competition for top legal tal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 – introduce a formal payout policy giving the partner’s a minimum distribution each month while minimizing financing 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Variables – percentage of total estimated net profit to pay out in a given mo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aints: 1) minimum of 5% must be paid out a month 2) 80% of total net profit be paid out 3) firm must maintain minimum cash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mization Goal – lowest interest cost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ed annual revenue and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ed monthly revenue and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artner bonuses payable and month in which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 of next month’s projected expenses which must be held in ca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ount of partner distribution held over from previous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tion #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Nonlinear Sol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tion #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olutionary Sol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Decision Variable: month in which non-partner bonuses ar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aint – within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6 months of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onal Variable – month in which this is paid, minimum partner distribution is relaxed to 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si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s conducted via Solver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jected revenue in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total payout in year: 60%-10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% of next month’s expenses required in c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payout X % of next month’s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th of non-partner bonus payment X am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 year distributions payable in current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monthly partner distribution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0:29:31Z</dcterms:created>
  <dc:creator>Miramax Film Corp</dc:creator>
  <dc:description/>
  <dc:language>en-US</dc:language>
  <cp:lastModifiedBy>Stern School</cp:lastModifiedBy>
  <dcterms:modified xsi:type="dcterms:W3CDTF">2002-08-04T18:07:41Z</dcterms:modified>
  <cp:revision>11</cp:revision>
  <dc:subject/>
  <dc:title>Bishop &amp; Kim LLC Partners in Law</dc:title>
</cp:coreProperties>
</file>