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751-F234-477D-9895-91989C95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CA3-6DE6-4049-9A18-4F8DA6CB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0AB-61AE-4B20-A161-7C6F78AB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F80-E7D6-45B5-9619-051DD3A0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2637-860A-4B30-A72C-8105A45F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5DFD-40B4-4959-8BA4-00B87468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B5B0-72EB-4064-B5CA-15496772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F091-B35F-4796-85FA-E016B691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F9E3-E2F9-4533-AC16-679F0868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FA7E-FA6A-4358-924E-B17EB2BD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2CD6-4AAD-432E-9667-4518D0B6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FD1-93E4-4213-9B78-91C06E04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80D7-4BC8-4D5C-989D-269E551A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2222-38B0-4AC7-8D15-8F52C4F5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7239-6249-49E4-A88C-BA27B031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7347-6B01-437B-B7CE-15D5C861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35B4-9153-4B32-BECB-AFC9C849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2FF-62D1-4A6C-9E79-92B6C56A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ACE-E4A7-4FAC-AA24-43021322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57B-CC66-4C13-924C-91417A08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13F-06FB-464A-A34A-48DD31A1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861-94C9-46B0-A3D8-F05254D6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A0D-4C8D-4E7A-BB5D-129DE8E1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0DD-7E81-4010-AB47-DDB7F904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CA06-9CD2-4CAE-9BFB-9BBA8F41F2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5E77-13A0-46D4-A474-17CE8C0836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shop &amp; Kim LLC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artners in Law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vid Bishop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drew Ki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5375160"/>
            <a:ext cx="22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fessor Jur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cision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mmer 200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ing a more formal and timely partner payout plan would greatly increase partner satisfaction at a low c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erial Problem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w firm with 215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compensation – salary plus share of firm’s annual net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re of net income paid via distributions throughout the year as cash i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 due to cash flow issues, distributions are inconsis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m has historical policy of not drawing on credit lines to pay partner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erial Problem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924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erial Problem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m has strong desire to keep partners happy – high competition for top legal tal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al – introduce a formal payout policy giving the partner’s a minimum distribution each month while minimizing financing co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sion Variables – percentage of total estimated net profit to pay out in a given mon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aints: 1) minimum of 5% must be paid out a month 2) 80% of total net profit be paid out 3) firm must maintain minimum cash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timization Goal – lowest interest cost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ed annual revenue and expe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ed monthly revenue and expe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artner bonuses payable and month in which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est r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% of next month’s projected expenses which must be held in ca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mount of partner distribution held over from previous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lution #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Nonlinear Sol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lution #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olutionary Sol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Decision Variable: month in which non-partner bonuses ar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aint – within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6 months of the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onal Variable – month in which this is paid, minimum partner distribution is relaxed to 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nsitiv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ses conducted via Solver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jected revenue in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red total payout in year: 60%-10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% of next month’s expenses required in c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tal payout X % of next month’s expen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th of non-partner bonus payment X am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or year distributions payable in current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um monthly partner distribution re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0:29:31Z</dcterms:created>
  <dc:creator>Miramax Film Corp</dc:creator>
  <dc:description/>
  <dc:language>en-US</dc:language>
  <cp:lastModifiedBy>Stern School</cp:lastModifiedBy>
  <dcterms:modified xsi:type="dcterms:W3CDTF">2002-08-04T18:07:41Z</dcterms:modified>
  <cp:revision>11</cp:revision>
  <dc:subject/>
  <dc:title>Bishop &amp; Kim LLC Partners in Law</dc:title>
</cp:coreProperties>
</file>