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EA1-7621-4FCF-AF4B-7F3817F9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392-1B35-4E19-AB1D-2E1748A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CCD-DDD0-44AB-BD1F-6965911E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CEB-4A29-48D5-AA7E-03E1E4C9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DCE-A00C-47E4-88D9-1EC287F7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6DE-2031-4620-90D4-6CCFD060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80A-BD66-4F5D-82AA-958A623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B90-AA11-4E6D-8C1A-3800DD6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D88-DA86-4327-A1B5-963A01CA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E19-5FED-4819-B044-6D6085C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670-5D48-457C-9844-C71B07D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22C-FAD4-40A2-B02B-D26D01A6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88F-F62B-49E4-803E-9DA492CFE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Money Out of Thin 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enzo Rizzi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Brick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686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519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55793" b="67313"/>
          <a:stretch/>
        </p:blipFill>
        <p:spPr>
          <a:xfrm>
            <a:off x="685800" y="2057400"/>
            <a:ext cx="7696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- Cap. Util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080" y="1214280"/>
            <a:ext cx="4351320" cy="277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0560" y="1214280"/>
            <a:ext cx="4351320" cy="2773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4080" y="4084560"/>
            <a:ext cx="435132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0560" y="4084560"/>
            <a:ext cx="43513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- Co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353120" cy="27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352760" cy="27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280" y="4086360"/>
            <a:ext cx="4353120" cy="277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0560" y="4086360"/>
            <a:ext cx="4352760" cy="2771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19810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6765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2.6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4.1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6002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3.3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4.9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ossible Random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of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on the Industrial Gas 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 of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f the Model we develop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28800" y="1752480"/>
          <a:ext cx="508788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087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295280" y="31240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CO-500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68360" y="1981080"/>
          <a:ext cx="63295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981080"/>
                    <a:ext cx="632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of Industrial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743200"/>
            <a:ext cx="7769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dding on Industrial Gas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or P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ed Capacity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Oxy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of the Proj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60496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value to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1528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nsultative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701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 ‘A’  for George &amp; Lorenzo in Decision 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rial Problem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plant &amp; at what rate should I run the 2 plants to minimize co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038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 of Pla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 of Pla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s of Plant 1 + Plant 2 = Desired Flow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negative Flow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Flow Rate per plant = 120 TP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200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or Pay 134 TPD at a cost of $105,1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105/ccf up to 170 T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087/ccf above 170  (Max 185 TP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19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or Pay 120 TPD at a cost of $110,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048/ccf up to 185 T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ustomer pays electrical costs (μ= $50/MW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486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Backup - $.368/ccf for liquid oxy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219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02:16:08Z</dcterms:created>
  <dc:creator>gbrickfi</dc:creator>
  <dc:description/>
  <dc:language>en-US</dc:language>
  <cp:lastModifiedBy>gbrickfi</cp:lastModifiedBy>
  <cp:lastPrinted>2002-07-31T21:12:50Z</cp:lastPrinted>
  <dcterms:modified xsi:type="dcterms:W3CDTF">2002-08-05T12:49:55Z</dcterms:modified>
  <cp:revision>42</cp:revision>
  <dc:subject/>
  <dc:title>Making Money Out of Thin Air</dc:title>
</cp:coreProperties>
</file>