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0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588F-A494-4DC1-A515-2CDABA8A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CCC-D8F2-4AEF-847D-21497E01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BA12-24E0-4B9C-9678-74D9C590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5F8D-2F57-4587-8322-E0F3FE80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2D1-6A4B-4490-9D4E-8601B81D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6F4-F34D-4C65-9B7C-90F9CA17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DF95-021A-4A9B-9CE4-CAE323F2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7F3-CD64-49D4-8813-21EA954F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FA7-B53D-44FD-B346-BB1893A9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FDC-CEAE-4F43-95F4-94A4BEFA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C81-D1C3-45B9-B0DB-A4EDCBC3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4B0-344B-4D30-8FD9-77BB3178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5A7D-8CF0-4F3F-BEE3-C02E2EDFDE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king Money Out of Thin Ai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renzo Rizzi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rge Brickf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of the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8686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of the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467480" cy="5199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of the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0" r="55793" b="67313"/>
          <a:stretch/>
        </p:blipFill>
        <p:spPr>
          <a:xfrm>
            <a:off x="685800" y="2057400"/>
            <a:ext cx="76960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nsitivity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7631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nsitivity Analysis- Cap. Util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4080" y="1214280"/>
            <a:ext cx="4351320" cy="2772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0560" y="1214280"/>
            <a:ext cx="4351320" cy="2773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54080" y="4084560"/>
            <a:ext cx="4351320" cy="253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570560" y="4084560"/>
            <a:ext cx="435132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nsitivity Analysis- Cos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353120" cy="2771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1219320"/>
            <a:ext cx="4352760" cy="2771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52280" y="4086360"/>
            <a:ext cx="4353120" cy="2771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570560" y="4086360"/>
            <a:ext cx="4352760" cy="2771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14600" y="19810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16765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x Cost $22.6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44197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x Cost $24.1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6002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x Cost $23.3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44197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x Cost $24.9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ecas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ossible Random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 of 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ground on the Industrial Gas mark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ive of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 of the Model we develop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Background on the Industrial Gas Market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828800" y="1752480"/>
          <a:ext cx="5087880" cy="41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52480"/>
                    <a:ext cx="50878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295280" y="31240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ICO-5000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Background on the Industrial Gas Market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368360" y="1981080"/>
          <a:ext cx="632952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1981080"/>
                    <a:ext cx="632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Background on the Industrial Gas Market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s of Industrial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743200"/>
            <a:ext cx="7769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dding on Industrial Gas Contr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 or P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ed Capacity Uti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quid Oxyg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ctive of the Proje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60496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value to relatio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1528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nsultative relatio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3701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an ‘A’  for George &amp; Lorenzo in Decision Mode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of the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rial Problem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plant &amp; at what rate should I run the 2 plants to minimize cos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40384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 rate of Plan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 rate of Plan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of the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 Rates of Plant 1 + Plant 2 = Desired Flow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negative Flow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um Flow Rate per plant = 120 TP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of the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3200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ke or Pay 134 TPD at a cost of $105,1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.105/ccf up to 170 TP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.087/ccf above 170  (Max 185 TP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1989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ke or Pay 120 TPD at a cost of $110,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.048/ccf up to 185 TP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ustomer pays electrical costs (μ= $50/MW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5486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quid Backup - $.368/ccf for liquid oxyg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12193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mul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02:16:08Z</dcterms:created>
  <dc:creator>gbrickfi</dc:creator>
  <dc:description/>
  <dc:language>en-US</dc:language>
  <cp:lastModifiedBy>gbrickfi</cp:lastModifiedBy>
  <cp:lastPrinted>2002-07-31T21:12:50Z</cp:lastPrinted>
  <dcterms:modified xsi:type="dcterms:W3CDTF">2002-08-05T12:49:55Z</dcterms:modified>
  <cp:revision>42</cp:revision>
  <dc:subject/>
  <dc:title>Making Money Out of Thin Air</dc:title>
</cp:coreProperties>
</file>