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0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7A4-E92C-4DC6-BCE8-A9D625F0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F1E-A00E-4298-856F-6C40E935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D66-A18D-4C90-9E23-FD32CCCE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AB5-0FB1-4533-86FD-70FC6892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761-624A-4CB2-9E4D-0AB78B5B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2537-A8CA-467C-8974-4A24B99A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AD6-1F91-4DF5-B9F5-A4AB9811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F62-0026-4001-9470-50FF18A0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E9C-3E6B-4E3A-B8F7-0D2B8ABA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5F2-7CC3-4F49-95C8-4197A942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1D5-DFF0-45C6-A97E-07C38BC6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484-6D78-4B34-A9FC-4563493C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7400-64AF-4DA1-8DEB-1B9A20787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ing Money Out of Thin Ai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renzo Rizzi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rge Brick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686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467480" cy="5199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55793" b="67313"/>
          <a:stretch/>
        </p:blipFill>
        <p:spPr>
          <a:xfrm>
            <a:off x="685800" y="2057400"/>
            <a:ext cx="76960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nsitivity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7631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nsitivity Analysis- Cap. Util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080" y="1214280"/>
            <a:ext cx="4351320" cy="277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0560" y="1214280"/>
            <a:ext cx="4351320" cy="2773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54080" y="4084560"/>
            <a:ext cx="4351320" cy="253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570560" y="4084560"/>
            <a:ext cx="43513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nsitivity Analysis- Cos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353120" cy="2771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4352760" cy="2771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52280" y="4086360"/>
            <a:ext cx="4353120" cy="2771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570560" y="4086360"/>
            <a:ext cx="4352760" cy="2771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14600" y="19810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16765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Cost $22.6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44197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Cost $24.1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6002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Cost $23.3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44197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Cost $24.9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ecas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ossible Random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 of 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 on the Industrial Gas mark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ive of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 of the Model we develop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Background on the Industrial Gas Market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828800" y="1752480"/>
          <a:ext cx="5087880" cy="41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50878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295280" y="31240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ICO-5000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Background on the Industrial Gas Market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68360" y="1981080"/>
          <a:ext cx="63295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1981080"/>
                    <a:ext cx="632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Background on the Industrial Gas Market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of Industrial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743200"/>
            <a:ext cx="7769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dding on Industrial Gas Contr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or P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ed Capacity Uti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quid Oxyg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 of the Proje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60496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value to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1528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nsultative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701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an ‘A’  for George &amp; Lorenzo in Decision Mod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rial Problem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plant &amp; at what rate should I run the 2 plants to minimize cos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0384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rate of Plan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rate of Plan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Rates of Plant 1 + Plant 2 = Desired Flow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negative Flow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Flow Rate per plant = 120 TP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ussion of th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200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ke or Pay 134 TPD at a cost of $105,1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.105/ccf up to 170 TP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.087/ccf above 170  (Max 185 TP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198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ke or Pay 120 TPD at a cost of $110,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.048/ccf up to 185 TP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ustomer pays electrical costs (μ= $50/MW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5486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 Backup - $.368/ccf for liquid oxyg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12193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mul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02:16:08Z</dcterms:created>
  <dc:creator>gbrickfi</dc:creator>
  <dc:description/>
  <dc:language>en-US</dc:language>
  <cp:lastModifiedBy>gbrickfi</cp:lastModifiedBy>
  <cp:lastPrinted>2002-07-31T21:12:50Z</cp:lastPrinted>
  <dcterms:modified xsi:type="dcterms:W3CDTF">2002-08-05T12:49:55Z</dcterms:modified>
  <cp:revision>42</cp:revision>
  <dc:subject/>
  <dc:title>Making Money Out of Thin Air</dc:title>
</cp:coreProperties>
</file>