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ADD-E69F-4FA9-AC63-F38D93E9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C63-0C63-43B5-9DAE-A637442F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A58-89FF-43A3-98B3-45502466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ED4-32F8-4A1D-9A37-4083F604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17F-3819-4C65-85E4-7C6FE63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1E1-379B-4A5E-870B-D37E70C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70F-3E26-4370-958F-EAA61AF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481-F675-4A42-A472-60E08FE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2C8-2662-4C10-8928-42B27AE1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18E-8898-4BC0-A7FC-24BBA4F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7F5-C4EC-449F-B4A1-C16FDEC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69B-7109-4451-AE3D-70E02EA3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C0A8-29F2-4232-8D4F-8AA25E7F9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ee Stock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Year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mployee Quits Within 3 Years Option is Worth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mployee Quits After 3 Years, Option Must be Exercised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mployee is Fired, Option Must be Exercised within 2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2438280"/>
          <a:ext cx="2057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05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362320" y="2514600"/>
          <a:ext cx="662940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14600"/>
                    <a:ext cx="6629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914400"/>
          <a:ext cx="82296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2296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6160" y="1211400"/>
            <a:ext cx="75852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2040" y="1590840"/>
            <a:ext cx="83581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7724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x For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tock Value Grows at Risk Fre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ty of Stock is based on Actual Stock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Price Equal to PV of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Method for Crystal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h Proceeds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tock Grows at Historic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ock’s Historic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Crystal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Figure Out Whether Goals are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ment Contingen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ree Valuations Method Are Dependent on Duration of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ment Contingencies Impact Duration of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90720" y="2590920"/>
          <a:ext cx="739116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3911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mployment Contin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Option Exercised at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Non-Dividend Paying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Probability of Fired/Quitting is a Set Probability per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Quitting precedes F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65320" y="609480"/>
            <a:ext cx="681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4600" y="1079640"/>
            <a:ext cx="82468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ack-Scholes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im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=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Normsdist(d1)-X*exp(-rt)*Normsdist(d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Leaving: Call=Call*P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(S-X)*P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124080"/>
          <a:ext cx="83822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1240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C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reaching a certain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2290680"/>
          <a:ext cx="84582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90680"/>
                    <a:ext cx="84582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20:14:01Z</dcterms:created>
  <dc:creator>J.P. Morgan</dc:creator>
  <dc:description/>
  <dc:language>en-US</dc:language>
  <cp:lastModifiedBy>Preferred Customer</cp:lastModifiedBy>
  <dcterms:modified xsi:type="dcterms:W3CDTF">2002-07-27T20:55:02Z</dcterms:modified>
  <cp:revision>7</cp:revision>
  <dc:subject/>
  <dc:title>Employee Stock Option</dc:title>
</cp:coreProperties>
</file>