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2457-76DC-4AEB-80D2-9702EAA9B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0CBA-6C17-4A54-A155-52934366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E40D-F6D3-4274-893C-7AD69523D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DDB2-8A66-4BDC-94B0-81B52EE71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BF0A-8C0E-4C19-83C1-284B97BC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B89F-18F0-495C-BB24-42B48A89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3C09-2013-4F06-A25D-EB29966D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6D17-90FD-4A9C-941C-68BBBB10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CD54-A5D7-428F-A109-A2F41142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3411-B370-498E-8056-38CBC7C8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A6CB-7CFF-4A59-BE8A-FD8DC02D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B6DE-F290-4E3D-9EAF-4EE73532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C151-CD10-46E0-849E-73D8CD2F2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mployee Stock O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 Year O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Employee Quits Within 3 Years Option is Worth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Employee Quits After 3 Years, Option Must be Exercised Immedi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Employee is Fired, Option Must be Exercised within 2 Yea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tis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ca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28600" y="2438280"/>
          <a:ext cx="205740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2057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362320" y="2514600"/>
          <a:ext cx="6629400" cy="3962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2514600"/>
                    <a:ext cx="66294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@Ris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685800" y="914400"/>
          <a:ext cx="8229600" cy="563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22960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76160" y="1211400"/>
            <a:ext cx="75852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92040" y="1590840"/>
            <a:ext cx="835812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14400" y="2590920"/>
            <a:ext cx="777240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ing an Op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x For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Stock Value Grows at Risk Free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atility of Stock is based on Actual Stock Volat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on Price Equal to PV of Sp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Method for Crystal B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ing An Op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sh Proceeds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Stock Grows at Historic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tock’s Historic Volat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for Crystal B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Used to Figure Out Whether Goals are Reac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ing an Op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ployment Contingenci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hree Valuations Method Are Dependent on Duration of O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loyment Contingencies Impact Duration of O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990720" y="2590920"/>
          <a:ext cx="7391160" cy="408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590920"/>
                    <a:ext cx="7391160" cy="40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ing An Op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mployment Conting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Option Exercised at Mat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Non-Dividend Paying St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Probability of Fired/Quitting is a Set Probability per Mon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me Quitting precedes Fi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165320" y="609480"/>
            <a:ext cx="6811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44600" y="1079640"/>
            <a:ext cx="8246880" cy="47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lack-Scholes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Time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=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Normsdist(d1)-X*exp(-rt)*Normsdist(d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Leaving: Call=Call*P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+(S-X)*P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52280" y="3124080"/>
          <a:ext cx="8382240" cy="350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1240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621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do we need CB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ce R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reaching a certain pr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04920" y="2290680"/>
          <a:ext cx="8458200" cy="433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90680"/>
                    <a:ext cx="8458200" cy="43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4T20:14:01Z</dcterms:created>
  <dc:creator>J.P. Morgan</dc:creator>
  <dc:description/>
  <dc:language>en-US</dc:language>
  <cp:lastModifiedBy>Preferred Customer</cp:lastModifiedBy>
  <dcterms:modified xsi:type="dcterms:W3CDTF">2002-07-27T20:55:02Z</dcterms:modified>
  <cp:revision>7</cp:revision>
  <dc:subject/>
  <dc:title>Employee Stock Option</dc:title>
</cp:coreProperties>
</file>