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0DA-2C91-4198-A9A0-90AC2333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297-86C2-4A35-8C8D-9D1AD8EB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722-478A-4753-A999-B3236A11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65C-277F-479C-88EE-F5F5FC44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573E-6626-416C-8B4C-7629D89B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BCC3-B752-4862-95F3-D5DA8FE9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8F59-1C18-4BF5-A099-F201498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9B7-E673-40B9-A51F-E88CB1A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0539-12D7-46FB-ABC1-5B3E0CD2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B6A9-DF08-4B0A-96FF-913842CF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6533-5A39-4BF2-B9AA-149F8D8A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971-405E-4F00-AFA3-8431939C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9AC2-131B-4C29-B43F-A79A5BB2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F203-8ADC-4BF6-9378-FC8B4C5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F90-7485-46B6-A5D9-A7F27AA9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6DC5-E30C-44F0-ADBC-1160AC78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1978-324D-424C-BBB2-B8CA6E27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7AF-15CE-4835-B114-F0EBB54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F9B-9352-4BD6-B47E-191CA149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2E8-ABB4-497B-BE7C-2EF74551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CFB-F5B0-49A7-8832-226B7FA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F5B-0A2B-400B-BACD-730AC79F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7AF-858B-4541-BA73-CC9F74D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51E-4E44-4E33-8C1A-F31DB81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02D0-5995-4DA2-9A00-B92E048E593A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566E-E152-46A6-9BF8-A3B2629FA479}" type="slidenum">
              <a:rPr b="0" lang="en-US" sz="14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ex Arbitrage i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en-US" sz="4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CONSULTING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l Ardebili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l Qureshi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up Mukherje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7/29/2002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bservations.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Index is Weighted By the Outstanding Float of the Mortgage Market…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d yet, only a few of the 250 Issues represent a large proportion of the Index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ing the MBS Index With Sub-Compon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o Consider the Following Arbitrage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Pay/SELL on the Index Total Return Swap ”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uy a Smaller Underlying Mi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Arial"/>
              </a:rPr>
              <a:t>Maximize Return while taking as little Risk as possible!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e Consider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or the Arbitrage to work, we need to be able to trade in and potentially out of our hedge with the least possible bid/offer.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Choose Large, Liquid Coupons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Limit the Allocation in Each Coupon / Each Issuer / Each Sector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Do Not Allow Shorting, (The MBS Market Has a History of Short Squeezing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Make Duration Neutral Portfolios in Order to Mitigate Risk to Yield Curve Shif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Run Solver With These Constraint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ing Up the Solv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ximize Historical Return Of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Long Some Allocation of Mortgages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hort The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ke Duration of Allocation = Index Duratio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djust Components of Allocation (Hedge Portfolio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aintain Constraints As Above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lver 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Excess Return of  229 bps (Over 5 Years) -- 46 bp annual retur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Portfolio was Duration Neutral vs Its Index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educed Number of Issues from 255 to 7! 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Standard Deviation Was  6 bps !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Using the Standard Trade Size of $100 MM the Return was $460 K annuall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nsitivity 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unning Solver Table -- The Risk Frontier is shown below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057400"/>
          <a:ext cx="822960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822960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rbitrage Strategy 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33280" y="1219320"/>
          <a:ext cx="867888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219320"/>
                    <a:ext cx="86788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e made 45 (annual) bps on our Arbitrage trade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Q: Our Analysis was BACKWARD OPTIMIZATION but how will this perform in the Future?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: Simulate P/L On Optimal Allocation By Randomly Sampling Historical Retur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523880"/>
            <a:ext cx="8001000" cy="5029200"/>
            <a:chOff x="609480" y="1523880"/>
            <a:chExt cx="8001000" cy="50292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09480" y="1523880"/>
              <a:ext cx="80010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105520" y="3352680"/>
              <a:ext cx="2590560" cy="228600"/>
            </a:xfrm>
            <a:prstGeom prst="ellipse">
              <a:avLst/>
            </a:prstGeom>
            <a:solidFill>
              <a:srgbClr val="ff3300">
                <a:alpha val="50000"/>
              </a:srgbClr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ing the Optimal Portfoli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ssume the Portfolio Allocation Versus the Index on $100 MM Notional on a Swap that lasts 90 days (60 business days)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Calculate the Profit and Loss over 10,000 scenario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alyze Return and Risk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ex Arbitrage in the Mortgage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 Quick Primer on the MBS Market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Value in the MBS Index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bitraging the MBS Index With Sub-Componen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rbitrage Consideration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esting Our Resul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Analysis and Discussion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lysis and Discu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0292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While Our Return is +35 bps or $350K, the Strategy has some risk -- with 95 % Certainty, you will not lose more than 3 million dollars (I.e. VAR is $3 million).</a:t>
            </a: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248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alysis and Discu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rom a Historical Perspective, our trade is a low risk, positive return strateg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rom a Scenario Approach Perspective, our Risk arbitrage is a higher risk, positive return strategy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 order to test the validity of our results, perhaps an integrated Solver - Scenario Approach would yield better return/risk ratio(s)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Quick Primer o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 Backed Securities are Actively Traded with 7.5 Trillion Notional Outstanding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s Offer Investors High Yield and Low Risk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Include Banks, Corporations and Arbritageurs looking to earn higher return over Treasurie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Quick Primer on the MBS Marke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Mortgage Backed Securities Offer Many Attractive Benefits But Are Resource Intensive to Track and Control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Need to Be Aware Of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Settlement Procedur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ack-Office Over-Head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oupon Selection And Associated Risk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Hedging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Economies of Scale Prohibit Many Potential Participants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troduce the Merrill Lynch Mortgage Master Index M0A0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Accounts” can Receive the Total Return of the Merrill Lynch Master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re are 254 Issues in this Index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The Index Swap is Traded for 3 month Horizon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The Index Weighting Reflects the Mortgage Universe Weightings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nvestors can participate in the Mortgage market through the M0A0 “Index”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With M0A0 Investors benefit from Diversification while minimizing Bid/Offer.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alue in the MBS Inde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Regional Banks are Huge Consumers of the Mortgage Index as it mitigates:</a:t>
            </a:r>
            <a:endParaRPr b="0" lang="en-US" sz="32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Coupon Selection Issues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soteric Mortgage Settlement Issues -- just a Spread.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Back-Office Over-Head </a:t>
            </a:r>
            <a:endParaRPr b="0" lang="en-US" sz="28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g56776" descr=""/>
          <p:cNvPicPr/>
          <p:nvPr/>
        </p:nvPicPr>
        <p:blipFill>
          <a:blip r:embed="rId1"/>
          <a:stretch/>
        </p:blipFill>
        <p:spPr>
          <a:xfrm>
            <a:off x="0" y="-171360"/>
            <a:ext cx="9906120" cy="70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04920" y="609480"/>
            <a:ext cx="5029200" cy="5867640"/>
            <a:chOff x="304920" y="609480"/>
            <a:chExt cx="5029200" cy="5867640"/>
          </a:xfrm>
        </p:grpSpPr>
        <p:graphicFrame>
          <p:nvGraphicFramePr>
            <p:cNvPr id="104" name=""/>
            <p:cNvGraphicFramePr/>
            <p:nvPr/>
          </p:nvGraphicFramePr>
          <p:xfrm>
            <a:off x="304920" y="609480"/>
            <a:ext cx="5029200" cy="586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609480"/>
                      <a:ext cx="5029200" cy="586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4920" y="1905120"/>
              <a:ext cx="2743200" cy="25146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cc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486400" y="609480"/>
            <a:ext cx="3352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A FEW SECURITY TYPES (COUPONS), ACCOUNT FOR A LARGE PROPORTION OF THE TOTAL.</a:t>
            </a: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73392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S COULD REPRESENT AN OPPORTUNITY….</a:t>
            </a:r>
            <a:endParaRPr b="0" lang="en-US" sz="2800" spc="-1" strike="noStrike">
              <a:solidFill>
                <a:srgbClr val="ccc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18:54:38Z</dcterms:created>
  <dc:creator>ps245140</dc:creator>
  <dc:description/>
  <dc:language>en-US</dc:language>
  <cp:lastModifiedBy>Arup Mukherjee</cp:lastModifiedBy>
  <dcterms:modified xsi:type="dcterms:W3CDTF">2002-07-29T03:30:36Z</dcterms:modified>
  <cp:revision>13</cp:revision>
  <dc:subject/>
  <dc:title>Index Arbritrage in the MBS Market</dc:title>
</cp:coreProperties>
</file>