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C220-127B-4665-915C-E938377A5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8A2A-A429-42F8-940B-E4B9F342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DA34-2DC9-46DB-8031-FD2BBD221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2436-0DFE-4E2B-8E9C-496E8714D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0D97-23C5-4B65-9C5A-C934FC253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BFFEA-B67F-4AEA-82B3-2F6D8A59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A974-35A9-4555-9CA5-370D6C8B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7607-C36A-4AEF-AFF4-8FFA5549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713C-15A6-45C6-B2D5-CFD26DA6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0DEE-4347-4BF4-AA00-A50D84E3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397D6-5735-4E59-BF4B-2DD2814D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23E0-B6BA-4607-8B5D-367B3D45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04DE-F463-442B-9C1B-AB16C903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321A3-601B-42C3-AFA3-93420B80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17AF8-630C-4676-B945-6F2FA297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DF43-0822-48A5-9B24-52DC45579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D4AB-0751-472C-99EA-9223B3AC2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1D70-48E6-49B0-ACA3-C8B480ED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6900-3B11-4CDB-AFE7-31840D2B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B402-26BD-47A5-AB05-31739347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C560-C50F-4A09-9C04-F4A9EA52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D03D-4211-418D-91A7-778AB30C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568B-99DC-4D40-819E-FEC2744F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53EB-8771-419C-9FC3-ED479342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4640" cy="6845400"/>
            <a:chOff x="0" y="0"/>
            <a:chExt cx="9134640" cy="68454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32840" cy="68454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cc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15920"/>
              <a:ext cx="9134640" cy="6613560"/>
            </a:xfrm>
            <a:custGeom>
              <a:avLst/>
              <a:gdLst/>
              <a:ahLst/>
              <a:rect l="l" t="t" r="r" b="b"/>
              <a:pathLst>
                <a:path w="5754" h="4166">
                  <a:moveTo>
                    <a:pt x="5753" y="3889"/>
                  </a:moveTo>
                  <a:lnTo>
                    <a:pt x="1" y="3888"/>
                  </a:lnTo>
                  <a:lnTo>
                    <a:pt x="1" y="3948"/>
                  </a:lnTo>
                  <a:lnTo>
                    <a:pt x="5753" y="3948"/>
                  </a:lnTo>
                  <a:lnTo>
                    <a:pt x="5753" y="3996"/>
                  </a:lnTo>
                  <a:lnTo>
                    <a:pt x="1" y="3997"/>
                  </a:lnTo>
                  <a:lnTo>
                    <a:pt x="1" y="4056"/>
                  </a:lnTo>
                  <a:lnTo>
                    <a:pt x="5753" y="4056"/>
                  </a:lnTo>
                  <a:lnTo>
                    <a:pt x="5753" y="4105"/>
                  </a:lnTo>
                  <a:lnTo>
                    <a:pt x="1" y="4104"/>
                  </a:lnTo>
                  <a:lnTo>
                    <a:pt x="1" y="4165"/>
                  </a:lnTo>
                  <a:lnTo>
                    <a:pt x="5753" y="4165"/>
                  </a:lnTo>
                  <a:lnTo>
                    <a:pt x="5753" y="0"/>
                  </a:lnTo>
                  <a:lnTo>
                    <a:pt x="1" y="0"/>
                  </a:lnTo>
                  <a:lnTo>
                    <a:pt x="1" y="61"/>
                  </a:lnTo>
                  <a:lnTo>
                    <a:pt x="5753" y="60"/>
                  </a:lnTo>
                  <a:lnTo>
                    <a:pt x="5753" y="108"/>
                  </a:lnTo>
                  <a:lnTo>
                    <a:pt x="1" y="108"/>
                  </a:lnTo>
                  <a:lnTo>
                    <a:pt x="1" y="168"/>
                  </a:lnTo>
                  <a:lnTo>
                    <a:pt x="5753" y="169"/>
                  </a:lnTo>
                  <a:lnTo>
                    <a:pt x="5753" y="216"/>
                  </a:lnTo>
                  <a:lnTo>
                    <a:pt x="1" y="216"/>
                  </a:lnTo>
                  <a:lnTo>
                    <a:pt x="1" y="276"/>
                  </a:lnTo>
                  <a:lnTo>
                    <a:pt x="5753" y="277"/>
                  </a:lnTo>
                  <a:lnTo>
                    <a:pt x="5753" y="324"/>
                  </a:lnTo>
                  <a:lnTo>
                    <a:pt x="1" y="324"/>
                  </a:lnTo>
                  <a:lnTo>
                    <a:pt x="1" y="384"/>
                  </a:lnTo>
                  <a:lnTo>
                    <a:pt x="5753" y="384"/>
                  </a:lnTo>
                  <a:lnTo>
                    <a:pt x="5753" y="432"/>
                  </a:lnTo>
                  <a:lnTo>
                    <a:pt x="1" y="432"/>
                  </a:lnTo>
                  <a:lnTo>
                    <a:pt x="1" y="492"/>
                  </a:lnTo>
                  <a:lnTo>
                    <a:pt x="5753" y="493"/>
                  </a:lnTo>
                  <a:lnTo>
                    <a:pt x="5753" y="540"/>
                  </a:lnTo>
                  <a:lnTo>
                    <a:pt x="1" y="540"/>
                  </a:lnTo>
                  <a:lnTo>
                    <a:pt x="1" y="600"/>
                  </a:lnTo>
                  <a:lnTo>
                    <a:pt x="5753" y="600"/>
                  </a:lnTo>
                  <a:lnTo>
                    <a:pt x="5753" y="648"/>
                  </a:lnTo>
                  <a:lnTo>
                    <a:pt x="1" y="648"/>
                  </a:lnTo>
                  <a:lnTo>
                    <a:pt x="1" y="708"/>
                  </a:lnTo>
                  <a:lnTo>
                    <a:pt x="5753" y="709"/>
                  </a:lnTo>
                  <a:lnTo>
                    <a:pt x="5753" y="756"/>
                  </a:lnTo>
                  <a:lnTo>
                    <a:pt x="1" y="756"/>
                  </a:lnTo>
                  <a:lnTo>
                    <a:pt x="1" y="816"/>
                  </a:lnTo>
                  <a:lnTo>
                    <a:pt x="5753" y="817"/>
                  </a:lnTo>
                  <a:lnTo>
                    <a:pt x="5753" y="865"/>
                  </a:lnTo>
                  <a:lnTo>
                    <a:pt x="1" y="864"/>
                  </a:lnTo>
                  <a:lnTo>
                    <a:pt x="1" y="925"/>
                  </a:lnTo>
                  <a:lnTo>
                    <a:pt x="5753" y="925"/>
                  </a:lnTo>
                  <a:lnTo>
                    <a:pt x="5753" y="973"/>
                  </a:lnTo>
                  <a:lnTo>
                    <a:pt x="1" y="972"/>
                  </a:lnTo>
                  <a:lnTo>
                    <a:pt x="1" y="1032"/>
                  </a:lnTo>
                  <a:lnTo>
                    <a:pt x="5753" y="1033"/>
                  </a:lnTo>
                  <a:lnTo>
                    <a:pt x="5753" y="1080"/>
                  </a:lnTo>
                  <a:lnTo>
                    <a:pt x="1" y="1080"/>
                  </a:lnTo>
                  <a:lnTo>
                    <a:pt x="1" y="1140"/>
                  </a:lnTo>
                  <a:lnTo>
                    <a:pt x="5753" y="1140"/>
                  </a:lnTo>
                  <a:lnTo>
                    <a:pt x="5753" y="1188"/>
                  </a:lnTo>
                  <a:lnTo>
                    <a:pt x="1" y="1188"/>
                  </a:lnTo>
                  <a:lnTo>
                    <a:pt x="1" y="1248"/>
                  </a:lnTo>
                  <a:lnTo>
                    <a:pt x="5753" y="1248"/>
                  </a:lnTo>
                  <a:lnTo>
                    <a:pt x="5753" y="1296"/>
                  </a:lnTo>
                  <a:lnTo>
                    <a:pt x="1" y="1297"/>
                  </a:lnTo>
                  <a:lnTo>
                    <a:pt x="1" y="1357"/>
                  </a:lnTo>
                  <a:lnTo>
                    <a:pt x="5753" y="1356"/>
                  </a:lnTo>
                  <a:lnTo>
                    <a:pt x="5753" y="1404"/>
                  </a:lnTo>
                  <a:lnTo>
                    <a:pt x="1" y="1404"/>
                  </a:lnTo>
                  <a:lnTo>
                    <a:pt x="1" y="1465"/>
                  </a:lnTo>
                  <a:lnTo>
                    <a:pt x="5753" y="1464"/>
                  </a:lnTo>
                  <a:lnTo>
                    <a:pt x="5753" y="1512"/>
                  </a:lnTo>
                  <a:lnTo>
                    <a:pt x="1" y="1512"/>
                  </a:lnTo>
                  <a:lnTo>
                    <a:pt x="1" y="1572"/>
                  </a:lnTo>
                  <a:lnTo>
                    <a:pt x="5753" y="1572"/>
                  </a:lnTo>
                  <a:lnTo>
                    <a:pt x="5753" y="1620"/>
                  </a:lnTo>
                  <a:lnTo>
                    <a:pt x="1" y="1620"/>
                  </a:lnTo>
                  <a:lnTo>
                    <a:pt x="1" y="1680"/>
                  </a:lnTo>
                  <a:lnTo>
                    <a:pt x="5753" y="1681"/>
                  </a:lnTo>
                  <a:lnTo>
                    <a:pt x="5753" y="1728"/>
                  </a:lnTo>
                  <a:lnTo>
                    <a:pt x="1" y="1728"/>
                  </a:lnTo>
                  <a:lnTo>
                    <a:pt x="1" y="1789"/>
                  </a:lnTo>
                  <a:lnTo>
                    <a:pt x="5753" y="1789"/>
                  </a:lnTo>
                  <a:lnTo>
                    <a:pt x="5753" y="1836"/>
                  </a:lnTo>
                  <a:lnTo>
                    <a:pt x="1" y="1836"/>
                  </a:lnTo>
                  <a:lnTo>
                    <a:pt x="1" y="1896"/>
                  </a:lnTo>
                  <a:lnTo>
                    <a:pt x="5753" y="1896"/>
                  </a:lnTo>
                  <a:lnTo>
                    <a:pt x="5753" y="1944"/>
                  </a:lnTo>
                  <a:lnTo>
                    <a:pt x="1" y="1944"/>
                  </a:lnTo>
                  <a:lnTo>
                    <a:pt x="1" y="2005"/>
                  </a:lnTo>
                  <a:lnTo>
                    <a:pt x="5753" y="2004"/>
                  </a:lnTo>
                  <a:lnTo>
                    <a:pt x="5753" y="2052"/>
                  </a:lnTo>
                  <a:lnTo>
                    <a:pt x="1" y="2052"/>
                  </a:lnTo>
                  <a:lnTo>
                    <a:pt x="1" y="2113"/>
                  </a:lnTo>
                  <a:lnTo>
                    <a:pt x="5753" y="2112"/>
                  </a:lnTo>
                  <a:lnTo>
                    <a:pt x="5753" y="2161"/>
                  </a:lnTo>
                  <a:lnTo>
                    <a:pt x="1" y="2160"/>
                  </a:lnTo>
                  <a:lnTo>
                    <a:pt x="1" y="2220"/>
                  </a:lnTo>
                  <a:lnTo>
                    <a:pt x="5753" y="2220"/>
                  </a:lnTo>
                  <a:lnTo>
                    <a:pt x="5753" y="2268"/>
                  </a:lnTo>
                  <a:lnTo>
                    <a:pt x="1" y="2268"/>
                  </a:lnTo>
                  <a:lnTo>
                    <a:pt x="1" y="2328"/>
                  </a:lnTo>
                  <a:lnTo>
                    <a:pt x="5753" y="2328"/>
                  </a:lnTo>
                  <a:lnTo>
                    <a:pt x="5753" y="2376"/>
                  </a:lnTo>
                  <a:lnTo>
                    <a:pt x="1" y="2376"/>
                  </a:lnTo>
                  <a:lnTo>
                    <a:pt x="1" y="2437"/>
                  </a:lnTo>
                  <a:lnTo>
                    <a:pt x="5753" y="2436"/>
                  </a:lnTo>
                  <a:lnTo>
                    <a:pt x="5753" y="2484"/>
                  </a:lnTo>
                  <a:lnTo>
                    <a:pt x="1" y="2484"/>
                  </a:lnTo>
                  <a:lnTo>
                    <a:pt x="1" y="2545"/>
                  </a:lnTo>
                  <a:lnTo>
                    <a:pt x="5753" y="2545"/>
                  </a:lnTo>
                  <a:lnTo>
                    <a:pt x="5753" y="2592"/>
                  </a:lnTo>
                  <a:lnTo>
                    <a:pt x="1" y="2592"/>
                  </a:lnTo>
                  <a:lnTo>
                    <a:pt x="1" y="2652"/>
                  </a:lnTo>
                  <a:lnTo>
                    <a:pt x="5753" y="2652"/>
                  </a:lnTo>
                  <a:lnTo>
                    <a:pt x="5753" y="2700"/>
                  </a:lnTo>
                  <a:lnTo>
                    <a:pt x="1" y="2700"/>
                  </a:lnTo>
                  <a:lnTo>
                    <a:pt x="1" y="2761"/>
                  </a:lnTo>
                  <a:lnTo>
                    <a:pt x="5753" y="2760"/>
                  </a:lnTo>
                  <a:lnTo>
                    <a:pt x="5753" y="2808"/>
                  </a:lnTo>
                  <a:lnTo>
                    <a:pt x="1" y="2808"/>
                  </a:lnTo>
                  <a:lnTo>
                    <a:pt x="1" y="2868"/>
                  </a:lnTo>
                  <a:lnTo>
                    <a:pt x="5753" y="2868"/>
                  </a:lnTo>
                  <a:lnTo>
                    <a:pt x="5753" y="2917"/>
                  </a:lnTo>
                  <a:lnTo>
                    <a:pt x="0" y="2917"/>
                  </a:lnTo>
                  <a:lnTo>
                    <a:pt x="1" y="2977"/>
                  </a:lnTo>
                  <a:lnTo>
                    <a:pt x="5753" y="2976"/>
                  </a:lnTo>
                  <a:lnTo>
                    <a:pt x="5753" y="3024"/>
                  </a:lnTo>
                  <a:lnTo>
                    <a:pt x="1" y="3024"/>
                  </a:lnTo>
                  <a:lnTo>
                    <a:pt x="1" y="3084"/>
                  </a:lnTo>
                  <a:lnTo>
                    <a:pt x="5753" y="3084"/>
                  </a:lnTo>
                  <a:lnTo>
                    <a:pt x="5753" y="3132"/>
                  </a:lnTo>
                  <a:lnTo>
                    <a:pt x="1" y="3132"/>
                  </a:lnTo>
                  <a:lnTo>
                    <a:pt x="1" y="3192"/>
                  </a:lnTo>
                  <a:lnTo>
                    <a:pt x="5753" y="3192"/>
                  </a:lnTo>
                  <a:lnTo>
                    <a:pt x="5753" y="3240"/>
                  </a:lnTo>
                  <a:lnTo>
                    <a:pt x="1" y="3240"/>
                  </a:lnTo>
                  <a:lnTo>
                    <a:pt x="1" y="3301"/>
                  </a:lnTo>
                  <a:lnTo>
                    <a:pt x="5753" y="3300"/>
                  </a:lnTo>
                  <a:lnTo>
                    <a:pt x="5753" y="3348"/>
                  </a:lnTo>
                  <a:lnTo>
                    <a:pt x="1" y="3348"/>
                  </a:lnTo>
                  <a:lnTo>
                    <a:pt x="1" y="3408"/>
                  </a:lnTo>
                  <a:lnTo>
                    <a:pt x="5753" y="3409"/>
                  </a:lnTo>
                  <a:lnTo>
                    <a:pt x="5753" y="3457"/>
                  </a:lnTo>
                  <a:lnTo>
                    <a:pt x="1" y="3456"/>
                  </a:lnTo>
                  <a:lnTo>
                    <a:pt x="1" y="3517"/>
                  </a:lnTo>
                  <a:lnTo>
                    <a:pt x="5753" y="3516"/>
                  </a:lnTo>
                  <a:lnTo>
                    <a:pt x="5753" y="3565"/>
                  </a:lnTo>
                  <a:lnTo>
                    <a:pt x="1" y="3565"/>
                  </a:lnTo>
                  <a:lnTo>
                    <a:pt x="1" y="3624"/>
                  </a:lnTo>
                  <a:lnTo>
                    <a:pt x="5753" y="3625"/>
                  </a:lnTo>
                  <a:lnTo>
                    <a:pt x="5753" y="3673"/>
                  </a:lnTo>
                  <a:lnTo>
                    <a:pt x="1" y="3672"/>
                  </a:lnTo>
                  <a:lnTo>
                    <a:pt x="1" y="3733"/>
                  </a:lnTo>
                  <a:lnTo>
                    <a:pt x="5753" y="3733"/>
                  </a:lnTo>
                  <a:lnTo>
                    <a:pt x="5753" y="3781"/>
                  </a:lnTo>
                  <a:lnTo>
                    <a:pt x="1" y="3781"/>
                  </a:lnTo>
                  <a:lnTo>
                    <a:pt x="1" y="3841"/>
                  </a:lnTo>
                  <a:lnTo>
                    <a:pt x="5753" y="3841"/>
                  </a:lnTo>
                  <a:lnTo>
                    <a:pt x="5753" y="388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cc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4527-25EC-4717-83EF-C704FAD45667}" type="slidenum">
              <a:rPr b="0" lang="en-US" sz="14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34640" cy="6845400"/>
            <a:chOff x="0" y="0"/>
            <a:chExt cx="9134640" cy="68454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9132840" cy="68454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cc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115920"/>
              <a:ext cx="9134640" cy="6613560"/>
            </a:xfrm>
            <a:custGeom>
              <a:avLst/>
              <a:gdLst/>
              <a:ahLst/>
              <a:rect l="l" t="t" r="r" b="b"/>
              <a:pathLst>
                <a:path w="5754" h="4166">
                  <a:moveTo>
                    <a:pt x="5753" y="3889"/>
                  </a:moveTo>
                  <a:lnTo>
                    <a:pt x="1" y="3888"/>
                  </a:lnTo>
                  <a:lnTo>
                    <a:pt x="1" y="3948"/>
                  </a:lnTo>
                  <a:lnTo>
                    <a:pt x="5753" y="3948"/>
                  </a:lnTo>
                  <a:lnTo>
                    <a:pt x="5753" y="3996"/>
                  </a:lnTo>
                  <a:lnTo>
                    <a:pt x="1" y="3997"/>
                  </a:lnTo>
                  <a:lnTo>
                    <a:pt x="1" y="4056"/>
                  </a:lnTo>
                  <a:lnTo>
                    <a:pt x="5753" y="4056"/>
                  </a:lnTo>
                  <a:lnTo>
                    <a:pt x="5753" y="4105"/>
                  </a:lnTo>
                  <a:lnTo>
                    <a:pt x="1" y="4104"/>
                  </a:lnTo>
                  <a:lnTo>
                    <a:pt x="1" y="4165"/>
                  </a:lnTo>
                  <a:lnTo>
                    <a:pt x="5753" y="4165"/>
                  </a:lnTo>
                  <a:lnTo>
                    <a:pt x="5753" y="0"/>
                  </a:lnTo>
                  <a:lnTo>
                    <a:pt x="1" y="0"/>
                  </a:lnTo>
                  <a:lnTo>
                    <a:pt x="1" y="61"/>
                  </a:lnTo>
                  <a:lnTo>
                    <a:pt x="5753" y="60"/>
                  </a:lnTo>
                  <a:lnTo>
                    <a:pt x="5753" y="108"/>
                  </a:lnTo>
                  <a:lnTo>
                    <a:pt x="1" y="108"/>
                  </a:lnTo>
                  <a:lnTo>
                    <a:pt x="1" y="168"/>
                  </a:lnTo>
                  <a:lnTo>
                    <a:pt x="5753" y="169"/>
                  </a:lnTo>
                  <a:lnTo>
                    <a:pt x="5753" y="216"/>
                  </a:lnTo>
                  <a:lnTo>
                    <a:pt x="1" y="216"/>
                  </a:lnTo>
                  <a:lnTo>
                    <a:pt x="1" y="276"/>
                  </a:lnTo>
                  <a:lnTo>
                    <a:pt x="5753" y="277"/>
                  </a:lnTo>
                  <a:lnTo>
                    <a:pt x="5753" y="324"/>
                  </a:lnTo>
                  <a:lnTo>
                    <a:pt x="1" y="324"/>
                  </a:lnTo>
                  <a:lnTo>
                    <a:pt x="1" y="384"/>
                  </a:lnTo>
                  <a:lnTo>
                    <a:pt x="5753" y="384"/>
                  </a:lnTo>
                  <a:lnTo>
                    <a:pt x="5753" y="432"/>
                  </a:lnTo>
                  <a:lnTo>
                    <a:pt x="1" y="432"/>
                  </a:lnTo>
                  <a:lnTo>
                    <a:pt x="1" y="492"/>
                  </a:lnTo>
                  <a:lnTo>
                    <a:pt x="5753" y="493"/>
                  </a:lnTo>
                  <a:lnTo>
                    <a:pt x="5753" y="540"/>
                  </a:lnTo>
                  <a:lnTo>
                    <a:pt x="1" y="540"/>
                  </a:lnTo>
                  <a:lnTo>
                    <a:pt x="1" y="600"/>
                  </a:lnTo>
                  <a:lnTo>
                    <a:pt x="5753" y="600"/>
                  </a:lnTo>
                  <a:lnTo>
                    <a:pt x="5753" y="648"/>
                  </a:lnTo>
                  <a:lnTo>
                    <a:pt x="1" y="648"/>
                  </a:lnTo>
                  <a:lnTo>
                    <a:pt x="1" y="708"/>
                  </a:lnTo>
                  <a:lnTo>
                    <a:pt x="5753" y="709"/>
                  </a:lnTo>
                  <a:lnTo>
                    <a:pt x="5753" y="756"/>
                  </a:lnTo>
                  <a:lnTo>
                    <a:pt x="1" y="756"/>
                  </a:lnTo>
                  <a:lnTo>
                    <a:pt x="1" y="816"/>
                  </a:lnTo>
                  <a:lnTo>
                    <a:pt x="5753" y="817"/>
                  </a:lnTo>
                  <a:lnTo>
                    <a:pt x="5753" y="865"/>
                  </a:lnTo>
                  <a:lnTo>
                    <a:pt x="1" y="864"/>
                  </a:lnTo>
                  <a:lnTo>
                    <a:pt x="1" y="925"/>
                  </a:lnTo>
                  <a:lnTo>
                    <a:pt x="5753" y="925"/>
                  </a:lnTo>
                  <a:lnTo>
                    <a:pt x="5753" y="973"/>
                  </a:lnTo>
                  <a:lnTo>
                    <a:pt x="1" y="972"/>
                  </a:lnTo>
                  <a:lnTo>
                    <a:pt x="1" y="1032"/>
                  </a:lnTo>
                  <a:lnTo>
                    <a:pt x="5753" y="1033"/>
                  </a:lnTo>
                  <a:lnTo>
                    <a:pt x="5753" y="1080"/>
                  </a:lnTo>
                  <a:lnTo>
                    <a:pt x="1" y="1080"/>
                  </a:lnTo>
                  <a:lnTo>
                    <a:pt x="1" y="1140"/>
                  </a:lnTo>
                  <a:lnTo>
                    <a:pt x="5753" y="1140"/>
                  </a:lnTo>
                  <a:lnTo>
                    <a:pt x="5753" y="1188"/>
                  </a:lnTo>
                  <a:lnTo>
                    <a:pt x="1" y="1188"/>
                  </a:lnTo>
                  <a:lnTo>
                    <a:pt x="1" y="1248"/>
                  </a:lnTo>
                  <a:lnTo>
                    <a:pt x="5753" y="1248"/>
                  </a:lnTo>
                  <a:lnTo>
                    <a:pt x="5753" y="1296"/>
                  </a:lnTo>
                  <a:lnTo>
                    <a:pt x="1" y="1297"/>
                  </a:lnTo>
                  <a:lnTo>
                    <a:pt x="1" y="1357"/>
                  </a:lnTo>
                  <a:lnTo>
                    <a:pt x="5753" y="1356"/>
                  </a:lnTo>
                  <a:lnTo>
                    <a:pt x="5753" y="1404"/>
                  </a:lnTo>
                  <a:lnTo>
                    <a:pt x="1" y="1404"/>
                  </a:lnTo>
                  <a:lnTo>
                    <a:pt x="1" y="1465"/>
                  </a:lnTo>
                  <a:lnTo>
                    <a:pt x="5753" y="1464"/>
                  </a:lnTo>
                  <a:lnTo>
                    <a:pt x="5753" y="1512"/>
                  </a:lnTo>
                  <a:lnTo>
                    <a:pt x="1" y="1512"/>
                  </a:lnTo>
                  <a:lnTo>
                    <a:pt x="1" y="1572"/>
                  </a:lnTo>
                  <a:lnTo>
                    <a:pt x="5753" y="1572"/>
                  </a:lnTo>
                  <a:lnTo>
                    <a:pt x="5753" y="1620"/>
                  </a:lnTo>
                  <a:lnTo>
                    <a:pt x="1" y="1620"/>
                  </a:lnTo>
                  <a:lnTo>
                    <a:pt x="1" y="1680"/>
                  </a:lnTo>
                  <a:lnTo>
                    <a:pt x="5753" y="1681"/>
                  </a:lnTo>
                  <a:lnTo>
                    <a:pt x="5753" y="1728"/>
                  </a:lnTo>
                  <a:lnTo>
                    <a:pt x="1" y="1728"/>
                  </a:lnTo>
                  <a:lnTo>
                    <a:pt x="1" y="1789"/>
                  </a:lnTo>
                  <a:lnTo>
                    <a:pt x="5753" y="1789"/>
                  </a:lnTo>
                  <a:lnTo>
                    <a:pt x="5753" y="1836"/>
                  </a:lnTo>
                  <a:lnTo>
                    <a:pt x="1" y="1836"/>
                  </a:lnTo>
                  <a:lnTo>
                    <a:pt x="1" y="1896"/>
                  </a:lnTo>
                  <a:lnTo>
                    <a:pt x="5753" y="1896"/>
                  </a:lnTo>
                  <a:lnTo>
                    <a:pt x="5753" y="1944"/>
                  </a:lnTo>
                  <a:lnTo>
                    <a:pt x="1" y="1944"/>
                  </a:lnTo>
                  <a:lnTo>
                    <a:pt x="1" y="2005"/>
                  </a:lnTo>
                  <a:lnTo>
                    <a:pt x="5753" y="2004"/>
                  </a:lnTo>
                  <a:lnTo>
                    <a:pt x="5753" y="2052"/>
                  </a:lnTo>
                  <a:lnTo>
                    <a:pt x="1" y="2052"/>
                  </a:lnTo>
                  <a:lnTo>
                    <a:pt x="1" y="2113"/>
                  </a:lnTo>
                  <a:lnTo>
                    <a:pt x="5753" y="2112"/>
                  </a:lnTo>
                  <a:lnTo>
                    <a:pt x="5753" y="2161"/>
                  </a:lnTo>
                  <a:lnTo>
                    <a:pt x="1" y="2160"/>
                  </a:lnTo>
                  <a:lnTo>
                    <a:pt x="1" y="2220"/>
                  </a:lnTo>
                  <a:lnTo>
                    <a:pt x="5753" y="2220"/>
                  </a:lnTo>
                  <a:lnTo>
                    <a:pt x="5753" y="2268"/>
                  </a:lnTo>
                  <a:lnTo>
                    <a:pt x="1" y="2268"/>
                  </a:lnTo>
                  <a:lnTo>
                    <a:pt x="1" y="2328"/>
                  </a:lnTo>
                  <a:lnTo>
                    <a:pt x="5753" y="2328"/>
                  </a:lnTo>
                  <a:lnTo>
                    <a:pt x="5753" y="2376"/>
                  </a:lnTo>
                  <a:lnTo>
                    <a:pt x="1" y="2376"/>
                  </a:lnTo>
                  <a:lnTo>
                    <a:pt x="1" y="2437"/>
                  </a:lnTo>
                  <a:lnTo>
                    <a:pt x="5753" y="2436"/>
                  </a:lnTo>
                  <a:lnTo>
                    <a:pt x="5753" y="2484"/>
                  </a:lnTo>
                  <a:lnTo>
                    <a:pt x="1" y="2484"/>
                  </a:lnTo>
                  <a:lnTo>
                    <a:pt x="1" y="2545"/>
                  </a:lnTo>
                  <a:lnTo>
                    <a:pt x="5753" y="2545"/>
                  </a:lnTo>
                  <a:lnTo>
                    <a:pt x="5753" y="2592"/>
                  </a:lnTo>
                  <a:lnTo>
                    <a:pt x="1" y="2592"/>
                  </a:lnTo>
                  <a:lnTo>
                    <a:pt x="1" y="2652"/>
                  </a:lnTo>
                  <a:lnTo>
                    <a:pt x="5753" y="2652"/>
                  </a:lnTo>
                  <a:lnTo>
                    <a:pt x="5753" y="2700"/>
                  </a:lnTo>
                  <a:lnTo>
                    <a:pt x="1" y="2700"/>
                  </a:lnTo>
                  <a:lnTo>
                    <a:pt x="1" y="2761"/>
                  </a:lnTo>
                  <a:lnTo>
                    <a:pt x="5753" y="2760"/>
                  </a:lnTo>
                  <a:lnTo>
                    <a:pt x="5753" y="2808"/>
                  </a:lnTo>
                  <a:lnTo>
                    <a:pt x="1" y="2808"/>
                  </a:lnTo>
                  <a:lnTo>
                    <a:pt x="1" y="2868"/>
                  </a:lnTo>
                  <a:lnTo>
                    <a:pt x="5753" y="2868"/>
                  </a:lnTo>
                  <a:lnTo>
                    <a:pt x="5753" y="2917"/>
                  </a:lnTo>
                  <a:lnTo>
                    <a:pt x="0" y="2917"/>
                  </a:lnTo>
                  <a:lnTo>
                    <a:pt x="1" y="2977"/>
                  </a:lnTo>
                  <a:lnTo>
                    <a:pt x="5753" y="2976"/>
                  </a:lnTo>
                  <a:lnTo>
                    <a:pt x="5753" y="3024"/>
                  </a:lnTo>
                  <a:lnTo>
                    <a:pt x="1" y="3024"/>
                  </a:lnTo>
                  <a:lnTo>
                    <a:pt x="1" y="3084"/>
                  </a:lnTo>
                  <a:lnTo>
                    <a:pt x="5753" y="3084"/>
                  </a:lnTo>
                  <a:lnTo>
                    <a:pt x="5753" y="3132"/>
                  </a:lnTo>
                  <a:lnTo>
                    <a:pt x="1" y="3132"/>
                  </a:lnTo>
                  <a:lnTo>
                    <a:pt x="1" y="3192"/>
                  </a:lnTo>
                  <a:lnTo>
                    <a:pt x="5753" y="3192"/>
                  </a:lnTo>
                  <a:lnTo>
                    <a:pt x="5753" y="3240"/>
                  </a:lnTo>
                  <a:lnTo>
                    <a:pt x="1" y="3240"/>
                  </a:lnTo>
                  <a:lnTo>
                    <a:pt x="1" y="3301"/>
                  </a:lnTo>
                  <a:lnTo>
                    <a:pt x="5753" y="3300"/>
                  </a:lnTo>
                  <a:lnTo>
                    <a:pt x="5753" y="3348"/>
                  </a:lnTo>
                  <a:lnTo>
                    <a:pt x="1" y="3348"/>
                  </a:lnTo>
                  <a:lnTo>
                    <a:pt x="1" y="3408"/>
                  </a:lnTo>
                  <a:lnTo>
                    <a:pt x="5753" y="3409"/>
                  </a:lnTo>
                  <a:lnTo>
                    <a:pt x="5753" y="3457"/>
                  </a:lnTo>
                  <a:lnTo>
                    <a:pt x="1" y="3456"/>
                  </a:lnTo>
                  <a:lnTo>
                    <a:pt x="1" y="3517"/>
                  </a:lnTo>
                  <a:lnTo>
                    <a:pt x="5753" y="3516"/>
                  </a:lnTo>
                  <a:lnTo>
                    <a:pt x="5753" y="3565"/>
                  </a:lnTo>
                  <a:lnTo>
                    <a:pt x="1" y="3565"/>
                  </a:lnTo>
                  <a:lnTo>
                    <a:pt x="1" y="3624"/>
                  </a:lnTo>
                  <a:lnTo>
                    <a:pt x="5753" y="3625"/>
                  </a:lnTo>
                  <a:lnTo>
                    <a:pt x="5753" y="3673"/>
                  </a:lnTo>
                  <a:lnTo>
                    <a:pt x="1" y="3672"/>
                  </a:lnTo>
                  <a:lnTo>
                    <a:pt x="1" y="3733"/>
                  </a:lnTo>
                  <a:lnTo>
                    <a:pt x="5753" y="3733"/>
                  </a:lnTo>
                  <a:lnTo>
                    <a:pt x="5753" y="3781"/>
                  </a:lnTo>
                  <a:lnTo>
                    <a:pt x="1" y="3781"/>
                  </a:lnTo>
                  <a:lnTo>
                    <a:pt x="1" y="3841"/>
                  </a:lnTo>
                  <a:lnTo>
                    <a:pt x="5753" y="3841"/>
                  </a:lnTo>
                  <a:lnTo>
                    <a:pt x="5753" y="388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cc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6263-5A00-44C1-8634-9EDB2685BB57}" type="slidenum">
              <a:rPr b="0" lang="en-US" sz="14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dex Arbitrage in the MBS Marke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9072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n-US" sz="4000" spc="-1" strike="noStrike" baseline="30000">
                <a:solidFill>
                  <a:srgbClr val="ff33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CONSULTING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Al Ardebili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Al Qureshi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Arup Mukherjee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7/29/2002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bservations...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The Index is Weighted By the Outstanding Float of the Mortgage Market…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And yet, only a few of the 250 Issues represent a large proportion of the Index.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rbitraging the MBS Index With Sub-Componen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So Consider the Following Arbitrage: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Pay/SELL on the Index Total Return Swap ”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Buy a Smaller Underlying Mix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ccff"/>
                </a:solidFill>
                <a:latin typeface="Arial"/>
              </a:rPr>
              <a:t>Maximize Return while taking as little Risk as possible!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rbitrage Considera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For the Arbitrage to work, we need to be able to trade in and potentially out of our hedge with the least possible bid/offer. 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Choose Large, Liquid Coupons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Limit the Allocation in Each Coupon / Each Issuer / Each Sector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Do Not Allow Shorting, (The MBS Market Has a History of Short Squeezing)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Make Duration Neutral Portfolios in Order to Mitigate Risk to Yield Curve Shifts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Run Solver With These Constraints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tting Up the Solve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Maximize Historical Return Of: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Long Some Allocation of Mortgages 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lvl="2" marL="100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Short The Index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Make Duration of Allocation = Index Duration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Adjust Components of Allocation (Hedge Portfolio)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Maintain Constraints As Above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olver Resul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Excess Return of  229 bps (Over 5 Years) -- 46 bp annual return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The Portfolio was Duration Neutral vs Its Index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Reduced Number of Issues from 255 to 7! 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Standard Deviation Was  6 bps !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Using the Standard Trade Size of $100 MM the Return was $460 K annually.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nsitivity Analys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Running Solver Table -- The Risk Frontier is shown below: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3520" y="2057400"/>
          <a:ext cx="8229600" cy="421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57400"/>
                    <a:ext cx="822960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rbitrage Strategy Resul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33280" y="1219320"/>
          <a:ext cx="8678880" cy="54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1219320"/>
                    <a:ext cx="867888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esting the Optimal Portfolio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We made 45 (annual) bps on our Arbitrage trade.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Q: Our Analysis was BACKWARD OPTIMIZATION but how will this perform in the Future?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A: Simulate P/L On Optimal Allocation By Randomly Sampling Historical Returns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esting the Optimal Portfolio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09480" y="1523880"/>
            <a:ext cx="8001000" cy="5029200"/>
            <a:chOff x="609480" y="1523880"/>
            <a:chExt cx="8001000" cy="502920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609480" y="1523880"/>
              <a:ext cx="800100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5105520" y="3352680"/>
              <a:ext cx="2590560" cy="228600"/>
            </a:xfrm>
            <a:prstGeom prst="ellipse">
              <a:avLst/>
            </a:prstGeom>
            <a:solidFill>
              <a:srgbClr val="ff3300">
                <a:alpha val="50000"/>
              </a:srgbClr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cc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esting the Optimal Portfolio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Assume the Portfolio Allocation Versus the Index on $100 MM Notional on a Swap that lasts 90 days (60 business days)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Calculate the Profit and Loss over 10,000 scenarios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Analyze Return and Risk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dex Arbitrage in the Mortgage Marke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A Quick Primer on the MBS Market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Value in the MBS Index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Arbitraging the MBS Index With Sub-Components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Arbitrage Considerations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Testing Our Results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Analysis and Discussion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nalysis and Discuss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50292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While Our Return is +35 bps or $350K, the Strategy has some risk -- with 95 % Certainty, you will not lose more than 3 million dollars (I.e. VAR is $3 million).</a:t>
            </a:r>
            <a:endParaRPr b="0" lang="en-US" sz="2400" spc="-1" strike="noStrike">
              <a:solidFill>
                <a:srgbClr val="cccc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6324840" cy="39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nalysis and Discuss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From a Historical Perspective, our trade is a low risk, positive return strategy.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From a Scenario Approach Perspective, our Risk arbitrage is a higher risk, positive return strategy.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In order to test the validity of our results, perhaps an integrated Solver - Scenario Approach would yield better return/risk ratio(s).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 Quick Primer on the MBS Marke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Mortgage Backed Securities are Actively Traded with 7.5 Trillion Notional Outstanding.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Mortgages Offer Investors High Yield and Low Risk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Investors Include Banks, Corporations and Arbritageurs looking to earn higher return over Treasuries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 Quick Primer on the MBS Marke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Mortgage Backed Securities Offer Many Attractive Benefits But Are Resource Intensive to Track and Control.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Investors Need to Be Aware Of: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Settlement Procedures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Back-Office Over-Head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Coupon Selection And Associated Risk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Hedging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Economies of Scale Prohibit Many Potential Participants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alue in the MBS Index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Introduce the Merrill Lynch Mortgage Master Index M0A0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Accounts” can Receive the Total Return of the Merrill Lynch Master Index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There are 254 Issues in this Index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The Index Swap is Traded for 3 month Horizons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The Index Weighting Reflects the Mortgage Universe Weightings.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alue in the MBS Index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Investors can participate in the Mortgage market through the M0A0 “Index”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With M0A0 Investors benefit from Diversification while minimizing Bid/Offer.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alue in the MBS Index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Regional Banks are Huge Consumers of the Mortgage Index as it mitigates: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Coupon Selection Issues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Esoteric Mortgage Settlement Issues -- just a Spread.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Back-Office Over-Head 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sg56776" descr=""/>
          <p:cNvPicPr/>
          <p:nvPr/>
        </p:nvPicPr>
        <p:blipFill>
          <a:blip r:embed="rId1"/>
          <a:stretch/>
        </p:blipFill>
        <p:spPr>
          <a:xfrm>
            <a:off x="0" y="-171360"/>
            <a:ext cx="9906120" cy="70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304920" y="609480"/>
            <a:ext cx="5029200" cy="5867640"/>
            <a:chOff x="304920" y="609480"/>
            <a:chExt cx="5029200" cy="5867640"/>
          </a:xfrm>
        </p:grpSpPr>
        <p:graphicFrame>
          <p:nvGraphicFramePr>
            <p:cNvPr id="104" name=""/>
            <p:cNvGraphicFramePr/>
            <p:nvPr/>
          </p:nvGraphicFramePr>
          <p:xfrm>
            <a:off x="304920" y="609480"/>
            <a:ext cx="5029200" cy="5867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609480"/>
                      <a:ext cx="5029200" cy="586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6" name=""/>
            <p:cNvSpPr/>
            <p:nvPr/>
          </p:nvSpPr>
          <p:spPr>
            <a:xfrm>
              <a:off x="304920" y="1905120"/>
              <a:ext cx="2743200" cy="2514600"/>
            </a:xfrm>
            <a:prstGeom prst="ellipse">
              <a:avLst/>
            </a:prstGeom>
            <a:noFill/>
            <a:ln w="572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ccff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5486400" y="609480"/>
            <a:ext cx="33526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A FEW SECURITY TYPES (COUPONS), ACCOUNT FOR A LARGE PROPORTION OF THE TOTAL.</a:t>
            </a:r>
            <a:endParaRPr b="0" lang="en-US" sz="2400" spc="-1" strike="noStrike">
              <a:solidFill>
                <a:srgbClr val="ccc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3733920"/>
            <a:ext cx="32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THIS COULD REPRESENT AN OPPORTUNITY….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0T18:54:38Z</dcterms:created>
  <dc:creator>ps245140</dc:creator>
  <dc:description/>
  <dc:language>en-US</dc:language>
  <cp:lastModifiedBy>Arup Mukherjee</cp:lastModifiedBy>
  <dcterms:modified xsi:type="dcterms:W3CDTF">2002-07-29T03:30:36Z</dcterms:modified>
  <cp:revision>13</cp:revision>
  <dc:subject/>
  <dc:title>Index Arbritrage in the MBS Market</dc:title>
</cp:coreProperties>
</file>