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9C9-5C64-478E-9DB8-10D8AD42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1C8-235C-4C50-A602-CD0302E0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3B2-2BD2-4929-AB87-1624D5E0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BC1-8EEF-47BF-9BAA-0B8AC7FC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94EA-B421-46E3-931C-070FD152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C1F0-B3BC-451B-A0D5-BC266C90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E516-6D48-4742-BC6B-3CEDC6BB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6D1E-BB0B-474E-993D-CF9A017E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74AB-CB90-41E8-82AD-4F2FACB2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5B24-B53B-46D9-B233-4190ACFC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3908-C29E-4C2F-94B4-DB6AD0A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BAD-D57E-49ED-BE99-10B6574D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9B99-593B-495F-8A2F-5DEA7CAD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DCE9-4652-409F-9B4E-091285C7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7782-BD3E-4ED7-B5EA-D544C6CB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4C74-E1CD-4070-B024-26A34F69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1285-30BD-44F1-9593-EDD18572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653-F82D-4817-AB86-20AED6F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1B2-6FE7-4DEC-AC76-FCB15095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457-5C70-4DDC-A8C2-AC06CC09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0AB-959E-4CA8-A3F1-BB834523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DF2-1B62-4C11-894B-6D97C69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1A9-B247-4A3E-AD37-1204E305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E5B-FD97-41A1-81FB-2F8DA7F8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C5AC-1BA0-4369-A8C9-17884DA4C7C5}" type="slidenum">
              <a:rPr b="0" lang="en-US" sz="14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D008-2CB2-44AF-95BF-88E9758C7115}" type="slidenum">
              <a:rPr b="0" lang="en-US" sz="14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dex Arbitrage in the MBS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4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CONSULTING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l Ardebili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l Qureshi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rup Mukherje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7/29/2002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servations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e Index is Weighted By the Outstanding Float of the Mortgage Market…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nd yet, only a few of the 250 Issues represent a large proportion of the Index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rbitraging the MBS Index With Sub-Compon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o Consider the Following Arbitrage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Pay/SELL on the Index Total Return Swap ”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Buy a Smaller Underlying Mi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Arial"/>
              </a:rPr>
              <a:t>Maximize Return while taking as little Risk as possible!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rbitrage Consider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or the Arbitrage to work, we need to be able to trade in and potentially out of our hedge with the least possible bid/offer.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Choose Large, Liquid Coupon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Limit the Allocation in Each Coupon / Each Issuer / Each Sector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o Not Allow Shorting, (The MBS Market Has a History of Short Squeezing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Make Duration Neutral Portfolios in Order to Mitigate Risk to Yield Curve Shift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un Solver With These Constraint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ing Up the Solv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ximize Historical Return Of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Long Some Allocation of Mortgages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hort The Inde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ke Duration of Allocation = Index Duration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djust Components of Allocation (Hedge Portfolio)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intain Constraints As Abov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lver 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Excess Return of  229 bps (Over 5 Years) -- 46 bp annual return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e Portfolio was Duration Neutral vs Its Index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Reduced Number of Issues from 255 to 7! 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tandard Deviation Was  6 bps !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Using the Standard Trade Size of $100 MM the Return was $460 K annually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itivity 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Running Solver Table -- The Risk Frontier is shown below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2057400"/>
          <a:ext cx="822960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rbitrage Strategy 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3280" y="1219320"/>
          <a:ext cx="867888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219320"/>
                    <a:ext cx="86788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ing the Optimal Portfoli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We made 45 (annual) bps on our Arbitrage trade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Q: Our Analysis was BACKWARD OPTIMIZATION but how will this perform in the Future?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: Simulate P/L On Optimal Allocation By Randomly Sampling Historical Return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ing the Optimal Portfoli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523880"/>
            <a:ext cx="8001000" cy="5029200"/>
            <a:chOff x="609480" y="1523880"/>
            <a:chExt cx="8001000" cy="50292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80010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105520" y="3352680"/>
              <a:ext cx="2590560" cy="22860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ing the Optimal Portfoli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ssume the Portfolio Allocation Versus the Index on $100 MM Notional on a Swap that lasts 90 days (60 business days)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alculate the Profit and Loss over 10,000 scenario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nalyze Return and Risk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dex Arbitrage in the Mortgage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 Quick Primer on the MBS Marke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Value in the MBS Index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rbitraging the MBS Index With Sub-Component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rbitrage Consideration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esting Our Result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nalysis and Discussion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lysis and Discus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029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While Our Return is +35 bps or $350K, the Strategy has some risk -- with 95 % Certainty, you will not lose more than 3 million dollars (I.e. VAR is $3 million).</a:t>
            </a:r>
            <a:endParaRPr b="0" lang="en-US" sz="24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3248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lysis and Discus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rom a Historical Perspective, our trade is a low risk, positive return strategy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rom a Scenario Approach Perspective, our Risk arbitrage is a higher risk, positive return strategy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 order to test the validity of our results, perhaps an integrated Solver - Scenario Approach would yield better return/risk ratio(s)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Quick Primer on the MBS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ortgage Backed Securities are Actively Traded with 7.5 Trillion Notional Outstanding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ortgages Offer Investors High Yield and Low Risk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vestors Include Banks, Corporations and Arbritageurs looking to earn higher return over Treasurie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Quick Primer on the MBS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ortgage Backed Securities Offer Many Attractive Benefits But Are Resource Intensive to Track and Control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vestors Need to Be Aware Of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ettlement Procedure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Back-Office Over-Head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oupon Selection And Associated Risk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Hedging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Economies of Scale Prohibit Many Potential Participant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in the MBS Inde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troduce the Merrill Lynch Mortgage Master Index M0A0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ccounts” can Receive the Total Return of the Merrill Lynch Master Inde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There are 254 Issues in this Inde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The Index Swap is Traded for 3 month Horizon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e Index Weighting Reflects the Mortgage Universe Weightings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in the MBS Inde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vestors can participate in the Mortgage market through the M0A0 “Index”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With M0A0 Investors benefit from Diversification while minimizing Bid/Offer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in the MBS Inde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Regional Banks are Huge Consumers of the Mortgage Index as it mitigates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oupon Selection Issue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soteric Mortgage Settlement Issues -- just a Spread.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Back-Office Over-Head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g56776" descr=""/>
          <p:cNvPicPr/>
          <p:nvPr/>
        </p:nvPicPr>
        <p:blipFill>
          <a:blip r:embed="rId1"/>
          <a:stretch/>
        </p:blipFill>
        <p:spPr>
          <a:xfrm>
            <a:off x="0" y="-171360"/>
            <a:ext cx="9906120" cy="70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04920" y="609480"/>
            <a:ext cx="5029200" cy="5867640"/>
            <a:chOff x="304920" y="609480"/>
            <a:chExt cx="5029200" cy="5867640"/>
          </a:xfrm>
        </p:grpSpPr>
        <p:graphicFrame>
          <p:nvGraphicFramePr>
            <p:cNvPr id="104" name=""/>
            <p:cNvGraphicFramePr/>
            <p:nvPr/>
          </p:nvGraphicFramePr>
          <p:xfrm>
            <a:off x="304920" y="609480"/>
            <a:ext cx="5029200" cy="586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609480"/>
                      <a:ext cx="5029200" cy="586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304920" y="1905120"/>
              <a:ext cx="2743200" cy="25146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486400" y="609480"/>
            <a:ext cx="3352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 FEW SECURITY TYPES (COUPONS), ACCOUNT FOR A LARGE PROPORTION OF THE TOTAL.</a:t>
            </a:r>
            <a:endParaRPr b="0" lang="en-US" sz="2400" spc="-1" strike="noStrike">
              <a:solidFill>
                <a:srgbClr val="ccc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373392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IS COULD REPRESENT AN OPPORTUNITY….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8:54:38Z</dcterms:created>
  <dc:creator>ps245140</dc:creator>
  <dc:description/>
  <dc:language>en-US</dc:language>
  <cp:lastModifiedBy>Arup Mukherjee</cp:lastModifiedBy>
  <dcterms:modified xsi:type="dcterms:W3CDTF">2002-07-29T03:30:36Z</dcterms:modified>
  <cp:revision>13</cp:revision>
  <dc:subject/>
  <dc:title>Index Arbritrage in the MBS Market</dc:title>
</cp:coreProperties>
</file>