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522-79E4-4DAD-8D03-3D694982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0F7-31A3-475F-8450-A330B776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112-C149-4A29-B0BF-229DA842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D8E-E589-45B3-A36A-784C3F3F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598D-31FC-4090-BE1B-D835E7D5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4ED7-821C-4582-8F8F-861732C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9917-0E42-47AD-B067-1121F2BB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E0C2-E70B-48DB-809F-EF51BF1F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2125-7EAD-4AB7-BB65-BD4B1C61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BBC-BCE8-4296-9703-265B96BA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F4C2-7B8E-44E7-8B48-0D6E391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B5F-7356-405C-A937-27DEE7B8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2B8-9371-4A12-8FE3-9147884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33D1-D4E3-4248-83A8-1490CF8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7FCF-D173-44A0-B948-F894ACB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75D-F2DB-480E-A618-96C8800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67B5-D663-4B99-ABAD-F2031F2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A67-E3BE-43B9-86F3-586C95F4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B7D-B2C3-4B15-A4A0-A6DD7FC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E2A-4EA0-4A39-8EA0-07F395A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851-3297-47AE-9F57-99C29E3F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945-A0CC-440E-95F4-39FC197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727-EEEE-41A5-A8AB-7D1A49C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0B5-32F0-4848-81A5-7052223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B885-B98B-46FA-98D4-3B2BB6F26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6E0-04AA-43B1-BD44-80580B3B3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76240" y="1689120"/>
            <a:ext cx="6297840" cy="0"/>
          </a:xfrm>
          <a:prstGeom prst="line">
            <a:avLst/>
          </a:prstGeom>
          <a:ln w="12600">
            <a:solidFill>
              <a:srgbClr val="031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78040" y="1697040"/>
            <a:ext cx="279360" cy="2314440"/>
          </a:xfrm>
          <a:prstGeom prst="rect">
            <a:avLst/>
          </a:prstGeom>
          <a:solidFill>
            <a:srgbClr val="031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92320" y="1798560"/>
            <a:ext cx="5972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tail Sales Forecasting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a Sieg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n Nuc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E28-884C-4679-B0DA-395C4B1E59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ntial Smoothing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52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2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8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estimation of spikes or extreme 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7A7-5394-4E73-84A3-9311620BA3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3840" y="1654200"/>
          <a:ext cx="8369280" cy="4667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654200"/>
                    <a:ext cx="836928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589-2094-4588-AD89-DE616672A8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t’s Method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Trend = .0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53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691.0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5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lt’s method forecast approximates trends but underestimates large spik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nstrates the highest MAE of the three forecasting methods excluding regr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B21-B2D7-4DD5-A514-299298C503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Forecast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552680"/>
          <a:ext cx="8483400" cy="479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52680"/>
                    <a:ext cx="8483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220-A816-42B5-9457-0E332F238C8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’s – Ke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oothing Constants (Decision Variab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Level = .3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Trend = .0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Seasonality = -.1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No seasonality ob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Courier New"/>
              </a:rPr>
              <a:t>Optim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RMSE = .47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PE = 473.8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MAE = .38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Seasonal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90D-CD07-4935-BC0E-4347E07047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Seasonal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1960" y="1590840"/>
          <a:ext cx="8496360" cy="475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590840"/>
                    <a:ext cx="849636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02B-F890-4CEE-BA52-C3271D640F9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ales vs. actual labor might provide a better forecast for planning purp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Use forecasting model for planned lab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labor might increase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Run test sam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ather forecasts might improve near-term labor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Look at short-term weather foreca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tions appear to have an impact o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mmendation – Determine relative cost impact of promotions; Try alternative promotion techn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alysis &amp; Recommenda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11D-E017-4134-8CD0-BE6C5E4B664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879560" y="2184480"/>
            <a:ext cx="5537160" cy="341640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&amp;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F7D-2D20-4F69-9FAF-B88A3D59CB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 retailer must deter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es forecasts for next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 between several independent variables on prior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ach for optimal labor and promotion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2 days of sales percentage changes between a two-year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s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les, Planned Labor, Actual Labor, Traffic, Conversion, Promotions, Weather Favorability, Temperature, and Precip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A48-4C1A-4A7B-8651-74FCFF2BE6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717560"/>
          <a:ext cx="8610840" cy="451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717560"/>
                    <a:ext cx="861084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454-F796-4D86-A72B-6009F35A28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ression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nned Labor, Actual Labor, Traffic, Conversion, Promotions, Weather Favorability, Temperature, and Precip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mize Adjusted 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nential Smoothing metho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cas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must be greater than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RM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029-C7F6-49C6-9A77-BA09A27078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t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 and Trend must be greater than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MA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’s metho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ecast vari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vel, Trend, and Seasonality must be less than or equal t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imize RM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F47-CEC6-4594-AD3C-DA901B2DDF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ression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t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tP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nential Smoothing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t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ter’s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colline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nce Inflation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5% 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number of independent var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fferences between regression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8E6-B3C4-4D8A-B79E-D308ACB4A0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tab – Ke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Sales = - 0.071 + 0.251 (Planned Labor) + 0.498 (Actual Labor) + 0.215 (Traffic) - 3.01 (Conversion) + 0.068 (Promotion) + 0.096 (Weather Favorability) + 1.34 (Temperature) + .026 (Precipit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Significant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Actual Labor (+ correlation, p-value = .17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Traffic (+ correlation, p-value = .15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Conversion (- correlation, p-value = .15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Temperature (+ correlation, p-value = .0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ourier New"/>
              </a:rPr>
              <a:t>Promotion (+ correlation, p-value = .27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Explained Vari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28.5%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justed R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15.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Error of Estimate = 40.7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nce Inflation Facto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o conclusive evidence of strong multicollinearity (VIF &gt; 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Regress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2B9-66FE-4082-983B-18745F0FB8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38320" y="2760840"/>
            <a:ext cx="73990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635040" indent="-181080">
              <a:lnSpc>
                <a:spcPct val="90000"/>
              </a:lnSpc>
              <a:spcBef>
                <a:spcPts val="4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840" indent="-22536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1c582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" y="1357200"/>
            <a:ext cx="3197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Results - Regress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200" y="1628640"/>
          <a:ext cx="8534520" cy="459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200" y="1628640"/>
                    <a:ext cx="85345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BF7-F527-4DA5-81AA-6B78708123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3T14:51:32Z</dcterms:created>
  <dc:creator>Deloitte &amp; Touche LLP</dc:creator>
  <dc:description/>
  <dc:language>en-US</dc:language>
  <cp:lastModifiedBy>Deloitte &amp; Touche</cp:lastModifiedBy>
  <cp:lastPrinted>2000-06-07T13:54:33Z</cp:lastPrinted>
  <dcterms:modified xsi:type="dcterms:W3CDTF">2002-08-05T19:05:05Z</dcterms:modified>
  <cp:revision>550</cp:revision>
  <dc:subject>IFC</dc:subject>
  <dc:title>No Slide Title</dc:title>
</cp:coreProperties>
</file>