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0CE-074C-475F-B72E-D97E465E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BAD-4D92-4A69-8307-3D2BCD2A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AF9-D7BC-48CB-B7B1-9CB5AC53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7CC-EE65-45EC-8F07-947B3676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DCB0-FC5B-42FF-B4C3-C5B420C9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7400-DAEC-445C-B984-7433200F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DBF-5BCA-44AF-AAB5-95395D5D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BAFC-FFF9-411F-A046-E49E8547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2DA4-7701-4D14-9CF4-24DD672A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B5D1-5E41-4E52-BD73-5BC81102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2D09-0149-4CDD-86AD-F7E3BE0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72D-0154-4EAB-B5CC-86B2294B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5DB9-D3F0-4067-9286-6D64A88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E0A3-052B-43EE-A416-80B5A09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3FF-909D-492F-BBDC-96683743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350-6575-4E32-8472-405AF921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329A-9460-4C1D-B384-05E2A291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90D-4E68-443A-8612-81C60A9E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A40-324C-4563-8BBE-6C966A4C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511-F016-4034-8D34-8AED4FE2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4B2-6F71-4EFE-93E5-723AB4D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632-74CE-4E28-8620-9D1B267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94F-71AA-470A-BE1B-7D3264D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BEF-58B1-49AB-BE04-8345B432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4DD8-5A06-4C0F-BFB8-E3114AEA5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85F-403B-4723-AD3D-A94183CB80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76240" y="1689120"/>
            <a:ext cx="6297840" cy="0"/>
          </a:xfrm>
          <a:prstGeom prst="line">
            <a:avLst/>
          </a:prstGeom>
          <a:ln w="12600">
            <a:solidFill>
              <a:srgbClr val="031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8040" y="1697040"/>
            <a:ext cx="279360" cy="2314440"/>
          </a:xfrm>
          <a:prstGeom prst="rect">
            <a:avLst/>
          </a:prstGeom>
          <a:solidFill>
            <a:srgbClr val="031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2320" y="1798560"/>
            <a:ext cx="5972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tail Sales Forecasting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a Sieg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n Nuc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1D7-3A78-4F7A-956B-BA5E1E1EAC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nential Smoothing – K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othing Constants (Decision Variab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Level = 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RMSE = .52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PE = 2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E = .38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estimation of spikes or extreme 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243-1FDB-4442-B1CC-74DF38DAB5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3840" y="1654200"/>
          <a:ext cx="8369280" cy="4667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654200"/>
                    <a:ext cx="836928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A94-E6A2-4947-8522-83DE01BE8D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t’s Method – K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othing Constants (Decision Variab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Level = .3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Trend = .0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RMSE = .53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PE = 691.0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E = .35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lt’s method forecast approximates trends but underestimates large spik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s the highest MAE of the three forecasting methods excluding reg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DFF-359F-46D4-8EFF-5928AEA3837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552680"/>
          <a:ext cx="8483400" cy="479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52680"/>
                    <a:ext cx="8483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253-5431-4378-AF91-3C6E0776832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’s – K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othing Constants (Decision Variab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Level = .37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Trend = .0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Seasonality = -.1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No seasonality ob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RMSE = .47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PE = 473.8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E = .38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Seasonal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40C-8146-4B53-A166-381A21E440D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Seasonal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1960" y="1590840"/>
          <a:ext cx="8496360" cy="475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590840"/>
                    <a:ext cx="849636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23F-5340-4A07-96F9-1B9EEAA397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ales vs. actual labor might provide a better forecast for planning purp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Use forecasting model for planned lab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labor might increase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Run test 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 forecasts might improve near-term labor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Look at short-term weather foreca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tions appear to have an impact o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Determine relative cost impact of promotions; Try alternative promotion techn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alysis &amp; Recommenda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F97-A117-44ED-9DD6-724560D7BE1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879560" y="2184480"/>
            <a:ext cx="5537160" cy="341640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&amp;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BEC-D602-4359-9392-3F3214C928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retailer must deter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es forecasts for next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 between several independent variables on prior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ach for optimal labor and promotion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2 days of sales percentage changes between a two-year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incl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les, Planned Labor, Actual Labor, Traffic, Conversion, Promotions, Weather Favorability, Temperature, and Precip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BF9-A15F-4643-B4A1-0123FA48A2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717560"/>
          <a:ext cx="8610840" cy="451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717560"/>
                    <a:ext cx="861084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00B-D9AD-4E5B-AC5F-AD6FE9E4F7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ression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ned Labor, Actual Labor, Traffic, Conversion, Promotions, Weather Favorability, Temperature, and Precip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mize Adjusted R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nential Smoothing metho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ecas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must be greater than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ize RM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DD7-0457-4BBB-A5B1-90F9B1C399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t’s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and Trend must be greater than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ize MA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ter’s metho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ecas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, Trend, and Seasonality must be less than or equal to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ize RM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3F0-B29B-4C6D-ADAE-45B6EF9A51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ression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t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tP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nential Smoothing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t’s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ter’s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consid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collinea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nce Inflation Fa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5% Confidence Interv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number of independent var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fferences between regression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018-AA73-439D-A715-4BB58EF906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tab – Key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Sales = - 0.071 + 0.251 (Planned Labor) + 0.498 (Actual Labor) + 0.215 (Traffic) - 3.01 (Conversion) + 0.068 (Promotion) + 0.096 (Weather Favorability) + 1.34 (Temperature) + .026 (Precipita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Significant Fa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Actual Labor (+ correlation, p-value = .17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Traffic (+ correlation, p-value = .15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Conversion (- correlation, p-value = .15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Temperature (+ correlation, p-value = .0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Promotion (+ correlation, p-value = .27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Explained Var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28.5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justed R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15.2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Error of Estimate = 40.7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nce Inflation Facto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o conclusive evidence of strong multicollinearity (VIF &gt; 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Regress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009-42A6-4C81-93B8-42265B0BC2A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Regress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200" y="1628640"/>
          <a:ext cx="8534520" cy="459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200" y="1628640"/>
                    <a:ext cx="85345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AED-2600-4C61-942C-95AF9CA651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3T14:51:32Z</dcterms:created>
  <dc:creator>Deloitte &amp; Touche LLP</dc:creator>
  <dc:description/>
  <dc:language>en-US</dc:language>
  <cp:lastModifiedBy>Deloitte &amp; Touche</cp:lastModifiedBy>
  <cp:lastPrinted>2000-06-07T13:54:33Z</cp:lastPrinted>
  <dcterms:modified xsi:type="dcterms:W3CDTF">2002-08-05T19:05:05Z</dcterms:modified>
  <cp:revision>550</cp:revision>
  <dc:subject>IFC</dc:subject>
  <dc:title>No Slide Title</dc:title>
</cp:coreProperties>
</file>