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E2C-711B-46A7-997B-354E6E2E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EA4-573F-43B6-B04C-C0E1AF7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B5D-16B6-4AF6-8625-B4F28F3D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884-838D-4249-8FE5-58F42C17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787E-7D31-4FC3-8DC7-85C37F92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C21-9447-4A7D-A442-7D2CF15C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26E-2D2F-404A-B77F-ED370DE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9AC0-F567-4CE7-A0C6-A08B4587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71AE-0F9E-469D-9559-E1F6A2B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5B29-0D8A-47EE-B93E-15DB48A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5BB1-3AFC-452E-B01D-2EB710A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6EF-7E85-4589-BE1A-F2FFC73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7B8-EB42-4131-ABFD-35EB6FC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DD14-1719-40CB-A04D-6E94BF4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1FE0-7307-44F4-AA4E-223079EE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6AB9-0ACE-4A3A-B365-7E4EC8F9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D0DC-0918-4291-B4FB-F934978C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5AB-6898-4AD3-A30F-DAA7C89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A64-F9A6-40ED-B877-D6362FA0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4D3-3C7C-4A81-8B06-2D7909E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427-D875-4778-8CE5-F6E4C2CE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3F4-A72C-40C6-B24A-A839680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833-8E45-4551-B066-7F1451D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7D5-8DEA-44C8-9753-7C9091F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80F-3987-426C-BD81-98A12FFF1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437-7581-449B-A0BB-4946DC859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ter Break: Ski Va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 Paula Men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ilan X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er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4051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eage Index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p 10 chosen ski resor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 1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ing evolutionary solver: complex, ineffici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34340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 2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ing Simplex Solv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4191120"/>
          <a:ext cx="8381880" cy="236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91120"/>
                    <a:ext cx="8381880" cy="236196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200" y="1752480"/>
          <a:ext cx="838188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52480"/>
                    <a:ext cx="8381880" cy="236232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12193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t huge mileage so that we 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 go from any city to it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H="1" flipV="1" rot="10800000">
            <a:off x="380520" y="1446840"/>
            <a:ext cx="1372320" cy="533880"/>
          </a:xfrm>
          <a:prstGeom prst="bentConnector3">
            <a:avLst>
              <a:gd name="adj1" fmla="val -16662"/>
            </a:avLst>
          </a:prstGeom>
          <a:ln cap="sq" w="28440">
            <a:solidFill>
              <a:srgbClr val="000066"/>
            </a:solidFill>
            <a:miter/>
            <a:headEnd len="med" type="triangle" w="med"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overy: Sub-tou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little trick…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ying subtours using exc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xing Sub-tour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ditional constrain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st make the sum of pink area equal to 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51460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81952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58128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Sub-tour foun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om 3 to 6 and back to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238880" cy="419112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  <p:sp>
        <p:nvSpPr>
          <p:cNvPr id="155" name=""/>
          <p:cNvSpPr/>
          <p:nvPr/>
        </p:nvSpPr>
        <p:spPr>
          <a:xfrm flipH="1">
            <a:off x="3124080" y="2971800"/>
            <a:ext cx="1067040" cy="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743200" y="2437920"/>
            <a:ext cx="0" cy="381240"/>
          </a:xfrm>
          <a:prstGeom prst="line">
            <a:avLst/>
          </a:prstGeom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438280"/>
            <a:ext cx="1295280" cy="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ly…the optim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828800"/>
          <a:ext cx="22096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209680" cy="373392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743200" y="1828800"/>
          <a:ext cx="5986440" cy="377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828800"/>
                    <a:ext cx="5986440" cy="377208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73120" y="1447920"/>
          <a:ext cx="3095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447920"/>
                    <a:ext cx="3095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581280" y="1447920"/>
            <a:ext cx="5018040" cy="434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44720" y="1523880"/>
            <a:ext cx="533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Park C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90512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6002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Deer Valle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83000" y="4724280"/>
            <a:ext cx="609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Telluri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92840" y="32004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now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50040" y="342900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sp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54600" y="2743200"/>
            <a:ext cx="3812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a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02320" y="1905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teambo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07240" y="2514600"/>
            <a:ext cx="685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Winte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11800" y="2971800"/>
            <a:ext cx="7621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Breckenri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1"/>
            <a:endCxn id="173" idx="2"/>
          </p:cNvCxnSpPr>
          <p:nvPr/>
        </p:nvCxnSpPr>
        <p:spPr>
          <a:xfrm flipH="1" flipV="1">
            <a:off x="5944680" y="2895120"/>
            <a:ext cx="267120" cy="153360"/>
          </a:xfrm>
          <a:prstGeom prst="straightConnector1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</p:cxnSp>
      <p:sp>
        <p:nvSpPr>
          <p:cNvPr id="178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n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9" idx="3"/>
            <a:endCxn id="168" idx="0"/>
          </p:cNvCxnSpPr>
          <p:nvPr/>
        </p:nvCxnSpPr>
        <p:spPr>
          <a:xfrm>
            <a:off x="1828440" y="1676160"/>
            <a:ext cx="229320" cy="229320"/>
          </a:xfrm>
          <a:prstGeom prst="straightConnector1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</p:cxnSp>
      <p:sp>
        <p:nvSpPr>
          <p:cNvPr id="180" name=""/>
          <p:cNvSpPr/>
          <p:nvPr/>
        </p:nvSpPr>
        <p:spPr>
          <a:xfrm flipH="1" rot="20215200">
            <a:off x="7848000" y="2300400"/>
            <a:ext cx="533160" cy="366120"/>
          </a:xfrm>
          <a:custGeom>
            <a:avLst/>
            <a:gdLst/>
            <a:ahLst/>
            <a:rect l="l" t="t" r="r" b="b"/>
            <a:pathLst>
              <a:path w="1989" h="2196">
                <a:moveTo>
                  <a:pt x="0" y="440"/>
                </a:moveTo>
                <a:lnTo>
                  <a:pt x="179" y="399"/>
                </a:lnTo>
                <a:lnTo>
                  <a:pt x="302" y="471"/>
                </a:lnTo>
                <a:lnTo>
                  <a:pt x="347" y="619"/>
                </a:lnTo>
                <a:lnTo>
                  <a:pt x="333" y="808"/>
                </a:lnTo>
                <a:lnTo>
                  <a:pt x="878" y="859"/>
                </a:lnTo>
                <a:lnTo>
                  <a:pt x="1176" y="32"/>
                </a:lnTo>
                <a:lnTo>
                  <a:pt x="1254" y="0"/>
                </a:lnTo>
                <a:lnTo>
                  <a:pt x="1351" y="10"/>
                </a:lnTo>
                <a:lnTo>
                  <a:pt x="1416" y="70"/>
                </a:lnTo>
                <a:lnTo>
                  <a:pt x="1445" y="217"/>
                </a:lnTo>
                <a:lnTo>
                  <a:pt x="1394" y="664"/>
                </a:lnTo>
                <a:lnTo>
                  <a:pt x="1361" y="927"/>
                </a:lnTo>
                <a:lnTo>
                  <a:pt x="1720" y="1002"/>
                </a:lnTo>
                <a:lnTo>
                  <a:pt x="1895" y="1073"/>
                </a:lnTo>
                <a:lnTo>
                  <a:pt x="1989" y="1181"/>
                </a:lnTo>
                <a:lnTo>
                  <a:pt x="1970" y="1265"/>
                </a:lnTo>
                <a:lnTo>
                  <a:pt x="1862" y="1325"/>
                </a:lnTo>
                <a:lnTo>
                  <a:pt x="1274" y="1257"/>
                </a:lnTo>
                <a:lnTo>
                  <a:pt x="1067" y="1840"/>
                </a:lnTo>
                <a:lnTo>
                  <a:pt x="963" y="2076"/>
                </a:lnTo>
                <a:lnTo>
                  <a:pt x="855" y="2196"/>
                </a:lnTo>
                <a:lnTo>
                  <a:pt x="660" y="2172"/>
                </a:lnTo>
                <a:lnTo>
                  <a:pt x="613" y="2037"/>
                </a:lnTo>
                <a:lnTo>
                  <a:pt x="777" y="1210"/>
                </a:lnTo>
                <a:lnTo>
                  <a:pt x="68" y="936"/>
                </a:lnTo>
                <a:lnTo>
                  <a:pt x="0" y="440"/>
                </a:lnTo>
                <a:lnTo>
                  <a:pt x="0" y="44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24280" y="3352680"/>
            <a:ext cx="457200" cy="13716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352680"/>
            <a:ext cx="228600" cy="15264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514600"/>
            <a:ext cx="838440" cy="2286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14600" y="1600200"/>
            <a:ext cx="3124080" cy="3808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057400"/>
            <a:ext cx="2133720" cy="26668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599840" y="1523880"/>
            <a:ext cx="304920" cy="7632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4572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ki Rou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638320" y="2057040"/>
            <a:ext cx="228600" cy="6858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09920" y="2819520"/>
            <a:ext cx="381240" cy="1522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1320" y="2666520"/>
            <a:ext cx="609480" cy="76212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olutionary Solver could not improve 1,412 miles among the 10 cities cho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r simplex returned a better solution within 2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learne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ulation and structuring the problem is the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the sub-tours in this example was possible because we only have 11 cities but imagine if we had 50 cities, that would be cumber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889126.1090973_IM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at’s where we want to be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Vail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1280" y="3808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 &amp;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: What’s on the lift?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71629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ial Problem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ter Break: 20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op 10 from 28 ski resorts in Mid-West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ival and departure from Denver Air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our p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less and Ski m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: 28 resorts, 5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op 10 best resorts according to our preferen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best route with the shortest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our preference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visit same resort more than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ur P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y: Scenery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5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we started with 60 as minimum rating but it turn out to be unfeas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now and Groo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5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oo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in.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al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ing the Slo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9080" y="1538280"/>
            <a:ext cx="6764400" cy="493884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3809880"/>
            <a:ext cx="30481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ecision Variable = 10 resor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75248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905120"/>
            <a:ext cx="2895840" cy="7617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ttributes have to be more 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equal to our prefer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3048120"/>
            <a:ext cx="3048120" cy="4572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inary = 1 for chosen destin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 for not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00400" y="3657600"/>
            <a:ext cx="762120" cy="38088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solver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1219320" cy="5335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334120"/>
            <a:ext cx="533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168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5010120" cy="289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24080" y="2590920"/>
            <a:ext cx="914400" cy="53316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4800600"/>
            <a:ext cx="5943600" cy="137160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73120" y="1447920"/>
          <a:ext cx="3095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447920"/>
                    <a:ext cx="3095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81280" y="1447920"/>
            <a:ext cx="5018040" cy="43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44720" y="1523880"/>
            <a:ext cx="533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Park C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90512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6002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Deer Valle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83000" y="4724280"/>
            <a:ext cx="609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Telluri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92840" y="32004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now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50040" y="342900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sp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54600" y="2743200"/>
            <a:ext cx="3812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a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02320" y="1905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teambo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7240" y="2514600"/>
            <a:ext cx="685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Winte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11800" y="2971800"/>
            <a:ext cx="7621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Breckenri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n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572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ki Resor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4:48:39Z</dcterms:created>
  <dc:creator>Stern School</dc:creator>
  <dc:description/>
  <dc:language>en-US</dc:language>
  <cp:lastModifiedBy>Shelley Xia</cp:lastModifiedBy>
  <dcterms:modified xsi:type="dcterms:W3CDTF">2002-08-08T18:17:06Z</dcterms:modified>
  <cp:revision>14</cp:revision>
  <dc:subject/>
  <dc:title>Agenda </dc:title>
</cp:coreProperties>
</file>