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CEB-7F09-4DAA-94BE-81DB20FE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8BF-0FAF-4334-A281-5F8F5ED7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A67-84C9-426C-8A99-FD7FBA91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D50-566A-44B8-9045-FC7DDD1A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93E8-4143-4CCB-B814-ECB41FE2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C938-4F89-4CC7-A240-B5196C2E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1D0D-A011-41A4-B7F8-14639FC2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BB35-9027-4C5E-BD5B-4F471AB0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3C36-F278-4D40-8733-8B6A3CE8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DA82-D749-415C-9472-66C5883D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B92F-10EE-4B82-B0A4-1F3F8A62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2D0-47C6-4FAB-ADAE-072DDF46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B527-2211-41EE-B863-044445C1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E6B0-90B4-4542-9D0D-460D1B0F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6202-7496-4F35-9154-EC7281F1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26CB-8CBA-4AAE-9F94-606C8CA8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FA0D-805E-433A-8CA2-D07791A6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890-0445-48F4-B512-1A9D064B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A45-FB90-4D56-A70A-708184EC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613-A63D-4605-8F4A-B4DCBFF6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43A-8BD9-479A-A2C8-4A036A1F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9C6-0218-4A18-9EAE-0F47D1E6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B99-1390-48E3-984C-001E46FE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1F2-9927-47D5-B940-0AEBFBE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7D5E-B7FD-48BF-BBB1-939A46DD5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10B2-436B-4D76-8503-19235DD76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ter Break: Ski Va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 Paula Mene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hilan X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er 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4051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leage Index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p 10 chosen ski resor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 Methodology 1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ing evolutionary solver: complex, ineffici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381880" cy="4343400"/>
          </a:xfrm>
          <a:prstGeom prst="rect">
            <a:avLst/>
          </a:prstGeom>
          <a:ln cap="sq"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 Methodology 2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ing Simplex Solv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4191120"/>
          <a:ext cx="8381880" cy="236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91120"/>
                    <a:ext cx="8381880" cy="2361960"/>
                  </a:xfrm>
                  <a:prstGeom prst="rect">
                    <a:avLst/>
                  </a:prstGeom>
                  <a:ln cap="sq" w="1260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57200" y="1752480"/>
          <a:ext cx="8381880" cy="23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752480"/>
                    <a:ext cx="8381880" cy="2362320"/>
                  </a:xfrm>
                  <a:prstGeom prst="rect">
                    <a:avLst/>
                  </a:prstGeom>
                  <a:ln cap="sq" w="1260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80880" y="12193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t huge mileage so that we 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 go from any city to itse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 flipH="1" flipV="1" rot="10800000">
            <a:off x="380520" y="1446840"/>
            <a:ext cx="1372320" cy="533880"/>
          </a:xfrm>
          <a:prstGeom prst="bentConnector3">
            <a:avLst>
              <a:gd name="adj1" fmla="val -16662"/>
            </a:avLst>
          </a:prstGeom>
          <a:ln cap="sq" w="28440">
            <a:solidFill>
              <a:srgbClr val="000066"/>
            </a:solidFill>
            <a:miter/>
            <a:headEnd len="med" type="triangle" w="med"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covery: Sub-tou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little trick…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entifying subtours using exc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xing Sub-tours</a:t>
            </a:r>
            <a:br>
              <a:rPr sz="44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dditional constraint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st make the sum of pink area equal to 1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514600"/>
            <a:ext cx="228600" cy="0"/>
          </a:xfrm>
          <a:prstGeom prst="line">
            <a:avLst/>
          </a:prstGeom>
          <a:ln cap="sq" w="38160">
            <a:solidFill>
              <a:srgbClr val="ff66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819520"/>
            <a:ext cx="228600" cy="0"/>
          </a:xfrm>
          <a:prstGeom prst="line">
            <a:avLst/>
          </a:prstGeom>
          <a:ln cap="sq" w="38160">
            <a:solidFill>
              <a:srgbClr val="ff66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581280"/>
            <a:ext cx="228600" cy="0"/>
          </a:xfrm>
          <a:prstGeom prst="line">
            <a:avLst/>
          </a:prstGeom>
          <a:ln cap="sq" w="38160">
            <a:solidFill>
              <a:srgbClr val="ff66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other Sub-tour foun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rom 3 to 6 and back to 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238880" cy="4191120"/>
          </a:xfrm>
          <a:prstGeom prst="rect">
            <a:avLst/>
          </a:prstGeom>
          <a:ln cap="sq" w="12600">
            <a:solidFill>
              <a:srgbClr val="000066"/>
            </a:solidFill>
            <a:miter/>
          </a:ln>
        </p:spPr>
      </p:pic>
      <p:sp>
        <p:nvSpPr>
          <p:cNvPr id="155" name=""/>
          <p:cNvSpPr/>
          <p:nvPr/>
        </p:nvSpPr>
        <p:spPr>
          <a:xfrm flipH="1">
            <a:off x="3124080" y="2971800"/>
            <a:ext cx="1067040" cy="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743200" y="2437920"/>
            <a:ext cx="0" cy="381240"/>
          </a:xfrm>
          <a:prstGeom prst="line">
            <a:avLst/>
          </a:prstGeom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438280"/>
            <a:ext cx="1295280" cy="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2590920"/>
            <a:ext cx="0" cy="380880"/>
          </a:xfrm>
          <a:prstGeom prst="line">
            <a:avLst/>
          </a:prstGeom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ly…the optimal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828800"/>
          <a:ext cx="220968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209680" cy="3733920"/>
                  </a:xfrm>
                  <a:prstGeom prst="rect">
                    <a:avLst/>
                  </a:prstGeom>
                  <a:ln cap="sq" w="1260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743200" y="1828800"/>
          <a:ext cx="5986440" cy="3772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828800"/>
                    <a:ext cx="5986440" cy="3772080"/>
                  </a:xfrm>
                  <a:prstGeom prst="rect">
                    <a:avLst/>
                  </a:prstGeom>
                  <a:ln cap="sq" w="1260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73120" y="1447920"/>
          <a:ext cx="30956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447920"/>
                    <a:ext cx="30956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581280" y="1447920"/>
            <a:ext cx="5018040" cy="4348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44720" y="1523880"/>
            <a:ext cx="5335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Park C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1905120"/>
            <a:ext cx="457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Al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160020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Deer Valle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83000" y="4724280"/>
            <a:ext cx="6098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Telluri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92840" y="320040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Snow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50040" y="3429000"/>
            <a:ext cx="457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Asp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54600" y="2743200"/>
            <a:ext cx="3812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a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02320" y="190512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Steambo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07240" y="2514600"/>
            <a:ext cx="6858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Winter par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11800" y="2971800"/>
            <a:ext cx="7621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Breckenrid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1"/>
            <a:endCxn id="173" idx="2"/>
          </p:cNvCxnSpPr>
          <p:nvPr/>
        </p:nvCxnSpPr>
        <p:spPr>
          <a:xfrm flipH="1" flipV="1">
            <a:off x="5944680" y="2895120"/>
            <a:ext cx="267120" cy="153360"/>
          </a:xfrm>
          <a:prstGeom prst="straightConnector1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</p:cxnSp>
      <p:sp>
        <p:nvSpPr>
          <p:cNvPr id="178" name=""/>
          <p:cNvSpPr/>
          <p:nvPr/>
        </p:nvSpPr>
        <p:spPr>
          <a:xfrm>
            <a:off x="7315200" y="2590920"/>
            <a:ext cx="685800" cy="304560"/>
          </a:xfrm>
          <a:prstGeom prst="ellipse">
            <a:avLst/>
          </a:prstGeom>
          <a:solidFill>
            <a:srgbClr val="ff66ff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Den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69" idx="3"/>
            <a:endCxn id="168" idx="0"/>
          </p:cNvCxnSpPr>
          <p:nvPr/>
        </p:nvCxnSpPr>
        <p:spPr>
          <a:xfrm>
            <a:off x="1828440" y="1676160"/>
            <a:ext cx="229320" cy="229320"/>
          </a:xfrm>
          <a:prstGeom prst="straightConnector1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</p:cxnSp>
      <p:sp>
        <p:nvSpPr>
          <p:cNvPr id="180" name=""/>
          <p:cNvSpPr/>
          <p:nvPr/>
        </p:nvSpPr>
        <p:spPr>
          <a:xfrm flipH="1" rot="20215200">
            <a:off x="7848000" y="2300400"/>
            <a:ext cx="533160" cy="366120"/>
          </a:xfrm>
          <a:custGeom>
            <a:avLst/>
            <a:gdLst/>
            <a:ahLst/>
            <a:rect l="l" t="t" r="r" b="b"/>
            <a:pathLst>
              <a:path w="1989" h="2196">
                <a:moveTo>
                  <a:pt x="0" y="440"/>
                </a:moveTo>
                <a:lnTo>
                  <a:pt x="179" y="399"/>
                </a:lnTo>
                <a:lnTo>
                  <a:pt x="302" y="471"/>
                </a:lnTo>
                <a:lnTo>
                  <a:pt x="347" y="619"/>
                </a:lnTo>
                <a:lnTo>
                  <a:pt x="333" y="808"/>
                </a:lnTo>
                <a:lnTo>
                  <a:pt x="878" y="859"/>
                </a:lnTo>
                <a:lnTo>
                  <a:pt x="1176" y="32"/>
                </a:lnTo>
                <a:lnTo>
                  <a:pt x="1254" y="0"/>
                </a:lnTo>
                <a:lnTo>
                  <a:pt x="1351" y="10"/>
                </a:lnTo>
                <a:lnTo>
                  <a:pt x="1416" y="70"/>
                </a:lnTo>
                <a:lnTo>
                  <a:pt x="1445" y="217"/>
                </a:lnTo>
                <a:lnTo>
                  <a:pt x="1394" y="664"/>
                </a:lnTo>
                <a:lnTo>
                  <a:pt x="1361" y="927"/>
                </a:lnTo>
                <a:lnTo>
                  <a:pt x="1720" y="1002"/>
                </a:lnTo>
                <a:lnTo>
                  <a:pt x="1895" y="1073"/>
                </a:lnTo>
                <a:lnTo>
                  <a:pt x="1989" y="1181"/>
                </a:lnTo>
                <a:lnTo>
                  <a:pt x="1970" y="1265"/>
                </a:lnTo>
                <a:lnTo>
                  <a:pt x="1862" y="1325"/>
                </a:lnTo>
                <a:lnTo>
                  <a:pt x="1274" y="1257"/>
                </a:lnTo>
                <a:lnTo>
                  <a:pt x="1067" y="1840"/>
                </a:lnTo>
                <a:lnTo>
                  <a:pt x="963" y="2076"/>
                </a:lnTo>
                <a:lnTo>
                  <a:pt x="855" y="2196"/>
                </a:lnTo>
                <a:lnTo>
                  <a:pt x="660" y="2172"/>
                </a:lnTo>
                <a:lnTo>
                  <a:pt x="613" y="2037"/>
                </a:lnTo>
                <a:lnTo>
                  <a:pt x="777" y="1210"/>
                </a:lnTo>
                <a:lnTo>
                  <a:pt x="68" y="936"/>
                </a:lnTo>
                <a:lnTo>
                  <a:pt x="0" y="440"/>
                </a:lnTo>
                <a:lnTo>
                  <a:pt x="0" y="44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724280" y="3352680"/>
            <a:ext cx="457200" cy="137160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352680"/>
            <a:ext cx="228600" cy="15264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2514600"/>
            <a:ext cx="838440" cy="22860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514600" y="1600200"/>
            <a:ext cx="3124080" cy="38088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057400"/>
            <a:ext cx="2133720" cy="266688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599840" y="1523880"/>
            <a:ext cx="304920" cy="7632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4572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ki Rou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638320" y="2057040"/>
            <a:ext cx="228600" cy="68580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009920" y="2819520"/>
            <a:ext cx="381240" cy="15228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91320" y="2666520"/>
            <a:ext cx="609480" cy="762120"/>
          </a:xfrm>
          <a:prstGeom prst="line">
            <a:avLst/>
          </a:prstGeom>
          <a:ln cap="sq"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olutionary Solver could not improve 1,412 miles among the 10 cities cho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r simplex returned a better solution within 2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e learne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ulation and structuring the problem is the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the sub-tours in this example was possible because we only have 11 cities but imagine if we had 50 cities, that would be cumbers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889126.1090973_IM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at’s where we want to be…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Vail" descr="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581280" y="3808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 &amp; 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da: What’s on the lift?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71629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rial Problem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erial Problem 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ter Break: 20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top 10 from 28 ski resorts in Mid-West reg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ival and departure from Denver Air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ch our p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ve less and Ski mo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m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Variables: 28 resorts, 5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op 10 best resorts according to our preferen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best route with the shortest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our preference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not visit same resort more than o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 Methodology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ur P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y: Scenery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. 5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we started with 60 as minimum rating but it turn out to be unfeasi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Snow and Groom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. 5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Foo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in. 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alu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. 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osing the Slop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9080" y="1538280"/>
            <a:ext cx="6764400" cy="4938840"/>
          </a:xfrm>
          <a:prstGeom prst="rect">
            <a:avLst/>
          </a:prstGeom>
          <a:ln cap="sq"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3809880"/>
            <a:ext cx="3048120" cy="3812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ecision Variable = 10 resor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75248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905120"/>
            <a:ext cx="2895840" cy="7617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ttributes have to be more 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equal to our prefere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3048120"/>
            <a:ext cx="3048120" cy="4572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inary = 1 for chosen destination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 for not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00400" y="3657600"/>
            <a:ext cx="762120" cy="380880"/>
          </a:xfrm>
          <a:prstGeom prst="line">
            <a:avLst/>
          </a:prstGeom>
          <a:ln cap="sq" w="19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3276720"/>
            <a:ext cx="685800" cy="0"/>
          </a:xfrm>
          <a:prstGeom prst="line">
            <a:avLst/>
          </a:prstGeom>
          <a:ln cap="sq" w="19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nning solver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029200"/>
            <a:ext cx="1219320" cy="5335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5334120"/>
            <a:ext cx="53316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168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5010120" cy="2895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24080" y="2590920"/>
            <a:ext cx="914400" cy="533160"/>
          </a:xfrm>
          <a:prstGeom prst="line">
            <a:avLst/>
          </a:prstGeom>
          <a:ln cap="sq" w="19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09680" y="4800600"/>
            <a:ext cx="5943600" cy="1371600"/>
          </a:xfrm>
          <a:prstGeom prst="rect">
            <a:avLst/>
          </a:prstGeom>
          <a:ln cap="sq" w="1260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73120" y="1447920"/>
          <a:ext cx="30956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447920"/>
                    <a:ext cx="30956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581280" y="1447920"/>
            <a:ext cx="5018040" cy="4348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44720" y="1523880"/>
            <a:ext cx="53352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Park C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905120"/>
            <a:ext cx="457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Al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60020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Deer Valle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83000" y="4724280"/>
            <a:ext cx="6098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Telluri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92840" y="320040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Snow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50040" y="3429000"/>
            <a:ext cx="4572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Asp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54600" y="2743200"/>
            <a:ext cx="3812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a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02320" y="190512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Steambo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07240" y="2514600"/>
            <a:ext cx="6858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Winter Par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11800" y="2971800"/>
            <a:ext cx="76212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Breckenrid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590920"/>
            <a:ext cx="685800" cy="304560"/>
          </a:xfrm>
          <a:prstGeom prst="ellipse">
            <a:avLst/>
          </a:prstGeom>
          <a:solidFill>
            <a:srgbClr val="ff66ff"/>
          </a:solidFill>
          <a:ln cap="sq"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Den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572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ki Resor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4:48:39Z</dcterms:created>
  <dc:creator>Stern School</dc:creator>
  <dc:description/>
  <dc:language>en-US</dc:language>
  <cp:lastModifiedBy>Shelley Xia</cp:lastModifiedBy>
  <dcterms:modified xsi:type="dcterms:W3CDTF">2002-08-08T18:17:06Z</dcterms:modified>
  <cp:revision>14</cp:revision>
  <dc:subject/>
  <dc:title>Agenda </dc:title>
</cp:coreProperties>
</file>