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060-5F6D-4F3E-9169-B176863C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4D6-9894-44D7-B8F3-DF4D4A53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295-2A3E-42DE-A9FE-DA39B27F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FCD-2388-40F8-A68B-7C31F2C3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B149-F5A7-43BE-9FEF-32A09B37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4612-0B6B-47E3-B12E-E377CDF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7E52-3E41-4FB3-9588-4A0FCADC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4044-936C-4EF5-8357-40920715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C045-88CB-4BA6-973B-2C23B158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E7BD-4ED0-4623-9C02-0DCDEEB4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CE05-8B6E-454D-98B9-7FA223D0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A9C-C6D5-4AA9-BEF8-779C5D07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8F05-D602-4F92-9482-82D10276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61D8-FE5A-46B5-A02A-CC5F415D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B71A-1486-495C-A2F7-1BB8ED5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D436-C094-4AD2-9D1A-5B30A87A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EC3C-5796-4F5F-8705-E7969C6D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E68-CE57-4B6A-A171-1DA1DEAD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ED6-D98F-4164-8BAF-9B189DFE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EE7-3516-4121-91FF-B51A3454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FC2C-E6C5-46A8-95FC-883D1780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AAF5-15EC-41E5-B420-5BCAAF84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AAF-38E8-4B74-976F-F6D404C1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403-CFBA-4E0E-99AD-CFD9E33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0924-2345-42C7-86AB-28958903B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B3C1-804E-44BD-81C8-FE06688A7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yling &amp; Wang Consul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We make the decisions for you, so you don’t have t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685800" y="2286000"/>
          <a:ext cx="7391520" cy="33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3915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xt we created Extend models for the credit approval proce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irst model represents the current team structure with 5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is moderate at 77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666880" y="4876920"/>
            <a:ext cx="137160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ond model has 4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zation is much better at 89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442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2895480" y="4800600"/>
            <a:ext cx="190512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lso tried a model using only 3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tilization rate is 1 or 10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685800" y="214776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though the 4 person team has the highest utilization rate of 1.  It is clearly not practic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sts need time to do other administrative work besides review credit applic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this kind of workload is likely to decrease employee mora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Recommend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recommend reducing the team to 5 people -- 4 analysts and 1 team l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ill lower cost without sacrificing productivity or employee work satisfa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Agen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ground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ution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ommend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pital Markets Credit Group (CMC) is part of the New York branch of G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S, based in Germany, is one of the largest banks in the wor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GS’s other bank operating centers would like to trade with a financial institution, they must obtain credit approval from CM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ly CMC is comprised of 6 memb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credit requests are received, they are processed by 5 analysts who either approve or decline th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 request is declined, then the 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erson, the team leader, will re-review the application and make a dec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Backgroun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view process works as follow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roximately one to four credit requests (and most likely 2) arrive every hour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ve credit requests await initial review at the start of the simula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takes 1 to 2 hours to complete the first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ut 25% of the applications fail the first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takes 0.5 to 1 hour to complete the second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ut 50% of the applications fail the second review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ject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e to current economic conditions, GS has decided to lower company headcount in order to reduce cos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ke other departments, CMC has been asked to reduce its sta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C’s VP thinks this will adversely affect productivi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Project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MC’s VP decides to ask the prestigious consultancy R&amp;W to model the credit review process and recommend how many, if any, staff should be laid of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d application arrivals over a one week perio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the data to determine the distribution of interarrival tim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vidence suggests that the distribution is Exponenti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Solution Methodolog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685800" y="2147760"/>
          <a:ext cx="7770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47760"/>
                    <a:ext cx="7770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914400" y="2133720"/>
          <a:ext cx="7162920" cy="40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133720"/>
                    <a:ext cx="7162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23:40:43Z</dcterms:created>
  <dc:creator>Stern School</dc:creator>
  <dc:description/>
  <dc:language>en-US</dc:language>
  <cp:lastModifiedBy>--  --</cp:lastModifiedBy>
  <dcterms:modified xsi:type="dcterms:W3CDTF">2002-08-04T19:51:29Z</dcterms:modified>
  <cp:revision>35</cp:revision>
  <dc:subject/>
  <dc:title>Reyling &amp; Wang, LLP</dc:title>
</cp:coreProperties>
</file>