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C1B6-8661-482F-B343-D9B31E94B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3E22-F24A-4B5F-99FB-65C0CE3B0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DB14-2A67-4690-BD7F-D7D8F64E7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EB11-C9B1-4892-AFD2-30DFAC5FF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27028-CD98-4300-B6E9-9BB8062FB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32411-5C12-42A8-9DC5-0E5335EC8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1476F-7B5F-435C-BA64-BBF0AF8ED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83283-5C5A-427F-BBDA-AB5993D5F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408BF-3BD3-4E85-AB29-E9B57F1A6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7E28E-888D-4FF1-95D2-09D9E59A4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12BD8-CD30-48A5-8191-14C2F3478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6B07-9F4D-45E9-A8AD-2A5860729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E7715-0F2B-4F04-9D53-EAE976D35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66F86-5AB4-480C-80AE-FE219D886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E7A83-DFE8-4898-9930-0F0798C21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E0BF4-6D08-4490-9FD8-AEBBA2C2E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0E618-BEE5-4F9E-B5AB-730249D60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8159-D8A7-416B-B3D3-0EC23986E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AA3F-F859-4E9E-82FF-292BCD61E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3988-B957-4491-98C4-B3C92E946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DF36-DF3B-40B2-9867-F76343FDE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756B-E4F0-4F6F-94E6-D8C33E724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3FEA-E3AF-4B50-89A4-0D09C3029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91C0-D052-4237-9626-25BCC8516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28ACF-7E43-4E98-AE30-76FB95C971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earth" descr="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earth" descr="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88A01-8D64-40EB-B6F6-58CC959AE3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Reyling &amp; Wang Consulting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828800" y="45720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We make the decisions for you, so you don’t have to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Solution Methodology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685800" y="2286000"/>
          <a:ext cx="7391520" cy="334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86000"/>
                    <a:ext cx="7391520" cy="33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Solution Methodology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xt we created Extend models for the credit approval proces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Solution Methodology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first model represents the current team structure with 5 analysts and 1 team lead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tilization is moderate at 77%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Solution Methodology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685800" y="214776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2666880" y="4876920"/>
            <a:ext cx="137160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Solution Methodology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econd model has 4 analysts and 1 team lead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tilization is much better at 89%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Solution Methodology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8305920" cy="442728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2895480" y="4800600"/>
            <a:ext cx="190512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Solution Methodology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lso tried a model using only 3 analysts and 1 team lead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utilization rate is 1 or 100%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Solution Methodology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685800" y="214776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Solution Methodology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though the 4 person team has the highest utilization rate of 1.  It is clearly not practic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sts need time to do other administrative work besides review credit applicat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this kind of workload is likely to decrease employee moral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Recommendation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recommend reducing the team to 5 people -- 4 analysts and 1 team lead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will lower cost without sacrificing productivity or employee work satisfac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Agenda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ckground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ject 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lution Method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commend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Background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apital Markets Credit Group (CMC) is part of the New York branch of GS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S, based in Germany, is one of the largest banks in the worl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GS’s other bank operating centers would like to trade with a financial institution, they must obtain credit approval from CM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Background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rrently CMC is comprised of 6 member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 the credit requests are received, they are processed by 5 analysts who either approve or decline the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the request is declined, then the 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erson, the team leader, will re-review the application and make a decis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Background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review process works as follow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proximately one to four credit requests (and most likely 2) arrive every hour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ve credit requests await initial review at the start of the simulation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takes 1 to 2 hours to complete the first review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out 25% of the applications fail the first review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takes 0.5 to 1 hour to complete the second review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out 50% of the applications fail the second review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Project Overview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ue to current economic conditions, GS has decided to lower company headcount in order to reduce cos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ke other departments, CMC has been asked to reduce its staff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MC’s VP thinks this will adversely affect productivit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Project Overview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MC’s VP decides to ask the prestigious consultancy R&amp;W to model the credit review process and recommend how many, if any, staff should be laid off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Solution Methodology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ed application arrivals over a one week perio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d the data to determine the distribution of interarrival tim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vidence suggests that the distribution is Exponenti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Solution Methodology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685800" y="2147760"/>
          <a:ext cx="7770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147760"/>
                    <a:ext cx="7770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4" name=""/>
          <p:cNvGraphicFramePr/>
          <p:nvPr/>
        </p:nvGraphicFramePr>
        <p:xfrm>
          <a:off x="914400" y="2133720"/>
          <a:ext cx="7162920" cy="40640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2133720"/>
                    <a:ext cx="716292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30T23:40:43Z</dcterms:created>
  <dc:creator>Stern School</dc:creator>
  <dc:description/>
  <dc:language>en-US</dc:language>
  <cp:lastModifiedBy>--  --</cp:lastModifiedBy>
  <dcterms:modified xsi:type="dcterms:W3CDTF">2002-08-04T19:51:29Z</dcterms:modified>
  <cp:revision>35</cp:revision>
  <dc:subject/>
  <dc:title>Reyling &amp; Wang, LLP</dc:title>
</cp:coreProperties>
</file>