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.png" ContentType="image/png"/>
  <Override PartName="/ppt/media/image25.wmf" ContentType="image/x-wmf"/>
  <Override PartName="/ppt/media/image14.png" ContentType="image/png"/>
  <Override PartName="/ppt/media/image22.wmf" ContentType="image/x-wmf"/>
  <Override PartName="/ppt/media/image26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ECF-8BE3-4B4C-94AB-8AB3B799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A7E-D14F-404F-A1DC-1F0B4A74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ADB-EB38-4FB5-957A-4C1DECAE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D6F-1815-4D4D-91E3-792F3268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802-3A67-4F37-ACE6-D4FBFF24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045-8EA5-45C8-AE75-6713F615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2D5-A532-4988-9314-62936E8A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333-7037-4058-AB94-DB5ECADA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804-F375-4C31-B81C-BE8414DC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396-EA5E-4507-9983-F66F1C9E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A33-6CCF-4B31-A011-4EE533C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0BA-7ECA-40B7-B2A2-B503567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88A2-C185-45D3-8475-0A5836D8C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</a:rPr>
              <a:t>ANALYTIC HIERARCHY PROCES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yond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ulti-Objective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John Nov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ugust 5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andra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17640" cy="3962520"/>
          </a:xfrm>
          <a:prstGeom prst="rect">
            <a:avLst/>
          </a:prstGeom>
          <a:ln w="0">
            <a:noFill/>
          </a:ln>
        </p:spPr>
      </p:pic>
      <p:pic>
        <p:nvPicPr>
          <p:cNvPr id="83" name="chelsea_WHO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928960" cy="4057920"/>
          </a:xfrm>
          <a:prstGeom prst="rect">
            <a:avLst/>
          </a:prstGeom>
          <a:ln w="0">
            <a:noFill/>
          </a:ln>
        </p:spPr>
      </p:pic>
      <p:pic>
        <p:nvPicPr>
          <p:cNvPr id="84" name="Pam2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362320" cy="39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152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m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n, but Tr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ndra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irl Next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83808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helsea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 Analytical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6640" y="3249720"/>
            <a:ext cx="1577520" cy="845640"/>
          </a:xfrm>
          <a:custGeom>
            <a:avLst/>
            <a:gdLst>
              <a:gd name="textAreaLeft" fmla="*/ 360000 w 1577520"/>
              <a:gd name="textAreaRight" fmla="*/ 1217520 w 15775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8120" y="23623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6640" y="3249720"/>
            <a:ext cx="1577520" cy="845640"/>
          </a:xfrm>
          <a:custGeom>
            <a:avLst/>
            <a:gdLst>
              <a:gd name="textAreaLeft" fmla="*/ 360000 w 1577520"/>
              <a:gd name="textAreaRight" fmla="*/ 1217520 w 15775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2400" y="3249720"/>
            <a:ext cx="1641240" cy="845640"/>
          </a:xfrm>
          <a:custGeom>
            <a:avLst/>
            <a:gdLst>
              <a:gd name="textAreaLeft" fmla="*/ 374400 w 1641240"/>
              <a:gd name="textAreaRight" fmla="*/ 1266840 w 164124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71440" y="24382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4382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52880" y="243828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800" y="2438280"/>
            <a:ext cx="2362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06640" y="3249720"/>
            <a:ext cx="1577520" cy="845640"/>
          </a:xfrm>
          <a:custGeom>
            <a:avLst/>
            <a:gdLst>
              <a:gd name="textAreaLeft" fmla="*/ 360000 w 1577520"/>
              <a:gd name="textAreaRight" fmla="*/ 1217520 w 15775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2400" y="3249720"/>
            <a:ext cx="1641240" cy="845640"/>
          </a:xfrm>
          <a:custGeom>
            <a:avLst/>
            <a:gdLst>
              <a:gd name="textAreaLeft" fmla="*/ 374400 w 1641240"/>
              <a:gd name="textAreaRight" fmla="*/ 1266840 w 164124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82360" y="3249720"/>
            <a:ext cx="1391760" cy="845640"/>
          </a:xfrm>
          <a:custGeom>
            <a:avLst/>
            <a:gdLst>
              <a:gd name="textAreaLeft" fmla="*/ 317520 w 1391760"/>
              <a:gd name="textAreaRight" fmla="*/ 1074240 w 139176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362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06640" y="3249720"/>
            <a:ext cx="7003440" cy="845640"/>
            <a:chOff x="2006640" y="3249720"/>
            <a:chExt cx="7003440" cy="845640"/>
          </a:xfrm>
        </p:grpSpPr>
        <p:sp>
          <p:nvSpPr>
            <p:cNvPr id="137" name=""/>
            <p:cNvSpPr/>
            <p:nvPr/>
          </p:nvSpPr>
          <p:spPr>
            <a:xfrm>
              <a:off x="2006640" y="3249720"/>
              <a:ext cx="1577520" cy="845640"/>
            </a:xfrm>
            <a:custGeom>
              <a:avLst/>
              <a:gdLst>
                <a:gd name="textAreaLeft" fmla="*/ 360000 w 1577520"/>
                <a:gd name="textAreaRight" fmla="*/ 1217520 w 157752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2400" y="3249720"/>
              <a:ext cx="1641240" cy="845640"/>
            </a:xfrm>
            <a:custGeom>
              <a:avLst/>
              <a:gdLst>
                <a:gd name="textAreaLeft" fmla="*/ 374400 w 1641240"/>
                <a:gd name="textAreaRight" fmla="*/ 1266840 w 164124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82360" y="3249720"/>
              <a:ext cx="1391760" cy="845640"/>
            </a:xfrm>
            <a:custGeom>
              <a:avLst/>
              <a:gdLst>
                <a:gd name="textAreaLeft" fmla="*/ 317520 w 1391760"/>
                <a:gd name="textAreaRight" fmla="*/ 1074240 w 13917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8920" y="3249720"/>
              <a:ext cx="2171160" cy="845640"/>
            </a:xfrm>
            <a:custGeom>
              <a:avLst/>
              <a:gdLst>
                <a:gd name="textAreaLeft" fmla="*/ 495720 w 2171160"/>
                <a:gd name="textAreaRight" fmla="*/ 1675440 w 21711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95120" y="243828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2000" y="25146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5320" y="23623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952880" y="243828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2362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06640" y="3249720"/>
            <a:ext cx="7003440" cy="845640"/>
            <a:chOff x="2006640" y="3249720"/>
            <a:chExt cx="7003440" cy="845640"/>
          </a:xfrm>
        </p:grpSpPr>
        <p:sp>
          <p:nvSpPr>
            <p:cNvPr id="155" name=""/>
            <p:cNvSpPr/>
            <p:nvPr/>
          </p:nvSpPr>
          <p:spPr>
            <a:xfrm>
              <a:off x="2006640" y="3249720"/>
              <a:ext cx="1577520" cy="845640"/>
            </a:xfrm>
            <a:custGeom>
              <a:avLst/>
              <a:gdLst>
                <a:gd name="textAreaLeft" fmla="*/ 360000 w 1577520"/>
                <a:gd name="textAreaRight" fmla="*/ 1217520 w 157752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32400" y="3249720"/>
              <a:ext cx="1641240" cy="845640"/>
            </a:xfrm>
            <a:custGeom>
              <a:avLst/>
              <a:gdLst>
                <a:gd name="textAreaLeft" fmla="*/ 374400 w 1641240"/>
                <a:gd name="textAreaRight" fmla="*/ 1266840 w 164124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82360" y="3249720"/>
              <a:ext cx="1391760" cy="845640"/>
            </a:xfrm>
            <a:custGeom>
              <a:avLst/>
              <a:gdLst>
                <a:gd name="textAreaLeft" fmla="*/ 317520 w 1391760"/>
                <a:gd name="textAreaRight" fmla="*/ 1074240 w 13917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38920" y="3249720"/>
              <a:ext cx="2171160" cy="845640"/>
            </a:xfrm>
            <a:custGeom>
              <a:avLst/>
              <a:gdLst>
                <a:gd name="textAreaLeft" fmla="*/ 495720 w 2171160"/>
                <a:gd name="textAreaRight" fmla="*/ 1675440 w 21711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934320" y="4648320"/>
            <a:ext cx="99036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4648320"/>
            <a:ext cx="91440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467120" y="4191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5320" y="23623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243828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362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06640" y="3249720"/>
            <a:ext cx="7003440" cy="845640"/>
            <a:chOff x="2006640" y="3249720"/>
            <a:chExt cx="7003440" cy="845640"/>
          </a:xfrm>
        </p:grpSpPr>
        <p:sp>
          <p:nvSpPr>
            <p:cNvPr id="175" name=""/>
            <p:cNvSpPr/>
            <p:nvPr/>
          </p:nvSpPr>
          <p:spPr>
            <a:xfrm>
              <a:off x="2006640" y="3249720"/>
              <a:ext cx="1577520" cy="845640"/>
            </a:xfrm>
            <a:custGeom>
              <a:avLst/>
              <a:gdLst>
                <a:gd name="textAreaLeft" fmla="*/ 360000 w 1577520"/>
                <a:gd name="textAreaRight" fmla="*/ 1217520 w 157752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32400" y="3249720"/>
              <a:ext cx="1641240" cy="845640"/>
            </a:xfrm>
            <a:custGeom>
              <a:avLst/>
              <a:gdLst>
                <a:gd name="textAreaLeft" fmla="*/ 374400 w 1641240"/>
                <a:gd name="textAreaRight" fmla="*/ 1266840 w 164124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82360" y="3249720"/>
              <a:ext cx="1391760" cy="845640"/>
            </a:xfrm>
            <a:custGeom>
              <a:avLst/>
              <a:gdLst>
                <a:gd name="textAreaLeft" fmla="*/ 317520 w 1391760"/>
                <a:gd name="textAreaRight" fmla="*/ 1074240 w 13917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38920" y="3249720"/>
              <a:ext cx="2171160" cy="845640"/>
            </a:xfrm>
            <a:custGeom>
              <a:avLst/>
              <a:gdLst>
                <a:gd name="textAreaLeft" fmla="*/ 495720 w 2171160"/>
                <a:gd name="textAreaRight" fmla="*/ 1675440 w 21711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934320" y="4648320"/>
            <a:ext cx="99036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648320"/>
            <a:ext cx="91440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467120" y="4191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010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362320" y="5470560"/>
          <a:ext cx="132084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470560"/>
                    <a:ext cx="132084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267080" y="5460840"/>
          <a:ext cx="137160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5460840"/>
                    <a:ext cx="137160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215040" y="5410080"/>
          <a:ext cx="127332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5040" y="5410080"/>
                    <a:ext cx="1273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6668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114800"/>
            <a:ext cx="2210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114800"/>
            <a:ext cx="3886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971800" y="41148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411480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4114800"/>
            <a:ext cx="2361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352680" y="4038480"/>
            <a:ext cx="2438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105160" y="40384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40384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124080" y="51814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029200" y="5181480"/>
            <a:ext cx="2209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276360" y="5181480"/>
            <a:ext cx="5181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257800" y="51814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162920" y="5257800"/>
            <a:ext cx="1295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1800" y="1661040"/>
            <a:ext cx="65595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5320" y="23623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952880" y="243828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2362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50760" y="3249720"/>
            <a:ext cx="1423080" cy="845640"/>
          </a:xfrm>
          <a:custGeom>
            <a:avLst/>
            <a:gdLst>
              <a:gd name="textAreaLeft" fmla="*/ 324720 w 1423080"/>
              <a:gd name="textAreaRight" fmla="*/ 1098360 w 142308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98080" y="3249720"/>
            <a:ext cx="2079000" cy="845640"/>
          </a:xfrm>
          <a:custGeom>
            <a:avLst/>
            <a:gdLst>
              <a:gd name="textAreaLeft" fmla="*/ 474480 w 2079000"/>
              <a:gd name="textAreaRight" fmla="*/ 1604520 w 207900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8640" y="3249720"/>
            <a:ext cx="3046320" cy="845640"/>
          </a:xfrm>
          <a:custGeom>
            <a:avLst/>
            <a:gdLst>
              <a:gd name="textAreaLeft" fmla="*/ 695160 w 3046320"/>
              <a:gd name="textAreaRight" fmla="*/ 2351160 w 30463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37880" y="3249720"/>
            <a:ext cx="1453320" cy="845640"/>
          </a:xfrm>
          <a:custGeom>
            <a:avLst/>
            <a:gdLst>
              <a:gd name="textAreaLeft" fmla="*/ 331560 w 1453320"/>
              <a:gd name="textAreaRight" fmla="*/ 1121760 w 14533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4648320"/>
            <a:ext cx="99036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4648320"/>
            <a:ext cx="91440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467120" y="4191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10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4114800"/>
            <a:ext cx="2210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4114800"/>
            <a:ext cx="3886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971800" y="41148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411480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4114800"/>
            <a:ext cx="2361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352680" y="4038480"/>
            <a:ext cx="2438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05160" y="40384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40384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124080" y="51814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029200" y="5181480"/>
            <a:ext cx="2209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360" y="5181480"/>
            <a:ext cx="5181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57800" y="51814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162920" y="5257800"/>
            <a:ext cx="1295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5715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5715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2:  Construct Pairwise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1936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3809880" cy="1706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952880" y="3505320"/>
            <a:ext cx="3667320" cy="1520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800600" y="1256760"/>
            <a:ext cx="4114800" cy="1680840"/>
          </a:xfrm>
          <a:prstGeom prst="wedgeRoundRectCallout">
            <a:avLst>
              <a:gd name="adj1" fmla="val -111837"/>
              <a:gd name="adj2" fmla="val 19333"/>
              <a:gd name="adj3" fmla="val 16667"/>
            </a:avLst>
          </a:prstGeom>
          <a:gradFill rotWithShape="0">
            <a:gsLst>
              <a:gs pos="0">
                <a:srgbClr val="4242a0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respect to achieving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O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important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BODY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compared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MI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PRESENTATIO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133720"/>
            <a:ext cx="73911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HP Over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mmon AHP Appl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HP Exam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inal Though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3: Select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104920"/>
            <a:ext cx="350532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veral Scale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a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al Ju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aty’s Nine Point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1447920"/>
            <a:ext cx="0" cy="472428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38680" y="1828800"/>
            <a:ext cx="5305320" cy="4111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715000" y="1828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4: Complete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39621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1599840" y="281952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724280" y="27432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924320" y="281952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5: Evaluate for Consist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1687680"/>
            <a:ext cx="8076960" cy="2160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8600" y="4191120"/>
            <a:ext cx="85345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HP provides way to check consistency among jud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= Consistency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=Randomized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/RI &lt; .10 implies 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% consistency does not mean you are cor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nsistency calls for revaluation of cho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1676520"/>
            <a:ext cx="1752480" cy="2361960"/>
          </a:xfrm>
          <a:prstGeom prst="ellipse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6: Synthesize Fi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5400" y="4648320"/>
            <a:ext cx="391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MMULT(B69:E71,L12:L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029200" y="39625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20080" cy="2494080"/>
          </a:xfrm>
          <a:prstGeom prst="rect">
            <a:avLst/>
          </a:prstGeom>
          <a:ln w="0">
            <a:noFill/>
          </a:ln>
        </p:spPr>
      </p:pic>
      <p:pic>
        <p:nvPicPr>
          <p:cNvPr id="266" name="Sandra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1697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WAIT !!!!!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H NO !!!!!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GENIUS FAILS 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210120" cy="4568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352680" y="5334120"/>
            <a:ext cx="714600" cy="1292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037120" y="2362320"/>
            <a:ext cx="26859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Resource Allocation with A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76960" cy="4194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80880" y="46483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dget is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 is to maximize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ct to budge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ful in allocating resources under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Final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990720"/>
            <a:ext cx="8153640" cy="75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HP is a flexible framework for decisions involving both quantitative and qualitative data,  uncertainty, and multiple objectiv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ierarchical thinking alone can be useful and virtually any problem can be structured as a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n be used individually or in group decision sett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sider using Expert Cho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bine with other models for more effective decision m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licable across many fields and for many different types of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 the only MCDM tool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862760" y="5181480"/>
            <a:ext cx="128124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juran" descr="Professor Juran"/>
          <p:cNvPicPr/>
          <p:nvPr/>
        </p:nvPicPr>
        <p:blipFill>
          <a:blip r:embed="rId2"/>
          <a:stretch/>
        </p:blipFill>
        <p:spPr>
          <a:xfrm>
            <a:off x="6553080" y="5334120"/>
            <a:ext cx="1122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HP: 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48240" y="762120"/>
            <a:ext cx="279576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632448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P:  A decision model that uses hierarchies and pairwise comparison matrices to evaluate alternatives with respect 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antit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alit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als and obj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 by Thomas Saaty during 1970s at Whar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any problem can be structured as a hierarc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individual or group  decision set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into account experience, intuition, and provides a test for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implemented with Expert Choic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4724280"/>
            <a:ext cx="27432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HP: 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89154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rior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or Sel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/Program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Attractiveness/Facility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 Budg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 Funding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folio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Policy Deb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rediction and 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ic Fore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Strategic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51055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nalytic Hierarchy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438280"/>
            <a:ext cx="739152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 Applied 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ior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nalytic Hierarchy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828800"/>
            <a:ext cx="7391520" cy="41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ahoma"/>
              </a:rPr>
              <a:t>Choosing the Ideal M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ahoma"/>
              </a:rPr>
              <a:t>a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ahoma"/>
              </a:rPr>
              <a:t>PTMBAMatch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ce, Love, and L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ization, Prioritization, and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92360" y="4183200"/>
            <a:ext cx="4265640" cy="777600"/>
            <a:chOff x="2592360" y="4183200"/>
            <a:chExt cx="4265640" cy="777600"/>
          </a:xfrm>
        </p:grpSpPr>
        <p:sp>
          <p:nvSpPr>
            <p:cNvPr id="57" name=""/>
            <p:cNvSpPr/>
            <p:nvPr/>
          </p:nvSpPr>
          <p:spPr>
            <a:xfrm>
              <a:off x="2666880" y="4191120"/>
              <a:ext cx="4191120" cy="76176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592360" y="4183200"/>
              <a:ext cx="4187880" cy="7776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Situ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719440" cy="441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28800" y="548640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0880" y="5486400"/>
            <a:ext cx="1013040" cy="118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379680" y="5562720"/>
            <a:ext cx="1192320" cy="1110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572000" y="5904000"/>
            <a:ext cx="2971800" cy="73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8001000" y="5334120"/>
            <a:ext cx="912960" cy="136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19520" y="1219320"/>
            <a:ext cx="60195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skills and tools obtained in Decision Models, Mr. Al A. devises an index arbitrage strategy that apparently allows him to earn very large risk-free profits forever.  Very rich, but burned out by work and school, Mr. Al A. decides to place a personals ad on PTMBAMatch.com, the Internet’s premier dating site for part-time MBAs.  Soon his email box begins to fill up and Mr. Al A. is faced with a tough dec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HO TO DATE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am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248200" cy="391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152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m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n, but Tr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andra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17640" cy="3962520"/>
          </a:xfrm>
          <a:prstGeom prst="rect">
            <a:avLst/>
          </a:prstGeom>
          <a:ln w="0">
            <a:noFill/>
          </a:ln>
        </p:spPr>
      </p:pic>
      <p:pic>
        <p:nvPicPr>
          <p:cNvPr id="76" name="Pam2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2248200" cy="391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152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m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n, but Tr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ndra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irl Next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8:12:16Z</dcterms:created>
  <dc:creator>John Novak</dc:creator>
  <dc:description/>
  <dc:language>en-US</dc:language>
  <cp:lastModifiedBy>Stern School</cp:lastModifiedBy>
  <dcterms:modified xsi:type="dcterms:W3CDTF">2002-08-05T21:45:00Z</dcterms:modified>
  <cp:revision>13</cp:revision>
  <dc:subject/>
  <dc:title>ANALYTIC HIERARCHY PROCESS</dc:title>
</cp:coreProperties>
</file>