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D92D-463C-4B23-960B-2F3F37C74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et of 24 Airbus A320s with an average age of 1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et of 24 Airbus JetBlue attempts to marry the low prices of low-cost pioneer Southwest Airlines with the glitz and frills that make Virgin Airways so much fun to 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aper ti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ies out of airports that major airlines shun like Long Beach,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the preferred airline of those who have flown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management team all with proven track rec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i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nt public in a tough market environment and was very well received by invest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653280"/>
            <a:ext cx="83822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65328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040" y="365328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65328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365328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440" y="365328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441000"/>
            <a:ext cx="83822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65328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65328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653280"/>
            <a:ext cx="83822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653280"/>
            <a:ext cx="83822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65328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65328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65328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65328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653280"/>
            <a:ext cx="2698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441000"/>
            <a:ext cx="83822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65328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040" y="365328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653280"/>
            <a:ext cx="83822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1244520"/>
            <a:ext cx="8382240" cy="5724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d9d9d9"/>
              </a:gs>
              <a:gs pos="100000">
                <a:srgbClr val="8181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8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440" indent="-324000">
              <a:spcBef>
                <a:spcPts val="825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14480" indent="-325440">
              <a:spcBef>
                <a:spcPts val="825"/>
              </a:spcBef>
              <a:buClr>
                <a:srgbClr val="ffff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24080" indent="-266760">
              <a:spcBef>
                <a:spcPts val="825"/>
              </a:spcBef>
              <a:buClr>
                <a:srgbClr val="ffff00"/>
              </a:buClr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647720" indent="-317520">
              <a:spcBef>
                <a:spcPts val="825"/>
              </a:spcBef>
              <a:buClr>
                <a:srgbClr val="ffff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647720" indent="-31752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647720" indent="-31752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44520"/>
            <a:ext cx="8382240" cy="57240"/>
          </a:xfrm>
          <a:prstGeom prst="rect">
            <a:avLst/>
          </a:prstGeom>
          <a:gradFill rotWithShape="0">
            <a:gsLst>
              <a:gs pos="0">
                <a:srgbClr val="818181"/>
              </a:gs>
              <a:gs pos="50000">
                <a:srgbClr val="d9d9d9"/>
              </a:gs>
              <a:gs pos="100000">
                <a:srgbClr val="8181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93040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Resources and Capabiliti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5897520"/>
            <a:ext cx="5333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339840" indent="-3398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ow High Can JetBlue F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686800" cy="5410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4495680"/>
            <a:ext cx="243828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ndeep Agraw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akesh Parameshw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ormulation (Decision Variables)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nd Arcs (Flows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119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119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119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119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440" indent="-324000">
              <a:spcBef>
                <a:spcPts val="1049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s2 &gt;= Turn A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5840" y="3157560"/>
            <a:ext cx="838080" cy="76212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2743200"/>
            <a:ext cx="838440" cy="76212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4" idx="6"/>
            <a:endCxn id="135" idx="2"/>
          </p:cNvCxnSpPr>
          <p:nvPr/>
        </p:nvCxnSpPr>
        <p:spPr>
          <a:xfrm flipV="1">
            <a:off x="2023920" y="3123360"/>
            <a:ext cx="2472480" cy="415080"/>
          </a:xfrm>
          <a:prstGeom prst="curvedConnector5">
            <a:avLst>
              <a:gd name="adj1" fmla="val 49963"/>
              <a:gd name="adj2" fmla="val 50000"/>
              <a:gd name="adj3" fmla="val 49963"/>
            </a:avLst>
          </a:prstGeom>
          <a:ln w="63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7" name=""/>
          <p:cNvSpPr txBox="1"/>
          <p:nvPr/>
        </p:nvSpPr>
        <p:spPr>
          <a:xfrm>
            <a:off x="609480" y="2514600"/>
            <a:ext cx="106704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Y 7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86400" y="1752480"/>
            <a:ext cx="1066680" cy="5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Y 7.5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52480" y="3733920"/>
            <a:ext cx="17528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ongBeach 7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562720" y="2895480"/>
            <a:ext cx="175248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ongBeach 7.5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ormulation (Decision Variables)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night Arcs (Flows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440" indent="-324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es used &lt;= Planes ow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048120"/>
            <a:ext cx="838440" cy="76176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2590920"/>
            <a:ext cx="838080" cy="76176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3" idx="6"/>
            <a:endCxn id="144" idx="2"/>
          </p:cNvCxnSpPr>
          <p:nvPr/>
        </p:nvCxnSpPr>
        <p:spPr>
          <a:xfrm flipV="1">
            <a:off x="2590560" y="2971440"/>
            <a:ext cx="243900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63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"/>
          <p:cNvSpPr txBox="1"/>
          <p:nvPr/>
        </p:nvSpPr>
        <p:spPr>
          <a:xfrm>
            <a:off x="380880" y="3124080"/>
            <a:ext cx="1143000" cy="5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Y 19.5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300720" y="1876320"/>
            <a:ext cx="106704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Y 7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90920" y="3505320"/>
            <a:ext cx="175248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ongBeach 22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172200" y="2438280"/>
            <a:ext cx="16002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ongBeach 7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ormulation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 Ba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440" indent="-324000">
              <a:spcBef>
                <a:spcPts val="1049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Outflows = Sum (inflows) – Sum (outflow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440" indent="-324000">
              <a:spcBef>
                <a:spcPts val="1049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Outflows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352680"/>
            <a:ext cx="838440" cy="76212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86200" y="3200400"/>
            <a:ext cx="114300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Y 7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9880" y="3733920"/>
            <a:ext cx="114300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Y 7.5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715000" y="2895480"/>
            <a:ext cx="16002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ongBeach 7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638680" y="3429000"/>
            <a:ext cx="16002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ongBeach 7.5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ther input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320 capacity = 1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g. Load factor = 8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. of passengers per flight = 1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e cost for each flight in a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month operating reven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month operating exp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daily departures = 1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bjective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ize number of fl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e pro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spcBef>
                <a:spcPts val="11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1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etBlue requires 7 planes to meet the flight schedu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1125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1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etBlue earns a daily net profit of $67,000 in the JFK – Long Beach sect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Limitation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 could not handle more than 200 constra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is non deterministic polynomial ( NP har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creases exponentially with the number of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 airline scheduling problem involves up to 50,000 variables and 40,000 constra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omes even more complex with interconnection of schedules with subsidiaries  and code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ther Model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hood search algorithms e.g. “very large-scale neighborhood search,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440" indent="-324000">
              <a:spcBef>
                <a:spcPts val="1049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que starts with a feasible solution for a problem and repeatedly replaces it with an improved “neighbor”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440" indent="0">
              <a:spcBef>
                <a:spcPts val="1049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s using search heu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Resources and Capabiliti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5897520"/>
            <a:ext cx="5334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339840" indent="-3398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686800" cy="541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441360"/>
            <a:ext cx="8382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523880"/>
            <a:ext cx="838224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39840" indent="-3398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ew fleet of Airbus A320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ffer luxury at a low pri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-ticke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igh % of repeat custom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ery strong management tea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ew, but select airpor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ery Profitabl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440" indent="-32400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7.5% Operating Margin Q1 200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440" indent="-32400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8.6% Operating Margin Q2 200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perating Performance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523880"/>
            <a:ext cx="838224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 marL="319320" indent="-3193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Aircraft Uti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oad Fa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t turna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5760" indent="-30456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Unit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ircraft Utilization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0560" y="1697040"/>
            <a:ext cx="7162560" cy="449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High Load Factor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43000" y="1690560"/>
            <a:ext cx="7010280" cy="448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Low Unit Cos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1606680"/>
            <a:ext cx="7162920" cy="4589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Route Network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19320" y="1714680"/>
            <a:ext cx="7213320" cy="4495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355840" y="2462040"/>
            <a:ext cx="441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78320" y="313056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760" y="440208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80080" y="462600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64440" y="417996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1960" y="279720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2640" y="324324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73320" y="346536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94000" y="368928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14680" y="301932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88160" y="324324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840" y="384480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24840" y="429084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19680" y="380052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11280" y="324324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1960" y="3621240"/>
            <a:ext cx="45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Managerial Problem Definition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70866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imize flights between NY and Long Beach gi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79360">
              <a:spcBef>
                <a:spcPts val="751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79360">
              <a:spcBef>
                <a:spcPts val="751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rnaround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79360">
              <a:spcBef>
                <a:spcPts val="751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ns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960" indent="0">
              <a:spcBef>
                <a:spcPts val="7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36560" y="3048120"/>
            <a:ext cx="5816520" cy="3352680"/>
            <a:chOff x="736560" y="3048120"/>
            <a:chExt cx="5816520" cy="335268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736560" y="3048120"/>
              <a:ext cx="58165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898280" y="4609080"/>
              <a:ext cx="199080" cy="190440"/>
            </a:xfrm>
            <a:prstGeom prst="donut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93880" y="3930840"/>
              <a:ext cx="199080" cy="190440"/>
            </a:xfrm>
            <a:prstGeom prst="donut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122" name=""/>
          <p:cNvCxnSpPr>
            <a:stCxn id="120" idx="6"/>
            <a:endCxn id="121" idx="2"/>
          </p:cNvCxnSpPr>
          <p:nvPr/>
        </p:nvCxnSpPr>
        <p:spPr>
          <a:xfrm flipV="1">
            <a:off x="2096640" y="4025160"/>
            <a:ext cx="3297960" cy="680040"/>
          </a:xfrm>
          <a:prstGeom prst="curvedConnector5">
            <a:avLst>
              <a:gd name="adj1" fmla="val 49967"/>
              <a:gd name="adj2" fmla="val 50000"/>
              <a:gd name="adj3" fmla="val 49967"/>
            </a:avLst>
          </a:prstGeom>
          <a:ln cap="rnd" w="63360">
            <a:solidFill>
              <a:srgbClr val="ffff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0ba5"/>
            </a:gs>
            <a:gs pos="100000">
              <a:srgbClr val="303a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382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ormulation (Decision Variables)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1523880"/>
            <a:ext cx="8382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34000"/>
          </a:bodyPr>
          <a:p>
            <a:pPr marL="116640" indent="-1166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Cost Network Flow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node = city + time comb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ight Arcs (Flows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52360" indent="-968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s1 &lt;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191120"/>
            <a:ext cx="838440" cy="76176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3276720"/>
            <a:ext cx="838080" cy="761760"/>
          </a:xfrm>
          <a:prstGeom prst="donut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6"/>
            <a:endCxn id="126" idx="2"/>
          </p:cNvCxnSpPr>
          <p:nvPr/>
        </p:nvCxnSpPr>
        <p:spPr>
          <a:xfrm flipV="1">
            <a:off x="2133360" y="3657240"/>
            <a:ext cx="297252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63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8" name=""/>
          <p:cNvSpPr txBox="1"/>
          <p:nvPr/>
        </p:nvSpPr>
        <p:spPr>
          <a:xfrm>
            <a:off x="990720" y="3505320"/>
            <a:ext cx="106668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Y 7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943600" y="2362320"/>
            <a:ext cx="175248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LongBeach 10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8120" y="4267080"/>
            <a:ext cx="175248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ongBeach 7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5880" y="3429000"/>
            <a:ext cx="1143000" cy="6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NY 15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9T23:18:43Z</dcterms:created>
  <dc:creator>Greg Coughlin</dc:creator>
  <dc:description/>
  <dc:language>en-US</dc:language>
  <cp:lastModifiedBy>Lehman Brothers</cp:lastModifiedBy>
  <dcterms:modified xsi:type="dcterms:W3CDTF">2002-08-05T15:41:23Z</dcterms:modified>
  <cp:revision>53</cp:revision>
  <dc:subject/>
  <dc:title>Jet Blu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sign">
    <vt:lpwstr>Bluebook.pot</vt:lpwstr>
  </property>
</Properties>
</file>