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1E7-76E5-4675-AC21-6B03BF75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1D0-8B44-4E92-AFAB-03381037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6A5-C3EC-4B0D-891C-748E0C64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902-821F-4EDF-ADE5-D4053462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25BB-3721-48FA-8AD9-E8D7FE01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2E14-3F24-4C0B-8323-2D018FA9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9A9C-C559-4102-9EC1-0963AEF0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F8DD-C67D-4774-B239-6AC3D20B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1BF4-E575-4D9A-9634-6ED933D7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E4D0-1260-4B21-9C8A-719A0378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8F58-AD46-4D04-92C1-1A7DF8AD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1C2-E0F3-4E03-B13E-DEE1188E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AFF2-42BA-4C49-8FD4-A7E60F04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32F2-0E57-4271-9F31-0BE82246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9B4F-FED2-4F84-853A-212270E7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EBA1-D176-4968-A511-7AA572D1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BAB6-9A09-4A1A-9A5D-F6960E80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378-5FCB-486E-9888-A0019475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436-132C-4A4A-8C6C-5BE2ECE6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8AB-1B9E-4296-9D38-E7F501E4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A06-084E-41DA-BC9A-1A44ADAF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2B4-DFBC-4B5C-822D-7806F778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323-BBC6-4DAF-978E-5D57D29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BFC-0D71-4A18-B12E-03EB79A6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349C-8249-4278-BC18-CB36744FC8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7600" y="10620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0280" y="10620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41440" y="1484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11160" y="14842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7080" y="1411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2120" y="9540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42800" y="1744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6FF2-06E4-4639-BAE1-52868C4366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19160" y="1905120"/>
            <a:ext cx="715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cme Chem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timum Production M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2720" y="3733920"/>
            <a:ext cx="71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rk Clif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Problem Definition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me’s Manufacturing Plant Managers want to identify the production mix that provides the most profit for Acme. When purchasing a home, there are many different mortgage options available. We want to develop a model that will assess the optimal type of mortgage to minimize the overall cash outlays over the term of the lo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he Model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rystal Ball simulation to determine the future interest rates to calculate future monthly payments for adjustable rate mortg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ical mortgage and interest rates will be used to determine the historical means and standard devi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ormulation - Inputs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rchase Price of H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Pa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gth of Mortgage (mon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Fixed Interest Rates (15 and 30 ye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 Margin and C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ical 1 Year Treasury Bill M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ical 1 Year Treasury Bill St. Dev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ormulation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of Mortgage (Fixed v. 1, 3, 5, 7, 10 A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in interest rates for ARM’s from year to year and over the life of the lo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bjective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the total cash outlay over the term of the lo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actually measure this by the Internal Rate of Return (IRR) for each mortgage type (I.e. the mortgage with the lowest IRR is the cheapes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monthly pay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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mount of loan, mortgage type, interest r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= time in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2:22:43Z</dcterms:created>
  <dc:creator>sutanto</dc:creator>
  <dc:description/>
  <dc:language>en-US</dc:language>
  <cp:lastModifiedBy>Clifford</cp:lastModifiedBy>
  <cp:lastPrinted>1999-11-19T15:32:46Z</cp:lastPrinted>
  <dcterms:modified xsi:type="dcterms:W3CDTF">2002-07-29T20:54:49Z</dcterms:modified>
  <cp:revision>609</cp:revision>
  <dc:subject/>
  <dc:title>No Slide Title</dc:title>
</cp:coreProperties>
</file>