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5046-B56B-4E8F-9AFB-9D9B051FF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ACE4-62D8-4DA9-8584-BAC91808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E363-6939-43E0-B445-88D47F92F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AB6D-0D45-4E8E-82AE-A04CA43E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EA9F-5969-489D-BAE4-1B8552D7D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B994-0659-4219-B200-C5EB35F1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7429-CA29-4471-BF9A-5EAD7507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39FD-D75A-4094-8587-0AC6ED2B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F005-0D4E-4353-B20B-3867ABF7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554C-05B8-48C7-8C0E-BBCDD1A2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F5C4-0455-4551-BE0B-80A250F7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DF2A-172A-4D6A-AAF3-9DE27CD6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30EC-2918-4968-A1C8-7F174E23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A6C5-C61F-4D9E-90B1-705C6592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2D50-5C15-468A-ADB5-D77A9765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49BE-CB46-4292-8AAC-4969061E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27B3-EFDE-46AA-A6C6-254CEE828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B287-AD18-4BA6-BA80-185FD54A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FB95-E195-4ED1-BB7B-1B4446E8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94C0-9011-4E22-8F62-2C4CE2B9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6E31-95BF-4065-8F7C-B01B7DB5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F309-0FCA-4900-8D63-774A4322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800C-2E05-48A6-BC8E-4E1C6EAF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C26C-541F-4464-BE9E-2EC5B2BC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C305-9B30-4A23-92B7-B79C023BA4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17600" y="106200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0280" y="106200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41440" y="148428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911160" y="148428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7080" y="14112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2120" y="95400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42800" y="1744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70DD-2008-4AEC-A757-57360048AA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019160" y="1905120"/>
            <a:ext cx="715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cme Chemic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ptimum Production M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12720" y="3733920"/>
            <a:ext cx="715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rk Clif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Problem Definition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me’s Manufacturing Plant Managers want to identify the production mix that provides the most profit for Acme. When purchasing a home, there are many different mortgage options available. We want to develop a model that will assess the optimal type of mortgage to minimize the overall cash outlays over the term of the loa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The Model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Crystal Ball simulation to determine the future interest rates to calculate future monthly payments for adjustable rate mortg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ical mortgage and interest rates will be used to determine the historical means and standard devi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Formulation - Inputs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rchase Price of H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 Pay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ngth of Mortgage (month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 Fixed Interest Rates (15 and 30 yea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M Margin and C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torical 1 Year Treasury Bill M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torical 1 Year Treasury Bill St. Dev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Formulation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e of Mortgage (Fixed v. 1, 3, 5, 7, 10 AR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ra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 in interest rates for ARM’s from year to year and over the life of the lo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bjective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ize the total cash outlay over the term of the lo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will actually measure this by the Internal Rate of Return (IRR) for each mortgage type (I.e. the mortgage with the lowest IRR is the cheapes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iz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= monthly pay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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mount of loan, mortgage type, interest ra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= time in month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2T02:22:43Z</dcterms:created>
  <dc:creator>sutanto</dc:creator>
  <dc:description/>
  <dc:language>en-US</dc:language>
  <cp:lastModifiedBy>Clifford</cp:lastModifiedBy>
  <cp:lastPrinted>1999-11-19T15:32:46Z</cp:lastPrinted>
  <dcterms:modified xsi:type="dcterms:W3CDTF">2002-07-29T20:54:49Z</dcterms:modified>
  <cp:revision>609</cp:revision>
  <dc:subject/>
  <dc:title>No Slide Title</dc:title>
</cp:coreProperties>
</file>