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2.wmf" ContentType="image/x-wmf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58400" cy="7772400"/>
  <p:notesSz cx="7264400" cy="9550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23360" y="1199880"/>
            <a:ext cx="918684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3360" y="4164120"/>
            <a:ext cx="918684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23360" y="1199880"/>
            <a:ext cx="448308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31080" y="1199880"/>
            <a:ext cx="448308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23360" y="4164120"/>
            <a:ext cx="448308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31080" y="4164120"/>
            <a:ext cx="448308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23360" y="1199880"/>
            <a:ext cx="295776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29440" y="1199880"/>
            <a:ext cx="295776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35520" y="1199880"/>
            <a:ext cx="295776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23360" y="4164120"/>
            <a:ext cx="295776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29440" y="4164120"/>
            <a:ext cx="295776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635520" y="4164120"/>
            <a:ext cx="295776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23360" y="1199880"/>
            <a:ext cx="9186840" cy="56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3360" y="1199880"/>
            <a:ext cx="9186840" cy="567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3360" y="1199880"/>
            <a:ext cx="4483080" cy="567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1080" y="1199880"/>
            <a:ext cx="4483080" cy="567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11120" y="199800"/>
            <a:ext cx="912168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3360" y="1199880"/>
            <a:ext cx="448308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1080" y="1199880"/>
            <a:ext cx="4483080" cy="567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23360" y="4164120"/>
            <a:ext cx="448308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23360" y="1199880"/>
            <a:ext cx="9186840" cy="56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23360" y="1199880"/>
            <a:ext cx="4483080" cy="567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1080" y="1199880"/>
            <a:ext cx="448308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31080" y="4164120"/>
            <a:ext cx="448308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3360" y="1199880"/>
            <a:ext cx="448308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31080" y="1199880"/>
            <a:ext cx="448308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23360" y="4164120"/>
            <a:ext cx="918684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23360" y="1199880"/>
            <a:ext cx="918684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23360" y="4164120"/>
            <a:ext cx="918684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23360" y="1199880"/>
            <a:ext cx="448308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31080" y="1199880"/>
            <a:ext cx="448308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23360" y="4164120"/>
            <a:ext cx="448308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31080" y="4164120"/>
            <a:ext cx="448308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23360" y="1199880"/>
            <a:ext cx="295776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29440" y="1199880"/>
            <a:ext cx="295776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635520" y="1199880"/>
            <a:ext cx="295776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23360" y="4164120"/>
            <a:ext cx="295776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29440" y="4164120"/>
            <a:ext cx="295776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635520" y="4164120"/>
            <a:ext cx="295776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23360" y="1199880"/>
            <a:ext cx="9186840" cy="567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23360" y="1199880"/>
            <a:ext cx="4483080" cy="567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1080" y="1199880"/>
            <a:ext cx="4483080" cy="567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1120" y="199800"/>
            <a:ext cx="912168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3360" y="1199880"/>
            <a:ext cx="448308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1080" y="1199880"/>
            <a:ext cx="4483080" cy="567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3360" y="4164120"/>
            <a:ext cx="448308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3360" y="1199880"/>
            <a:ext cx="4483080" cy="567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31080" y="1199880"/>
            <a:ext cx="448308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31080" y="4164120"/>
            <a:ext cx="448308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3360" y="1199880"/>
            <a:ext cx="448308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31080" y="1199880"/>
            <a:ext cx="448308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23360" y="4164120"/>
            <a:ext cx="9186840" cy="2706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4.stern.nyu.edu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4.stern.nyu.edu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3360" y="1199880"/>
            <a:ext cx="9186840" cy="567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190440" indent="-19044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54160">
              <a:spcBef>
                <a:spcPts val="799"/>
              </a:spcBef>
              <a:buClr>
                <a:srgbClr val="0033cc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1920" indent="-26172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44600" indent="-198360">
              <a:spcBef>
                <a:spcPts val="799"/>
              </a:spcBef>
              <a:buClr>
                <a:srgbClr val="0033cc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82720" indent="-25380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8272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8272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428040" y="7209000"/>
            <a:ext cx="252360" cy="258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404280" y="7207200"/>
            <a:ext cx="36360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D6E8215-0425-43F8-A38F-A93B9D1C0C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2120" y="7045200"/>
            <a:ext cx="275112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en-US" sz="1000" spc="-1" strike="noStrike">
                <a:solidFill>
                  <a:srgbClr val="0033cc"/>
                </a:solidFill>
                <a:latin typeface="Arial"/>
              </a:rPr>
              <a:t>Marketing Optimizat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33cc"/>
                </a:solidFill>
                <a:latin typeface="Arial"/>
              </a:rPr>
              <a:t>A Macro Appro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889280" y="7077240"/>
            <a:ext cx="0" cy="463320"/>
          </a:xfrm>
          <a:prstGeom prst="line">
            <a:avLst/>
          </a:prstGeom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058720" y="7186680"/>
            <a:ext cx="125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tern.nyu.e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672240" y="7077240"/>
            <a:ext cx="0" cy="463320"/>
          </a:xfrm>
          <a:prstGeom prst="line">
            <a:avLst/>
          </a:prstGeom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4699080" y="7077240"/>
            <a:ext cx="0" cy="463320"/>
          </a:xfrm>
          <a:prstGeom prst="line">
            <a:avLst/>
          </a:prstGeom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175720" y="7045200"/>
            <a:ext cx="10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gust 6,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>
            <a:hlinkClick r:id="rId2"/>
          </p:cNvPr>
          <p:cNvPicPr/>
          <p:nvPr/>
        </p:nvPicPr>
        <p:blipFill>
          <a:blip r:embed="rId3"/>
          <a:srcRect l="2976" t="7965" r="51727" b="31977"/>
          <a:stretch/>
        </p:blipFill>
        <p:spPr>
          <a:xfrm>
            <a:off x="6878520" y="7068960"/>
            <a:ext cx="1903680" cy="4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10058400" cy="6867360"/>
          </a:xfrm>
          <a:prstGeom prst="rect">
            <a:avLst/>
          </a:prstGeom>
          <a:gradFill rotWithShape="0">
            <a:gsLst>
              <a:gs pos="0">
                <a:srgbClr val="eae0d8"/>
              </a:gs>
              <a:gs pos="50000">
                <a:srgbClr val="fdfdfc"/>
              </a:gs>
              <a:gs pos="100000">
                <a:srgbClr val="eae0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160" y="2529000"/>
            <a:ext cx="10039320" cy="4937040"/>
          </a:xfrm>
          <a:custGeom>
            <a:avLst/>
            <a:gdLst/>
            <a:ahLst/>
            <a:rect l="l" t="t" r="r" b="b"/>
            <a:pathLst>
              <a:path w="5757" h="2744">
                <a:moveTo>
                  <a:pt x="5757" y="1790"/>
                </a:moveTo>
                <a:lnTo>
                  <a:pt x="5651" y="1814"/>
                </a:lnTo>
                <a:lnTo>
                  <a:pt x="5406" y="1850"/>
                </a:lnTo>
                <a:lnTo>
                  <a:pt x="5154" y="1880"/>
                </a:lnTo>
                <a:lnTo>
                  <a:pt x="4903" y="1904"/>
                </a:lnTo>
                <a:lnTo>
                  <a:pt x="4646" y="1916"/>
                </a:lnTo>
                <a:lnTo>
                  <a:pt x="4389" y="1917"/>
                </a:lnTo>
                <a:lnTo>
                  <a:pt x="4126" y="1911"/>
                </a:lnTo>
                <a:lnTo>
                  <a:pt x="3869" y="1893"/>
                </a:lnTo>
                <a:lnTo>
                  <a:pt x="3612" y="1869"/>
                </a:lnTo>
                <a:lnTo>
                  <a:pt x="3361" y="1839"/>
                </a:lnTo>
                <a:lnTo>
                  <a:pt x="3110" y="1797"/>
                </a:lnTo>
                <a:lnTo>
                  <a:pt x="2870" y="1743"/>
                </a:lnTo>
                <a:lnTo>
                  <a:pt x="2631" y="1683"/>
                </a:lnTo>
                <a:lnTo>
                  <a:pt x="2398" y="1617"/>
                </a:lnTo>
                <a:lnTo>
                  <a:pt x="2171" y="1545"/>
                </a:lnTo>
                <a:lnTo>
                  <a:pt x="1950" y="1456"/>
                </a:lnTo>
                <a:lnTo>
                  <a:pt x="1734" y="1366"/>
                </a:lnTo>
                <a:lnTo>
                  <a:pt x="1531" y="1264"/>
                </a:lnTo>
                <a:lnTo>
                  <a:pt x="1328" y="1156"/>
                </a:lnTo>
                <a:lnTo>
                  <a:pt x="1136" y="1037"/>
                </a:lnTo>
                <a:lnTo>
                  <a:pt x="951" y="917"/>
                </a:lnTo>
                <a:lnTo>
                  <a:pt x="772" y="779"/>
                </a:lnTo>
                <a:lnTo>
                  <a:pt x="604" y="641"/>
                </a:lnTo>
                <a:lnTo>
                  <a:pt x="443" y="491"/>
                </a:lnTo>
                <a:lnTo>
                  <a:pt x="287" y="335"/>
                </a:lnTo>
                <a:lnTo>
                  <a:pt x="144" y="167"/>
                </a:lnTo>
                <a:lnTo>
                  <a:pt x="11" y="0"/>
                </a:lnTo>
                <a:lnTo>
                  <a:pt x="0" y="257"/>
                </a:lnTo>
                <a:lnTo>
                  <a:pt x="132" y="467"/>
                </a:lnTo>
                <a:lnTo>
                  <a:pt x="275" y="671"/>
                </a:lnTo>
                <a:lnTo>
                  <a:pt x="425" y="863"/>
                </a:lnTo>
                <a:lnTo>
                  <a:pt x="586" y="1049"/>
                </a:lnTo>
                <a:lnTo>
                  <a:pt x="754" y="1228"/>
                </a:lnTo>
                <a:lnTo>
                  <a:pt x="927" y="1402"/>
                </a:lnTo>
                <a:lnTo>
                  <a:pt x="1113" y="1564"/>
                </a:lnTo>
                <a:lnTo>
                  <a:pt x="1304" y="1720"/>
                </a:lnTo>
                <a:lnTo>
                  <a:pt x="1501" y="1864"/>
                </a:lnTo>
                <a:lnTo>
                  <a:pt x="1710" y="2002"/>
                </a:lnTo>
                <a:lnTo>
                  <a:pt x="1920" y="2122"/>
                </a:lnTo>
                <a:lnTo>
                  <a:pt x="2141" y="2240"/>
                </a:lnTo>
                <a:lnTo>
                  <a:pt x="2368" y="2342"/>
                </a:lnTo>
                <a:lnTo>
                  <a:pt x="2596" y="2432"/>
                </a:lnTo>
                <a:lnTo>
                  <a:pt x="2836" y="2516"/>
                </a:lnTo>
                <a:lnTo>
                  <a:pt x="3075" y="2588"/>
                </a:lnTo>
                <a:lnTo>
                  <a:pt x="3326" y="2642"/>
                </a:lnTo>
                <a:lnTo>
                  <a:pt x="3577" y="2690"/>
                </a:lnTo>
                <a:lnTo>
                  <a:pt x="3834" y="2720"/>
                </a:lnTo>
                <a:lnTo>
                  <a:pt x="4091" y="2738"/>
                </a:lnTo>
                <a:lnTo>
                  <a:pt x="4354" y="2744"/>
                </a:lnTo>
                <a:lnTo>
                  <a:pt x="4611" y="2731"/>
                </a:lnTo>
                <a:lnTo>
                  <a:pt x="4868" y="2707"/>
                </a:lnTo>
                <a:lnTo>
                  <a:pt x="5120" y="2671"/>
                </a:lnTo>
                <a:lnTo>
                  <a:pt x="5371" y="2623"/>
                </a:lnTo>
                <a:lnTo>
                  <a:pt x="5622" y="2563"/>
                </a:lnTo>
                <a:lnTo>
                  <a:pt x="5757" y="2516"/>
                </a:lnTo>
                <a:lnTo>
                  <a:pt x="5757" y="17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95600" y="504720"/>
            <a:ext cx="6484680" cy="6718320"/>
          </a:xfrm>
          <a:custGeom>
            <a:avLst/>
            <a:gdLst/>
            <a:ahLst/>
            <a:rect l="l" t="t" r="r" b="b"/>
            <a:pathLst>
              <a:path w="3964" h="3980">
                <a:moveTo>
                  <a:pt x="628" y="3980"/>
                </a:moveTo>
                <a:lnTo>
                  <a:pt x="550" y="3896"/>
                </a:lnTo>
                <a:lnTo>
                  <a:pt x="478" y="3806"/>
                </a:lnTo>
                <a:lnTo>
                  <a:pt x="413" y="3710"/>
                </a:lnTo>
                <a:lnTo>
                  <a:pt x="347" y="3614"/>
                </a:lnTo>
                <a:lnTo>
                  <a:pt x="245" y="3417"/>
                </a:lnTo>
                <a:lnTo>
                  <a:pt x="161" y="3213"/>
                </a:lnTo>
                <a:lnTo>
                  <a:pt x="108" y="3003"/>
                </a:lnTo>
                <a:lnTo>
                  <a:pt x="66" y="2787"/>
                </a:lnTo>
                <a:lnTo>
                  <a:pt x="54" y="2571"/>
                </a:lnTo>
                <a:lnTo>
                  <a:pt x="60" y="2356"/>
                </a:lnTo>
                <a:lnTo>
                  <a:pt x="90" y="2134"/>
                </a:lnTo>
                <a:lnTo>
                  <a:pt x="137" y="1918"/>
                </a:lnTo>
                <a:lnTo>
                  <a:pt x="203" y="1708"/>
                </a:lnTo>
                <a:lnTo>
                  <a:pt x="293" y="1498"/>
                </a:lnTo>
                <a:lnTo>
                  <a:pt x="395" y="1295"/>
                </a:lnTo>
                <a:lnTo>
                  <a:pt x="520" y="1103"/>
                </a:lnTo>
                <a:lnTo>
                  <a:pt x="664" y="923"/>
                </a:lnTo>
                <a:lnTo>
                  <a:pt x="825" y="749"/>
                </a:lnTo>
                <a:lnTo>
                  <a:pt x="998" y="593"/>
                </a:lnTo>
                <a:lnTo>
                  <a:pt x="1184" y="462"/>
                </a:lnTo>
                <a:lnTo>
                  <a:pt x="1375" y="342"/>
                </a:lnTo>
                <a:lnTo>
                  <a:pt x="1578" y="246"/>
                </a:lnTo>
                <a:lnTo>
                  <a:pt x="1782" y="174"/>
                </a:lnTo>
                <a:lnTo>
                  <a:pt x="1985" y="114"/>
                </a:lnTo>
                <a:lnTo>
                  <a:pt x="2200" y="78"/>
                </a:lnTo>
                <a:lnTo>
                  <a:pt x="2410" y="66"/>
                </a:lnTo>
                <a:lnTo>
                  <a:pt x="2619" y="72"/>
                </a:lnTo>
                <a:lnTo>
                  <a:pt x="2828" y="96"/>
                </a:lnTo>
                <a:lnTo>
                  <a:pt x="3031" y="144"/>
                </a:lnTo>
                <a:lnTo>
                  <a:pt x="3235" y="216"/>
                </a:lnTo>
                <a:lnTo>
                  <a:pt x="3426" y="306"/>
                </a:lnTo>
                <a:lnTo>
                  <a:pt x="3617" y="420"/>
                </a:lnTo>
                <a:lnTo>
                  <a:pt x="3797" y="557"/>
                </a:lnTo>
                <a:lnTo>
                  <a:pt x="3964" y="713"/>
                </a:lnTo>
                <a:lnTo>
                  <a:pt x="3797" y="551"/>
                </a:lnTo>
                <a:lnTo>
                  <a:pt x="3611" y="414"/>
                </a:lnTo>
                <a:lnTo>
                  <a:pt x="3420" y="294"/>
                </a:lnTo>
                <a:lnTo>
                  <a:pt x="3217" y="192"/>
                </a:lnTo>
                <a:lnTo>
                  <a:pt x="3007" y="114"/>
                </a:lnTo>
                <a:lnTo>
                  <a:pt x="2792" y="54"/>
                </a:lnTo>
                <a:lnTo>
                  <a:pt x="2571" y="18"/>
                </a:lnTo>
                <a:lnTo>
                  <a:pt x="2350" y="0"/>
                </a:lnTo>
                <a:lnTo>
                  <a:pt x="2128" y="6"/>
                </a:lnTo>
                <a:lnTo>
                  <a:pt x="1907" y="30"/>
                </a:lnTo>
                <a:lnTo>
                  <a:pt x="1686" y="72"/>
                </a:lnTo>
                <a:lnTo>
                  <a:pt x="1477" y="144"/>
                </a:lnTo>
                <a:lnTo>
                  <a:pt x="1268" y="228"/>
                </a:lnTo>
                <a:lnTo>
                  <a:pt x="1070" y="342"/>
                </a:lnTo>
                <a:lnTo>
                  <a:pt x="885" y="468"/>
                </a:lnTo>
                <a:lnTo>
                  <a:pt x="705" y="623"/>
                </a:lnTo>
                <a:lnTo>
                  <a:pt x="544" y="797"/>
                </a:lnTo>
                <a:lnTo>
                  <a:pt x="407" y="983"/>
                </a:lnTo>
                <a:lnTo>
                  <a:pt x="287" y="1181"/>
                </a:lnTo>
                <a:lnTo>
                  <a:pt x="191" y="1391"/>
                </a:lnTo>
                <a:lnTo>
                  <a:pt x="114" y="1606"/>
                </a:lnTo>
                <a:lnTo>
                  <a:pt x="54" y="1834"/>
                </a:lnTo>
                <a:lnTo>
                  <a:pt x="18" y="2062"/>
                </a:lnTo>
                <a:lnTo>
                  <a:pt x="0" y="2290"/>
                </a:lnTo>
                <a:lnTo>
                  <a:pt x="6" y="2523"/>
                </a:lnTo>
                <a:lnTo>
                  <a:pt x="30" y="2751"/>
                </a:lnTo>
                <a:lnTo>
                  <a:pt x="78" y="2973"/>
                </a:lnTo>
                <a:lnTo>
                  <a:pt x="143" y="3195"/>
                </a:lnTo>
                <a:lnTo>
                  <a:pt x="233" y="3411"/>
                </a:lnTo>
                <a:lnTo>
                  <a:pt x="341" y="3608"/>
                </a:lnTo>
                <a:lnTo>
                  <a:pt x="472" y="3800"/>
                </a:lnTo>
                <a:lnTo>
                  <a:pt x="628" y="3980"/>
                </a:lnTo>
                <a:lnTo>
                  <a:pt x="628" y="398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4200" y="261936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84320" y="7045200"/>
            <a:ext cx="27514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en-US" sz="1000" spc="-1" strike="noStrike">
                <a:solidFill>
                  <a:srgbClr val="0033cc"/>
                </a:solidFill>
                <a:latin typeface="Arial"/>
              </a:rPr>
              <a:t>Marketing Optimizat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33cc"/>
                </a:solidFill>
                <a:latin typeface="Arial"/>
              </a:rPr>
              <a:t>A Macro Appro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41480" y="7077240"/>
            <a:ext cx="0" cy="463320"/>
          </a:xfrm>
          <a:prstGeom prst="line">
            <a:avLst/>
          </a:prstGeom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11280" y="7186680"/>
            <a:ext cx="125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tern.nyu.e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4800" y="7077240"/>
            <a:ext cx="0" cy="463320"/>
          </a:xfrm>
          <a:prstGeom prst="line">
            <a:avLst/>
          </a:prstGeom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51640" y="7077240"/>
            <a:ext cx="0" cy="463320"/>
          </a:xfrm>
          <a:prstGeom prst="line">
            <a:avLst/>
          </a:prstGeom>
          <a:ln w="7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27920" y="7045200"/>
            <a:ext cx="10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gust 6,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2"/>
          </p:cNvPr>
          <p:cNvPicPr/>
          <p:nvPr/>
        </p:nvPicPr>
        <p:blipFill>
          <a:blip r:embed="rId3"/>
          <a:srcRect l="2976" t="7965" r="51727" b="31977"/>
          <a:stretch/>
        </p:blipFill>
        <p:spPr>
          <a:xfrm>
            <a:off x="7831080" y="7068960"/>
            <a:ext cx="1903320" cy="4716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2800" indent="0" algn="ctr">
              <a:spcBef>
                <a:spcPts val="7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5200" algn="ctr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46240" algn="ctr">
              <a:spcBef>
                <a:spcPts val="799"/>
              </a:spcBef>
              <a:buClr>
                <a:srgbClr val="0033cc"/>
              </a:buClr>
              <a:buFont typeface="Arial"/>
              <a:buChar char="–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28920" algn="ctr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528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5289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9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8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9.png"/><Relationship Id="rId27" Type="http://schemas.openxmlformats.org/officeDocument/2006/relationships/image" Target="../media/image8.png"/><Relationship Id="rId28" Type="http://schemas.openxmlformats.org/officeDocument/2006/relationships/image" Target="../media/image10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image" Target="../media/image8.png"/><Relationship Id="rId33" Type="http://schemas.openxmlformats.org/officeDocument/2006/relationships/image" Target="../media/image3.png"/><Relationship Id="rId34" Type="http://schemas.openxmlformats.org/officeDocument/2006/relationships/image" Target="../media/image4.png"/><Relationship Id="rId35" Type="http://schemas.openxmlformats.org/officeDocument/2006/relationships/image" Target="../media/image5.png"/><Relationship Id="rId36" Type="http://schemas.openxmlformats.org/officeDocument/2006/relationships/image" Target="../media/image6.png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6.png"/><Relationship Id="rId41" Type="http://schemas.openxmlformats.org/officeDocument/2006/relationships/image" Target="../media/image6.png"/><Relationship Id="rId42" Type="http://schemas.openxmlformats.org/officeDocument/2006/relationships/image" Target="../media/image7.png"/><Relationship Id="rId43" Type="http://schemas.openxmlformats.org/officeDocument/2006/relationships/image" Target="../media/image7.png"/><Relationship Id="rId44" Type="http://schemas.openxmlformats.org/officeDocument/2006/relationships/image" Target="../media/image9.png"/><Relationship Id="rId45" Type="http://schemas.openxmlformats.org/officeDocument/2006/relationships/image" Target="../media/image3.png"/><Relationship Id="rId46" Type="http://schemas.openxmlformats.org/officeDocument/2006/relationships/image" Target="../media/image4.png"/><Relationship Id="rId47" Type="http://schemas.openxmlformats.org/officeDocument/2006/relationships/image" Target="../media/image5.png"/><Relationship Id="rId48" Type="http://schemas.openxmlformats.org/officeDocument/2006/relationships/image" Target="../media/image6.png"/><Relationship Id="rId49" Type="http://schemas.openxmlformats.org/officeDocument/2006/relationships/image" Target="../media/image7.png"/><Relationship Id="rId50" Type="http://schemas.openxmlformats.org/officeDocument/2006/relationships/image" Target="../media/image7.png"/><Relationship Id="rId51" Type="http://schemas.openxmlformats.org/officeDocument/2006/relationships/image" Target="../media/image8.png"/><Relationship Id="rId52" Type="http://schemas.openxmlformats.org/officeDocument/2006/relationships/image" Target="../media/image6.png"/><Relationship Id="rId53" Type="http://schemas.openxmlformats.org/officeDocument/2006/relationships/image" Target="../media/image6.png"/><Relationship Id="rId54" Type="http://schemas.openxmlformats.org/officeDocument/2006/relationships/image" Target="../media/image7.png"/><Relationship Id="rId55" Type="http://schemas.openxmlformats.org/officeDocument/2006/relationships/image" Target="../media/image7.png"/><Relationship Id="rId56" Type="http://schemas.openxmlformats.org/officeDocument/2006/relationships/image" Target="../media/image9.png"/><Relationship Id="rId57" Type="http://schemas.openxmlformats.org/officeDocument/2006/relationships/image" Target="../media/image8.png"/><Relationship Id="rId58" Type="http://schemas.openxmlformats.org/officeDocument/2006/relationships/image" Target="../media/image10.png"/><Relationship Id="rId59" Type="http://schemas.openxmlformats.org/officeDocument/2006/relationships/image" Target="../media/image8.png"/><Relationship Id="rId60" Type="http://schemas.openxmlformats.org/officeDocument/2006/relationships/image" Target="../media/image8.png"/><Relationship Id="rId61" Type="http://schemas.openxmlformats.org/officeDocument/2006/relationships/image" Target="../media/image8.png"/><Relationship Id="rId62" Type="http://schemas.openxmlformats.org/officeDocument/2006/relationships/image" Target="../media/image8.png"/><Relationship Id="rId63" Type="http://schemas.openxmlformats.org/officeDocument/2006/relationships/image" Target="../media/image3.png"/><Relationship Id="rId64" Type="http://schemas.openxmlformats.org/officeDocument/2006/relationships/image" Target="../media/image4.png"/><Relationship Id="rId65" Type="http://schemas.openxmlformats.org/officeDocument/2006/relationships/image" Target="../media/image5.png"/><Relationship Id="rId66" Type="http://schemas.openxmlformats.org/officeDocument/2006/relationships/image" Target="../media/image6.png"/><Relationship Id="rId67" Type="http://schemas.openxmlformats.org/officeDocument/2006/relationships/image" Target="../media/image7.png"/><Relationship Id="rId68" Type="http://schemas.openxmlformats.org/officeDocument/2006/relationships/image" Target="../media/image7.png"/><Relationship Id="rId69" Type="http://schemas.openxmlformats.org/officeDocument/2006/relationships/image" Target="../media/image8.png"/><Relationship Id="rId70" Type="http://schemas.openxmlformats.org/officeDocument/2006/relationships/image" Target="../media/image6.png"/><Relationship Id="rId71" Type="http://schemas.openxmlformats.org/officeDocument/2006/relationships/image" Target="../media/image6.png"/><Relationship Id="rId72" Type="http://schemas.openxmlformats.org/officeDocument/2006/relationships/image" Target="../media/image7.png"/><Relationship Id="rId73" Type="http://schemas.openxmlformats.org/officeDocument/2006/relationships/image" Target="../media/image7.png"/><Relationship Id="rId74" Type="http://schemas.openxmlformats.org/officeDocument/2006/relationships/image" Target="../media/image9.png"/><Relationship Id="rId75" Type="http://schemas.openxmlformats.org/officeDocument/2006/relationships/image" Target="../media/image3.png"/><Relationship Id="rId76" Type="http://schemas.openxmlformats.org/officeDocument/2006/relationships/image" Target="../media/image4.png"/><Relationship Id="rId77" Type="http://schemas.openxmlformats.org/officeDocument/2006/relationships/image" Target="../media/image5.png"/><Relationship Id="rId78" Type="http://schemas.openxmlformats.org/officeDocument/2006/relationships/image" Target="../media/image6.png"/><Relationship Id="rId79" Type="http://schemas.openxmlformats.org/officeDocument/2006/relationships/image" Target="../media/image7.png"/><Relationship Id="rId80" Type="http://schemas.openxmlformats.org/officeDocument/2006/relationships/image" Target="../media/image7.png"/><Relationship Id="rId81" Type="http://schemas.openxmlformats.org/officeDocument/2006/relationships/image" Target="../media/image8.png"/><Relationship Id="rId82" Type="http://schemas.openxmlformats.org/officeDocument/2006/relationships/image" Target="../media/image6.png"/><Relationship Id="rId83" Type="http://schemas.openxmlformats.org/officeDocument/2006/relationships/image" Target="../media/image6.png"/><Relationship Id="rId84" Type="http://schemas.openxmlformats.org/officeDocument/2006/relationships/image" Target="../media/image7.png"/><Relationship Id="rId85" Type="http://schemas.openxmlformats.org/officeDocument/2006/relationships/image" Target="../media/image7.png"/><Relationship Id="rId86" Type="http://schemas.openxmlformats.org/officeDocument/2006/relationships/image" Target="../media/image9.png"/><Relationship Id="rId87" Type="http://schemas.openxmlformats.org/officeDocument/2006/relationships/image" Target="../media/image8.png"/><Relationship Id="rId88" Type="http://schemas.openxmlformats.org/officeDocument/2006/relationships/image" Target="../media/image10.png"/><Relationship Id="rId89" Type="http://schemas.openxmlformats.org/officeDocument/2006/relationships/image" Target="../media/image8.png"/><Relationship Id="rId90" Type="http://schemas.openxmlformats.org/officeDocument/2006/relationships/image" Target="../media/image8.png"/><Relationship Id="rId91" Type="http://schemas.openxmlformats.org/officeDocument/2006/relationships/image" Target="../media/image8.png"/><Relationship Id="rId92" Type="http://schemas.openxmlformats.org/officeDocument/2006/relationships/image" Target="../media/image8.png"/><Relationship Id="rId9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46320" y="211608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Marketing Optimization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49880" y="3438360"/>
            <a:ext cx="358920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Decision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25960" y="3424320"/>
            <a:ext cx="0" cy="74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3438360"/>
            <a:ext cx="3870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gust 6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on Effect Matr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23360" y="837720"/>
            <a:ext cx="9186840" cy="567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190440" indent="-19044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al is to show how channels interact with each 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matrix functions to cross-multiply cha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imulus affects response in other channels; that response added to “direct” eff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1"/>
          <a:stretch/>
        </p:blipFill>
        <p:spPr>
          <a:xfrm>
            <a:off x="228600" y="2152800"/>
            <a:ext cx="9220320" cy="1919160"/>
          </a:xfrm>
          <a:prstGeom prst="rect">
            <a:avLst/>
          </a:prstGeom>
          <a:ln w="28440">
            <a:solidFill>
              <a:srgbClr val="c50731"/>
            </a:solidFill>
            <a:miter/>
          </a:ln>
        </p:spPr>
      </p:pic>
      <p:pic>
        <p:nvPicPr>
          <p:cNvPr id="750" name="" descr=""/>
          <p:cNvPicPr/>
          <p:nvPr/>
        </p:nvPicPr>
        <p:blipFill>
          <a:blip r:embed="rId2"/>
          <a:stretch/>
        </p:blipFill>
        <p:spPr>
          <a:xfrm>
            <a:off x="212760" y="4200480"/>
            <a:ext cx="9312120" cy="2594160"/>
          </a:xfrm>
          <a:prstGeom prst="rect">
            <a:avLst/>
          </a:prstGeom>
          <a:ln w="28440">
            <a:solidFill>
              <a:srgbClr val="c50731"/>
            </a:solidFill>
            <a:miter/>
          </a:ln>
        </p:spPr>
      </p:pic>
      <p:sp>
        <p:nvSpPr>
          <p:cNvPr id="751" name=""/>
          <p:cNvSpPr/>
          <p:nvPr/>
        </p:nvSpPr>
        <p:spPr>
          <a:xfrm>
            <a:off x="3657600" y="1981080"/>
            <a:ext cx="2971800" cy="307080"/>
          </a:xfrm>
          <a:prstGeom prst="rect">
            <a:avLst/>
          </a:prstGeom>
          <a:solidFill>
            <a:srgbClr val="000000"/>
          </a:solidFill>
          <a:ln w="2844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se Stimulus Channel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133720" y="3705120"/>
            <a:ext cx="2971800" cy="307080"/>
          </a:xfrm>
          <a:prstGeom prst="rect">
            <a:avLst/>
          </a:prstGeom>
          <a:solidFill>
            <a:srgbClr val="000000"/>
          </a:solidFill>
          <a:ln w="2844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ffect These Order Channel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1294920" y="3886200"/>
            <a:ext cx="838440" cy="0"/>
          </a:xfrm>
          <a:prstGeom prst="line">
            <a:avLst/>
          </a:prstGeom>
          <a:ln w="57240">
            <a:solidFill>
              <a:srgbClr val="c507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1905120" y="2209680"/>
            <a:ext cx="1752480" cy="152640"/>
          </a:xfrm>
          <a:prstGeom prst="line">
            <a:avLst/>
          </a:prstGeom>
          <a:ln w="57240">
            <a:solidFill>
              <a:srgbClr val="c507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629400" y="2209680"/>
            <a:ext cx="1752480" cy="152640"/>
          </a:xfrm>
          <a:prstGeom prst="line">
            <a:avLst/>
          </a:prstGeom>
          <a:ln w="57240">
            <a:solidFill>
              <a:srgbClr val="c507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809880" y="5457960"/>
            <a:ext cx="3581640" cy="307080"/>
          </a:xfrm>
          <a:prstGeom prst="rect">
            <a:avLst/>
          </a:prstGeom>
          <a:solidFill>
            <a:srgbClr val="000000"/>
          </a:solidFill>
          <a:ln w="2844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ducing These “Indirect” Or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Channel Has a Response Cur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23360" y="838080"/>
            <a:ext cx="9186840" cy="13716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190440" indent="-19044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 curves are determined by coefficient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ch were in turn driven by econometric analysis and experi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iments were driven by 8 market test (factorial / latin squa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533520" y="1947960"/>
            <a:ext cx="6705360" cy="4819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60" name=""/>
          <p:cNvSpPr/>
          <p:nvPr/>
        </p:nvSpPr>
        <p:spPr>
          <a:xfrm>
            <a:off x="7391520" y="1981080"/>
            <a:ext cx="2361960" cy="2447640"/>
          </a:xfrm>
          <a:prstGeom prst="rect">
            <a:avLst/>
          </a:prstGeom>
          <a:solidFill>
            <a:srgbClr val="000000"/>
          </a:solidFill>
          <a:ln w="2844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2400" indent="-1224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this case, TV advertising produces marginal awareness and marginal consideration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metrics decay in the marketplace through time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y affect the response rates of other channels through “elasticitie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419720" y="5105520"/>
            <a:ext cx="2819160" cy="1600200"/>
          </a:xfrm>
          <a:prstGeom prst="rect">
            <a:avLst/>
          </a:prstGeom>
          <a:noFill/>
          <a:ln w="3816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8001000" y="5105520"/>
            <a:ext cx="1752480" cy="1372680"/>
          </a:xfrm>
          <a:prstGeom prst="rect">
            <a:avLst/>
          </a:prstGeom>
          <a:solidFill>
            <a:srgbClr val="000000"/>
          </a:solidFill>
          <a:ln w="2844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2400" indent="-1224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BUDG equation and coefficients drive non-linear response to 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7314840" y="5791320"/>
            <a:ext cx="685800" cy="0"/>
          </a:xfrm>
          <a:prstGeom prst="line">
            <a:avLst/>
          </a:prstGeom>
          <a:ln w="38160">
            <a:solidFill>
              <a:srgbClr val="c507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ention Modeling is Particularly Comple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23360" y="1066320"/>
            <a:ext cx="9186840" cy="567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190440" indent="-19044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ention rates differ by channel of acquisition, customer type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retention “cohort” must be modeling in 30-day inc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507960" y="1847880"/>
            <a:ext cx="5668920" cy="2340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67" name=""/>
          <p:cNvSpPr/>
          <p:nvPr/>
        </p:nvSpPr>
        <p:spPr>
          <a:xfrm>
            <a:off x="6553080" y="1981080"/>
            <a:ext cx="2362320" cy="1483920"/>
          </a:xfrm>
          <a:prstGeom prst="rect">
            <a:avLst/>
          </a:prstGeom>
          <a:solidFill>
            <a:srgbClr val="000000"/>
          </a:solidFill>
          <a:ln w="2844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2400" indent="-1224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ention rate matrix for each acquisition channel, by customer 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ncellation, termination and migration all have unique 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3581280" y="4414680"/>
            <a:ext cx="5791320" cy="2595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69" name=""/>
          <p:cNvSpPr/>
          <p:nvPr/>
        </p:nvSpPr>
        <p:spPr>
          <a:xfrm>
            <a:off x="914400" y="4800600"/>
            <a:ext cx="2362320" cy="1270800"/>
          </a:xfrm>
          <a:prstGeom prst="rect">
            <a:avLst/>
          </a:prstGeom>
          <a:solidFill>
            <a:srgbClr val="000000"/>
          </a:solidFill>
          <a:ln w="2844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2400" indent="-1224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drives a giant retention matrix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ich takes up most of the space in the Excel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 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23720" y="837720"/>
            <a:ext cx="4516560" cy="567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190440" indent="-190440">
              <a:spcBef>
                <a:spcPts val="64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straints: 2008 market share at least 8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4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bjective Function: Maximize NPV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4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PV: Increase from $120 M to $600 M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507960" y="2133720"/>
          <a:ext cx="7873920" cy="45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2133720"/>
                    <a:ext cx="7873920" cy="4545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701640" y="1455840"/>
            <a:ext cx="8658000" cy="5215680"/>
            <a:chOff x="701640" y="1455840"/>
            <a:chExt cx="8658000" cy="5215680"/>
          </a:xfrm>
        </p:grpSpPr>
        <p:sp>
          <p:nvSpPr>
            <p:cNvPr id="100" name=""/>
            <p:cNvSpPr/>
            <p:nvPr/>
          </p:nvSpPr>
          <p:spPr>
            <a:xfrm>
              <a:off x="5025240" y="1455840"/>
              <a:ext cx="2481480" cy="2068560"/>
            </a:xfrm>
            <a:prstGeom prst="rect">
              <a:avLst/>
            </a:prstGeom>
            <a:solidFill>
              <a:srgbClr val="e5e5e5"/>
            </a:solidFill>
            <a:ln w="936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90920" y="2628720"/>
              <a:ext cx="630000" cy="892080"/>
            </a:xfrm>
            <a:prstGeom prst="rect">
              <a:avLst/>
            </a:prstGeom>
            <a:solidFill>
              <a:srgbClr val="ffd68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90920" y="2047680"/>
              <a:ext cx="630000" cy="580680"/>
            </a:xfrm>
            <a:prstGeom prst="rect">
              <a:avLst/>
            </a:prstGeom>
            <a:solidFill>
              <a:srgbClr val="c50731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290920" y="1482480"/>
              <a:ext cx="630000" cy="564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95720" y="1482480"/>
              <a:ext cx="0" cy="20379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52160" y="3520800"/>
              <a:ext cx="435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52160" y="3269160"/>
              <a:ext cx="43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52160" y="3015360"/>
              <a:ext cx="435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52160" y="2756160"/>
              <a:ext cx="43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52160" y="2502360"/>
              <a:ext cx="4356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78080" y="2054520"/>
              <a:ext cx="4176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78080" y="1802880"/>
              <a:ext cx="417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78080" y="1540080"/>
              <a:ext cx="417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52160" y="1482480"/>
              <a:ext cx="435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995720" y="3520800"/>
              <a:ext cx="0" cy="66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88680" y="3524400"/>
              <a:ext cx="90288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27360" bIns="2736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rrent Mi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609240" y="3524400"/>
              <a:ext cx="96516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timiz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59680" y="1619280"/>
              <a:ext cx="588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8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59680" y="2243520"/>
              <a:ext cx="588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8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59680" y="2934720"/>
              <a:ext cx="588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4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84200" y="2916360"/>
              <a:ext cx="583200" cy="597240"/>
            </a:xfrm>
            <a:prstGeom prst="rect">
              <a:avLst/>
            </a:prstGeom>
            <a:solidFill>
              <a:srgbClr val="ffd68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84200" y="2401560"/>
              <a:ext cx="583200" cy="514440"/>
            </a:xfrm>
            <a:prstGeom prst="rect">
              <a:avLst/>
            </a:prstGeom>
            <a:solidFill>
              <a:srgbClr val="c50731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84200" y="1473480"/>
              <a:ext cx="583200" cy="928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07240" y="1802880"/>
              <a:ext cx="588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6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07240" y="2529360"/>
              <a:ext cx="588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07240" y="3056400"/>
              <a:ext cx="588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9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28480" y="2437560"/>
              <a:ext cx="132840" cy="129600"/>
            </a:xfrm>
            <a:prstGeom prst="rect">
              <a:avLst/>
            </a:prstGeom>
            <a:solidFill>
              <a:srgbClr val="b7c7e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28480" y="2180520"/>
              <a:ext cx="132840" cy="129240"/>
            </a:xfrm>
            <a:prstGeom prst="rect">
              <a:avLst/>
            </a:prstGeom>
            <a:solidFill>
              <a:srgbClr val="c50731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929360" y="2406960"/>
              <a:ext cx="108288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ales Enabl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27920" y="2148120"/>
              <a:ext cx="120456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mand Gene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28480" y="1887120"/>
              <a:ext cx="132840" cy="129600"/>
            </a:xfrm>
            <a:prstGeom prst="rect">
              <a:avLst/>
            </a:prstGeom>
            <a:solidFill>
              <a:srgbClr val="ffd687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30800" y="1856520"/>
              <a:ext cx="66816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waren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3420720" y="1687680"/>
              <a:ext cx="1521000" cy="821880"/>
              <a:chOff x="3420720" y="1687680"/>
              <a:chExt cx="1521000" cy="821880"/>
            </a:xfrm>
          </p:grpSpPr>
          <p:sp>
            <p:nvSpPr>
              <p:cNvPr id="133" name=""/>
              <p:cNvSpPr/>
              <p:nvPr/>
            </p:nvSpPr>
            <p:spPr>
              <a:xfrm>
                <a:off x="3689640" y="1687680"/>
                <a:ext cx="1252080" cy="82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usines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Investm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420720" y="1701720"/>
                <a:ext cx="282600" cy="287280"/>
              </a:xfrm>
              <a:prstGeom prst="ellipse">
                <a:avLst/>
              </a:prstGeom>
              <a:solidFill>
                <a:srgbClr val="caca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 flipH="1">
              <a:off x="7111800" y="2901960"/>
              <a:ext cx="24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830400" y="2406960"/>
              <a:ext cx="2953080" cy="49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7" name=""/>
            <p:cNvGraphicFramePr/>
            <p:nvPr/>
          </p:nvGraphicFramePr>
          <p:xfrm>
            <a:off x="3275640" y="2779560"/>
            <a:ext cx="4493160" cy="22701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75640" y="2779560"/>
                      <a:ext cx="4493160" cy="227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39" name=""/>
            <p:cNvGrpSpPr/>
            <p:nvPr/>
          </p:nvGrpSpPr>
          <p:grpSpPr>
            <a:xfrm>
              <a:off x="1985040" y="2952360"/>
              <a:ext cx="1291680" cy="581760"/>
              <a:chOff x="1985040" y="2952360"/>
              <a:chExt cx="1291680" cy="581760"/>
            </a:xfrm>
          </p:grpSpPr>
          <p:sp>
            <p:nvSpPr>
              <p:cNvPr id="140" name=""/>
              <p:cNvSpPr/>
              <p:nvPr/>
            </p:nvSpPr>
            <p:spPr>
              <a:xfrm>
                <a:off x="2259360" y="2955600"/>
                <a:ext cx="1017360" cy="57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rogram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ortfoli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985040" y="2952360"/>
                <a:ext cx="282600" cy="283680"/>
              </a:xfrm>
              <a:prstGeom prst="ellipse">
                <a:avLst/>
              </a:prstGeom>
              <a:solidFill>
                <a:srgbClr val="caca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 flipV="1">
              <a:off x="6834600" y="2419200"/>
              <a:ext cx="527040" cy="48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701640" y="4125240"/>
              <a:ext cx="1524240" cy="335160"/>
              <a:chOff x="701640" y="4125240"/>
              <a:chExt cx="1524240" cy="335160"/>
            </a:xfrm>
          </p:grpSpPr>
          <p:sp>
            <p:nvSpPr>
              <p:cNvPr id="144" name=""/>
              <p:cNvSpPr/>
              <p:nvPr/>
            </p:nvSpPr>
            <p:spPr>
              <a:xfrm>
                <a:off x="951120" y="4125240"/>
                <a:ext cx="12747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mpaig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01640" y="4128840"/>
                <a:ext cx="282600" cy="285840"/>
              </a:xfrm>
              <a:prstGeom prst="ellipse">
                <a:avLst/>
              </a:prstGeom>
              <a:solidFill>
                <a:srgbClr val="cacac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2199600" y="4029120"/>
              <a:ext cx="4101840" cy="2329200"/>
              <a:chOff x="2199600" y="4029120"/>
              <a:chExt cx="4101840" cy="2329200"/>
            </a:xfrm>
          </p:grpSpPr>
          <p:sp>
            <p:nvSpPr>
              <p:cNvPr id="147" name=""/>
              <p:cNvSpPr/>
              <p:nvPr/>
            </p:nvSpPr>
            <p:spPr>
              <a:xfrm>
                <a:off x="2356560" y="4089600"/>
                <a:ext cx="3936240" cy="1942560"/>
              </a:xfrm>
              <a:prstGeom prst="rect">
                <a:avLst/>
              </a:prstGeom>
              <a:solidFill>
                <a:srgbClr val="dbe3f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0760" bIns="50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356560" y="4245480"/>
                <a:ext cx="3936240" cy="1944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356560" y="6084360"/>
                <a:ext cx="3944880" cy="111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039480" y="6195600"/>
                <a:ext cx="57456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Month 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42160" y="6195600"/>
                <a:ext cx="57276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Month 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840400" y="612216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326040" y="612216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249440" y="612216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76840" y="612216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33440" y="612216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4776840" y="4258080"/>
                <a:ext cx="0" cy="19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5833440" y="4258080"/>
                <a:ext cx="0" cy="19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3326040" y="4258080"/>
                <a:ext cx="0" cy="19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2840400" y="4258080"/>
                <a:ext cx="0" cy="19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4249440" y="4258080"/>
                <a:ext cx="0" cy="19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361960" y="5055480"/>
                <a:ext cx="3935880" cy="767520"/>
                <a:chOff x="2361960" y="5055480"/>
                <a:chExt cx="3935880" cy="7675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361960" y="5055480"/>
                  <a:ext cx="393588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361960" y="5823000"/>
                  <a:ext cx="3935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"/>
              <p:cNvSpPr/>
              <p:nvPr/>
            </p:nvSpPr>
            <p:spPr>
              <a:xfrm>
                <a:off x="2543400" y="5778360"/>
                <a:ext cx="436320" cy="15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nten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927520" y="4321080"/>
                <a:ext cx="26532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819760" y="4407480"/>
                <a:ext cx="352440" cy="20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463920" y="4391280"/>
                <a:ext cx="396360" cy="12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788640" y="4698720"/>
                <a:ext cx="351000" cy="24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450880" y="4647240"/>
                <a:ext cx="265680" cy="12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"/>
              <p:cNvSpPr/>
              <p:nvPr/>
            </p:nvSpPr>
            <p:spPr>
              <a:xfrm>
                <a:off x="2402280" y="4756680"/>
                <a:ext cx="453600" cy="34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Touches: 10,000 outbound call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024000" y="4851720"/>
                <a:ext cx="132480" cy="15120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World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las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3" name=""/>
              <p:cNvCxnSpPr>
                <a:stCxn id="170" idx="3"/>
                <a:endCxn id="172" idx="2"/>
              </p:cNvCxnSpPr>
              <p:nvPr/>
            </p:nvCxnSpPr>
            <p:spPr>
              <a:xfrm>
                <a:off x="2716200" y="4709520"/>
                <a:ext cx="307800" cy="217800"/>
              </a:xfrm>
              <a:prstGeom prst="bentConnector3">
                <a:avLst>
                  <a:gd name="adj1" fmla="val 49765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pic>
            <p:nvPicPr>
              <p:cNvPr id="17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376440" y="4780080"/>
                <a:ext cx="263520" cy="120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420360" y="4889880"/>
                <a:ext cx="219600" cy="15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361760" y="4695480"/>
                <a:ext cx="350640" cy="24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192640" y="4695480"/>
                <a:ext cx="350640" cy="24984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178" name=""/>
              <p:cNvCxnSpPr/>
              <p:nvPr/>
            </p:nvCxnSpPr>
            <p:spPr>
              <a:xfrm flipV="1">
                <a:off x="3012840" y="4662360"/>
                <a:ext cx="201240" cy="78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179" name=""/>
              <p:cNvCxnSpPr>
                <a:stCxn id="172" idx="4"/>
                <a:endCxn id="175" idx="1"/>
              </p:cNvCxnSpPr>
              <p:nvPr/>
            </p:nvCxnSpPr>
            <p:spPr>
              <a:xfrm>
                <a:off x="3156480" y="4926960"/>
                <a:ext cx="264240" cy="41760"/>
              </a:xfrm>
              <a:prstGeom prst="bentConnector3">
                <a:avLst>
                  <a:gd name="adj1" fmla="val 49795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180" name=""/>
              <p:cNvCxnSpPr/>
              <p:nvPr/>
            </p:nvCxnSpPr>
            <p:spPr>
              <a:xfrm flipV="1">
                <a:off x="3638520" y="4626720"/>
                <a:ext cx="161280" cy="128160"/>
              </a:xfrm>
              <a:prstGeom prst="bentConnector3">
                <a:avLst>
                  <a:gd name="adj1" fmla="val 49888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181" name=""/>
              <p:cNvSpPr/>
              <p:nvPr/>
            </p:nvSpPr>
            <p:spPr>
              <a:xfrm>
                <a:off x="3963240" y="4562280"/>
                <a:ext cx="0" cy="1742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859480" y="4717080"/>
                <a:ext cx="35424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urpose: build 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905640" y="4415040"/>
                <a:ext cx="132480" cy="14544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Opt-In</a:t>
                </a:r>
                <a:br>
                  <a:rPr sz="400"/>
                </a:b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229920" y="4461480"/>
                <a:ext cx="21996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936960" y="4985280"/>
                <a:ext cx="1677960" cy="64440"/>
              </a:xfrm>
              <a:prstGeom prst="rect">
                <a:avLst/>
              </a:prstGeom>
              <a:solidFill>
                <a:srgbClr val="ffd6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13680" bIns="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event series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, featuring Lilly &amp; industry exper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86" name=""/>
              <p:cNvCxnSpPr>
                <a:endCxn id="167" idx="2"/>
              </p:cNvCxnSpPr>
              <p:nvPr/>
            </p:nvCxnSpPr>
            <p:spPr>
              <a:xfrm flipV="1">
                <a:off x="5785920" y="4615920"/>
                <a:ext cx="209880" cy="194760"/>
              </a:xfrm>
              <a:prstGeom prst="bentConnector2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187" name=""/>
              <p:cNvSpPr/>
              <p:nvPr/>
            </p:nvSpPr>
            <p:spPr>
              <a:xfrm>
                <a:off x="4140000" y="4859280"/>
                <a:ext cx="23688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669840" y="4799520"/>
                <a:ext cx="21996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2974680" y="4533480"/>
                <a:ext cx="153000" cy="110880"/>
                <a:chOff x="2974680" y="4533480"/>
                <a:chExt cx="153000" cy="11088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2981520" y="4543920"/>
                  <a:ext cx="142560" cy="100440"/>
                </a:xfrm>
                <a:custGeom>
                  <a:avLst/>
                  <a:gdLst/>
                  <a:ahLst/>
                  <a:rect l="l" t="t" r="r" b="b"/>
                  <a:pathLst>
                    <a:path w="531" h="503">
                      <a:moveTo>
                        <a:pt x="0" y="451"/>
                      </a:moveTo>
                      <a:lnTo>
                        <a:pt x="186" y="313"/>
                      </a:lnTo>
                      <a:lnTo>
                        <a:pt x="167" y="277"/>
                      </a:lnTo>
                      <a:lnTo>
                        <a:pt x="172" y="241"/>
                      </a:lnTo>
                      <a:lnTo>
                        <a:pt x="207" y="289"/>
                      </a:lnTo>
                      <a:lnTo>
                        <a:pt x="205" y="239"/>
                      </a:lnTo>
                      <a:lnTo>
                        <a:pt x="235" y="153"/>
                      </a:lnTo>
                      <a:lnTo>
                        <a:pt x="273" y="90"/>
                      </a:lnTo>
                      <a:lnTo>
                        <a:pt x="345" y="27"/>
                      </a:lnTo>
                      <a:lnTo>
                        <a:pt x="412" y="0"/>
                      </a:lnTo>
                      <a:lnTo>
                        <a:pt x="474" y="0"/>
                      </a:lnTo>
                      <a:lnTo>
                        <a:pt x="515" y="19"/>
                      </a:lnTo>
                      <a:lnTo>
                        <a:pt x="531" y="62"/>
                      </a:lnTo>
                      <a:lnTo>
                        <a:pt x="531" y="148"/>
                      </a:lnTo>
                      <a:lnTo>
                        <a:pt x="493" y="234"/>
                      </a:lnTo>
                      <a:lnTo>
                        <a:pt x="445" y="281"/>
                      </a:lnTo>
                      <a:lnTo>
                        <a:pt x="387" y="339"/>
                      </a:lnTo>
                      <a:lnTo>
                        <a:pt x="316" y="339"/>
                      </a:lnTo>
                      <a:lnTo>
                        <a:pt x="259" y="343"/>
                      </a:lnTo>
                      <a:lnTo>
                        <a:pt x="312" y="318"/>
                      </a:lnTo>
                      <a:lnTo>
                        <a:pt x="388" y="275"/>
                      </a:lnTo>
                      <a:lnTo>
                        <a:pt x="455" y="222"/>
                      </a:lnTo>
                      <a:lnTo>
                        <a:pt x="490" y="153"/>
                      </a:lnTo>
                      <a:lnTo>
                        <a:pt x="500" y="103"/>
                      </a:lnTo>
                      <a:lnTo>
                        <a:pt x="496" y="57"/>
                      </a:lnTo>
                      <a:lnTo>
                        <a:pt x="426" y="29"/>
                      </a:lnTo>
                      <a:lnTo>
                        <a:pt x="376" y="65"/>
                      </a:lnTo>
                      <a:lnTo>
                        <a:pt x="288" y="119"/>
                      </a:lnTo>
                      <a:lnTo>
                        <a:pt x="259" y="201"/>
                      </a:lnTo>
                      <a:lnTo>
                        <a:pt x="243" y="265"/>
                      </a:lnTo>
                      <a:lnTo>
                        <a:pt x="235" y="308"/>
                      </a:lnTo>
                      <a:lnTo>
                        <a:pt x="202" y="324"/>
                      </a:lnTo>
                      <a:lnTo>
                        <a:pt x="205" y="353"/>
                      </a:lnTo>
                      <a:lnTo>
                        <a:pt x="36" y="503"/>
                      </a:lnTo>
                      <a:lnTo>
                        <a:pt x="0" y="479"/>
                      </a:lnTo>
                      <a:lnTo>
                        <a:pt x="12" y="471"/>
                      </a:lnTo>
                      <a:lnTo>
                        <a:pt x="0" y="451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058200" y="4551120"/>
                  <a:ext cx="48600" cy="46800"/>
                </a:xfrm>
                <a:custGeom>
                  <a:avLst/>
                  <a:gdLst/>
                  <a:ahLst/>
                  <a:rect l="l" t="t" r="r" b="b"/>
                  <a:pathLst>
                    <a:path w="363" h="473">
                      <a:moveTo>
                        <a:pt x="186" y="53"/>
                      </a:moveTo>
                      <a:lnTo>
                        <a:pt x="215" y="104"/>
                      </a:lnTo>
                      <a:lnTo>
                        <a:pt x="205" y="196"/>
                      </a:lnTo>
                      <a:lnTo>
                        <a:pt x="154" y="287"/>
                      </a:lnTo>
                      <a:lnTo>
                        <a:pt x="0" y="458"/>
                      </a:lnTo>
                      <a:lnTo>
                        <a:pt x="95" y="473"/>
                      </a:lnTo>
                      <a:lnTo>
                        <a:pt x="262" y="329"/>
                      </a:lnTo>
                      <a:lnTo>
                        <a:pt x="338" y="201"/>
                      </a:lnTo>
                      <a:lnTo>
                        <a:pt x="363" y="95"/>
                      </a:lnTo>
                      <a:lnTo>
                        <a:pt x="344" y="44"/>
                      </a:lnTo>
                      <a:lnTo>
                        <a:pt x="297" y="0"/>
                      </a:lnTo>
                      <a:lnTo>
                        <a:pt x="230" y="9"/>
                      </a:lnTo>
                      <a:lnTo>
                        <a:pt x="186" y="53"/>
                      </a:lnTo>
                      <a:lnTo>
                        <a:pt x="186" y="53"/>
                      </a:lnTo>
                      <a:close/>
                    </a:path>
                  </a:pathLst>
                </a:custGeom>
                <a:solidFill>
                  <a:srgbClr val="cc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030120" y="4599720"/>
                  <a:ext cx="50400" cy="14040"/>
                </a:xfrm>
                <a:custGeom>
                  <a:avLst/>
                  <a:gdLst/>
                  <a:ahLst/>
                  <a:rect l="l" t="t" r="r" b="b"/>
                  <a:pathLst>
                    <a:path w="376" h="143">
                      <a:moveTo>
                        <a:pt x="89" y="0"/>
                      </a:moveTo>
                      <a:lnTo>
                        <a:pt x="108" y="48"/>
                      </a:lnTo>
                      <a:lnTo>
                        <a:pt x="184" y="86"/>
                      </a:lnTo>
                      <a:lnTo>
                        <a:pt x="376" y="67"/>
                      </a:lnTo>
                      <a:lnTo>
                        <a:pt x="270" y="109"/>
                      </a:lnTo>
                      <a:lnTo>
                        <a:pt x="99" y="128"/>
                      </a:lnTo>
                      <a:lnTo>
                        <a:pt x="0" y="143"/>
                      </a:lnTo>
                      <a:lnTo>
                        <a:pt x="9" y="57"/>
                      </a:lnTo>
                      <a:lnTo>
                        <a:pt x="89" y="0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045960" y="4547520"/>
                  <a:ext cx="71280" cy="51840"/>
                </a:xfrm>
                <a:custGeom>
                  <a:avLst/>
                  <a:gdLst/>
                  <a:ahLst/>
                  <a:rect l="l" t="t" r="r" b="b"/>
                  <a:pathLst>
                    <a:path w="534" h="518">
                      <a:moveTo>
                        <a:pt x="0" y="503"/>
                      </a:moveTo>
                      <a:lnTo>
                        <a:pt x="15" y="397"/>
                      </a:lnTo>
                      <a:lnTo>
                        <a:pt x="38" y="306"/>
                      </a:lnTo>
                      <a:lnTo>
                        <a:pt x="55" y="262"/>
                      </a:lnTo>
                      <a:lnTo>
                        <a:pt x="76" y="220"/>
                      </a:lnTo>
                      <a:lnTo>
                        <a:pt x="102" y="178"/>
                      </a:lnTo>
                      <a:lnTo>
                        <a:pt x="137" y="135"/>
                      </a:lnTo>
                      <a:lnTo>
                        <a:pt x="159" y="106"/>
                      </a:lnTo>
                      <a:lnTo>
                        <a:pt x="184" y="81"/>
                      </a:lnTo>
                      <a:lnTo>
                        <a:pt x="213" y="60"/>
                      </a:lnTo>
                      <a:lnTo>
                        <a:pt x="245" y="39"/>
                      </a:lnTo>
                      <a:lnTo>
                        <a:pt x="294" y="15"/>
                      </a:lnTo>
                      <a:lnTo>
                        <a:pt x="340" y="0"/>
                      </a:lnTo>
                      <a:lnTo>
                        <a:pt x="441" y="0"/>
                      </a:lnTo>
                      <a:lnTo>
                        <a:pt x="484" y="17"/>
                      </a:lnTo>
                      <a:lnTo>
                        <a:pt x="519" y="49"/>
                      </a:lnTo>
                      <a:lnTo>
                        <a:pt x="532" y="78"/>
                      </a:lnTo>
                      <a:lnTo>
                        <a:pt x="534" y="108"/>
                      </a:lnTo>
                      <a:lnTo>
                        <a:pt x="521" y="180"/>
                      </a:lnTo>
                      <a:lnTo>
                        <a:pt x="507" y="193"/>
                      </a:lnTo>
                      <a:lnTo>
                        <a:pt x="494" y="178"/>
                      </a:lnTo>
                      <a:lnTo>
                        <a:pt x="498" y="68"/>
                      </a:lnTo>
                      <a:lnTo>
                        <a:pt x="469" y="49"/>
                      </a:lnTo>
                      <a:lnTo>
                        <a:pt x="433" y="41"/>
                      </a:lnTo>
                      <a:lnTo>
                        <a:pt x="351" y="51"/>
                      </a:lnTo>
                      <a:lnTo>
                        <a:pt x="315" y="70"/>
                      </a:lnTo>
                      <a:lnTo>
                        <a:pt x="275" y="93"/>
                      </a:lnTo>
                      <a:lnTo>
                        <a:pt x="186" y="171"/>
                      </a:lnTo>
                      <a:lnTo>
                        <a:pt x="154" y="211"/>
                      </a:lnTo>
                      <a:lnTo>
                        <a:pt x="125" y="249"/>
                      </a:lnTo>
                      <a:lnTo>
                        <a:pt x="80" y="325"/>
                      </a:lnTo>
                      <a:lnTo>
                        <a:pt x="47" y="408"/>
                      </a:lnTo>
                      <a:lnTo>
                        <a:pt x="28" y="505"/>
                      </a:lnTo>
                      <a:lnTo>
                        <a:pt x="13" y="518"/>
                      </a:lnTo>
                      <a:lnTo>
                        <a:pt x="0" y="503"/>
                      </a:lnTo>
                      <a:lnTo>
                        <a:pt x="0" y="5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023640" y="4533480"/>
                  <a:ext cx="95400" cy="67680"/>
                </a:xfrm>
                <a:custGeom>
                  <a:avLst/>
                  <a:gdLst/>
                  <a:ahLst/>
                  <a:rect l="l" t="t" r="r" b="b"/>
                  <a:pathLst>
                    <a:path w="705" h="675">
                      <a:moveTo>
                        <a:pt x="0" y="661"/>
                      </a:moveTo>
                      <a:lnTo>
                        <a:pt x="0" y="608"/>
                      </a:lnTo>
                      <a:lnTo>
                        <a:pt x="2" y="561"/>
                      </a:lnTo>
                      <a:lnTo>
                        <a:pt x="17" y="473"/>
                      </a:lnTo>
                      <a:lnTo>
                        <a:pt x="31" y="429"/>
                      </a:lnTo>
                      <a:lnTo>
                        <a:pt x="48" y="388"/>
                      </a:lnTo>
                      <a:lnTo>
                        <a:pt x="69" y="344"/>
                      </a:lnTo>
                      <a:lnTo>
                        <a:pt x="93" y="298"/>
                      </a:lnTo>
                      <a:lnTo>
                        <a:pt x="114" y="266"/>
                      </a:lnTo>
                      <a:lnTo>
                        <a:pt x="135" y="238"/>
                      </a:lnTo>
                      <a:lnTo>
                        <a:pt x="181" y="179"/>
                      </a:lnTo>
                      <a:lnTo>
                        <a:pt x="221" y="137"/>
                      </a:lnTo>
                      <a:lnTo>
                        <a:pt x="257" y="104"/>
                      </a:lnTo>
                      <a:lnTo>
                        <a:pt x="295" y="74"/>
                      </a:lnTo>
                      <a:lnTo>
                        <a:pt x="342" y="47"/>
                      </a:lnTo>
                      <a:lnTo>
                        <a:pt x="394" y="27"/>
                      </a:lnTo>
                      <a:lnTo>
                        <a:pt x="441" y="11"/>
                      </a:lnTo>
                      <a:lnTo>
                        <a:pt x="534" y="0"/>
                      </a:lnTo>
                      <a:lnTo>
                        <a:pt x="620" y="15"/>
                      </a:lnTo>
                      <a:lnTo>
                        <a:pt x="703" y="65"/>
                      </a:lnTo>
                      <a:lnTo>
                        <a:pt x="705" y="84"/>
                      </a:lnTo>
                      <a:lnTo>
                        <a:pt x="684" y="85"/>
                      </a:lnTo>
                      <a:lnTo>
                        <a:pt x="648" y="61"/>
                      </a:lnTo>
                      <a:lnTo>
                        <a:pt x="612" y="47"/>
                      </a:lnTo>
                      <a:lnTo>
                        <a:pt x="536" y="44"/>
                      </a:lnTo>
                      <a:lnTo>
                        <a:pt x="456" y="66"/>
                      </a:lnTo>
                      <a:lnTo>
                        <a:pt x="413" y="84"/>
                      </a:lnTo>
                      <a:lnTo>
                        <a:pt x="367" y="103"/>
                      </a:lnTo>
                      <a:lnTo>
                        <a:pt x="293" y="152"/>
                      </a:lnTo>
                      <a:lnTo>
                        <a:pt x="263" y="180"/>
                      </a:lnTo>
                      <a:lnTo>
                        <a:pt x="226" y="217"/>
                      </a:lnTo>
                      <a:lnTo>
                        <a:pt x="204" y="245"/>
                      </a:lnTo>
                      <a:lnTo>
                        <a:pt x="181" y="270"/>
                      </a:lnTo>
                      <a:lnTo>
                        <a:pt x="139" y="323"/>
                      </a:lnTo>
                      <a:lnTo>
                        <a:pt x="114" y="367"/>
                      </a:lnTo>
                      <a:lnTo>
                        <a:pt x="93" y="407"/>
                      </a:lnTo>
                      <a:lnTo>
                        <a:pt x="55" y="485"/>
                      </a:lnTo>
                      <a:lnTo>
                        <a:pt x="33" y="566"/>
                      </a:lnTo>
                      <a:lnTo>
                        <a:pt x="29" y="659"/>
                      </a:lnTo>
                      <a:lnTo>
                        <a:pt x="15" y="675"/>
                      </a:lnTo>
                      <a:lnTo>
                        <a:pt x="0" y="661"/>
                      </a:lnTo>
                      <a:lnTo>
                        <a:pt x="0" y="6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3077280" y="4552920"/>
                  <a:ext cx="50400" cy="57240"/>
                </a:xfrm>
                <a:custGeom>
                  <a:avLst/>
                  <a:gdLst/>
                  <a:ahLst/>
                  <a:rect l="l" t="t" r="r" b="b"/>
                  <a:pathLst>
                    <a:path w="373" h="566">
                      <a:moveTo>
                        <a:pt x="358" y="11"/>
                      </a:moveTo>
                      <a:lnTo>
                        <a:pt x="373" y="138"/>
                      </a:lnTo>
                      <a:lnTo>
                        <a:pt x="369" y="199"/>
                      </a:lnTo>
                      <a:lnTo>
                        <a:pt x="354" y="266"/>
                      </a:lnTo>
                      <a:lnTo>
                        <a:pt x="325" y="327"/>
                      </a:lnTo>
                      <a:lnTo>
                        <a:pt x="310" y="361"/>
                      </a:lnTo>
                      <a:lnTo>
                        <a:pt x="295" y="385"/>
                      </a:lnTo>
                      <a:lnTo>
                        <a:pt x="278" y="414"/>
                      </a:lnTo>
                      <a:lnTo>
                        <a:pt x="255" y="441"/>
                      </a:lnTo>
                      <a:lnTo>
                        <a:pt x="230" y="465"/>
                      </a:lnTo>
                      <a:lnTo>
                        <a:pt x="202" y="490"/>
                      </a:lnTo>
                      <a:lnTo>
                        <a:pt x="172" y="511"/>
                      </a:lnTo>
                      <a:lnTo>
                        <a:pt x="141" y="530"/>
                      </a:lnTo>
                      <a:lnTo>
                        <a:pt x="111" y="549"/>
                      </a:lnTo>
                      <a:lnTo>
                        <a:pt x="80" y="566"/>
                      </a:lnTo>
                      <a:lnTo>
                        <a:pt x="0" y="562"/>
                      </a:lnTo>
                      <a:lnTo>
                        <a:pt x="29" y="545"/>
                      </a:lnTo>
                      <a:lnTo>
                        <a:pt x="61" y="522"/>
                      </a:lnTo>
                      <a:lnTo>
                        <a:pt x="96" y="500"/>
                      </a:lnTo>
                      <a:lnTo>
                        <a:pt x="132" y="473"/>
                      </a:lnTo>
                      <a:lnTo>
                        <a:pt x="196" y="416"/>
                      </a:lnTo>
                      <a:lnTo>
                        <a:pt x="238" y="359"/>
                      </a:lnTo>
                      <a:lnTo>
                        <a:pt x="268" y="302"/>
                      </a:lnTo>
                      <a:lnTo>
                        <a:pt x="297" y="243"/>
                      </a:lnTo>
                      <a:lnTo>
                        <a:pt x="329" y="129"/>
                      </a:lnTo>
                      <a:lnTo>
                        <a:pt x="335" y="78"/>
                      </a:lnTo>
                      <a:lnTo>
                        <a:pt x="329" y="17"/>
                      </a:lnTo>
                      <a:lnTo>
                        <a:pt x="343" y="0"/>
                      </a:lnTo>
                      <a:lnTo>
                        <a:pt x="358" y="11"/>
                      </a:lnTo>
                      <a:lnTo>
                        <a:pt x="358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054600" y="4572720"/>
                  <a:ext cx="50400" cy="30240"/>
                </a:xfrm>
                <a:custGeom>
                  <a:avLst/>
                  <a:gdLst/>
                  <a:ahLst/>
                  <a:rect l="l" t="t" r="r" b="b"/>
                  <a:pathLst>
                    <a:path w="375" h="315">
                      <a:moveTo>
                        <a:pt x="375" y="19"/>
                      </a:moveTo>
                      <a:lnTo>
                        <a:pt x="356" y="57"/>
                      </a:lnTo>
                      <a:lnTo>
                        <a:pt x="337" y="91"/>
                      </a:lnTo>
                      <a:lnTo>
                        <a:pt x="318" y="122"/>
                      </a:lnTo>
                      <a:lnTo>
                        <a:pt x="295" y="150"/>
                      </a:lnTo>
                      <a:lnTo>
                        <a:pt x="272" y="177"/>
                      </a:lnTo>
                      <a:lnTo>
                        <a:pt x="244" y="201"/>
                      </a:lnTo>
                      <a:lnTo>
                        <a:pt x="213" y="226"/>
                      </a:lnTo>
                      <a:lnTo>
                        <a:pt x="179" y="251"/>
                      </a:lnTo>
                      <a:lnTo>
                        <a:pt x="143" y="279"/>
                      </a:lnTo>
                      <a:lnTo>
                        <a:pt x="103" y="302"/>
                      </a:lnTo>
                      <a:lnTo>
                        <a:pt x="18" y="315"/>
                      </a:lnTo>
                      <a:lnTo>
                        <a:pt x="0" y="308"/>
                      </a:lnTo>
                      <a:lnTo>
                        <a:pt x="8" y="291"/>
                      </a:lnTo>
                      <a:lnTo>
                        <a:pt x="42" y="264"/>
                      </a:lnTo>
                      <a:lnTo>
                        <a:pt x="57" y="253"/>
                      </a:lnTo>
                      <a:lnTo>
                        <a:pt x="78" y="241"/>
                      </a:lnTo>
                      <a:lnTo>
                        <a:pt x="139" y="199"/>
                      </a:lnTo>
                      <a:lnTo>
                        <a:pt x="171" y="177"/>
                      </a:lnTo>
                      <a:lnTo>
                        <a:pt x="204" y="156"/>
                      </a:lnTo>
                      <a:lnTo>
                        <a:pt x="232" y="137"/>
                      </a:lnTo>
                      <a:lnTo>
                        <a:pt x="261" y="118"/>
                      </a:lnTo>
                      <a:lnTo>
                        <a:pt x="348" y="7"/>
                      </a:lnTo>
                      <a:lnTo>
                        <a:pt x="367" y="0"/>
                      </a:lnTo>
                      <a:lnTo>
                        <a:pt x="375" y="19"/>
                      </a:lnTo>
                      <a:lnTo>
                        <a:pt x="37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976480" y="4605120"/>
                  <a:ext cx="50400" cy="39240"/>
                </a:xfrm>
                <a:custGeom>
                  <a:avLst/>
                  <a:gdLst/>
                  <a:ahLst/>
                  <a:rect l="l" t="t" r="r" b="b"/>
                  <a:pathLst>
                    <a:path w="185" h="198">
                      <a:moveTo>
                        <a:pt x="185" y="19"/>
                      </a:moveTo>
                      <a:lnTo>
                        <a:pt x="161" y="68"/>
                      </a:lnTo>
                      <a:lnTo>
                        <a:pt x="109" y="102"/>
                      </a:lnTo>
                      <a:lnTo>
                        <a:pt x="69" y="114"/>
                      </a:lnTo>
                      <a:lnTo>
                        <a:pt x="49" y="126"/>
                      </a:lnTo>
                      <a:lnTo>
                        <a:pt x="50" y="161"/>
                      </a:lnTo>
                      <a:lnTo>
                        <a:pt x="45" y="198"/>
                      </a:lnTo>
                      <a:lnTo>
                        <a:pt x="2" y="140"/>
                      </a:lnTo>
                      <a:lnTo>
                        <a:pt x="0" y="120"/>
                      </a:lnTo>
                      <a:lnTo>
                        <a:pt x="8" y="99"/>
                      </a:lnTo>
                      <a:lnTo>
                        <a:pt x="29" y="86"/>
                      </a:lnTo>
                      <a:lnTo>
                        <a:pt x="55" y="84"/>
                      </a:lnTo>
                      <a:lnTo>
                        <a:pt x="107" y="73"/>
                      </a:lnTo>
                      <a:lnTo>
                        <a:pt x="159" y="8"/>
                      </a:lnTo>
                      <a:lnTo>
                        <a:pt x="178" y="0"/>
                      </a:lnTo>
                      <a:lnTo>
                        <a:pt x="185" y="19"/>
                      </a:lnTo>
                      <a:lnTo>
                        <a:pt x="18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974680" y="4635360"/>
                  <a:ext cx="12240" cy="5040"/>
                </a:xfrm>
                <a:custGeom>
                  <a:avLst/>
                  <a:gdLst/>
                  <a:ahLst/>
                  <a:rect l="l" t="t" r="r" b="b"/>
                  <a:pathLst>
                    <a:path w="94" h="50">
                      <a:moveTo>
                        <a:pt x="21" y="0"/>
                      </a:moveTo>
                      <a:lnTo>
                        <a:pt x="46" y="8"/>
                      </a:lnTo>
                      <a:lnTo>
                        <a:pt x="80" y="15"/>
                      </a:lnTo>
                      <a:lnTo>
                        <a:pt x="94" y="30"/>
                      </a:lnTo>
                      <a:lnTo>
                        <a:pt x="80" y="44"/>
                      </a:lnTo>
                      <a:lnTo>
                        <a:pt x="42" y="50"/>
                      </a:lnTo>
                      <a:lnTo>
                        <a:pt x="4" y="23"/>
                      </a:lnTo>
                      <a:lnTo>
                        <a:pt x="0" y="2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"/>
              <p:cNvSpPr/>
              <p:nvPr/>
            </p:nvSpPr>
            <p:spPr>
              <a:xfrm>
                <a:off x="3083400" y="4513680"/>
                <a:ext cx="45000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Search Engines: keyword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0" name=""/>
              <p:cNvCxnSpPr/>
              <p:nvPr/>
            </p:nvCxnSpPr>
            <p:spPr>
              <a:xfrm flipV="1">
                <a:off x="3128400" y="4331520"/>
                <a:ext cx="161280" cy="56520"/>
              </a:xfrm>
              <a:prstGeom prst="bentConnector3">
                <a:avLst>
                  <a:gd name="adj1" fmla="val 49888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201" name=""/>
              <p:cNvSpPr/>
              <p:nvPr/>
            </p:nvSpPr>
            <p:spPr>
              <a:xfrm>
                <a:off x="3769560" y="4456080"/>
                <a:ext cx="11304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237200" y="4587480"/>
                <a:ext cx="265680" cy="12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58040" y="4555440"/>
                <a:ext cx="263520" cy="12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 flipV="1">
                <a:off x="4113360" y="4643280"/>
                <a:ext cx="104760" cy="8280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492440" y="4643280"/>
                <a:ext cx="43920" cy="680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048920" y="4461480"/>
                <a:ext cx="177228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145040" y="4287240"/>
                <a:ext cx="93744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ontent Refreshes on Learning Center: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Flash, OnDemand, Online Assessmen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4548240" y="4628880"/>
                <a:ext cx="104760" cy="8280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950000" y="4625280"/>
                <a:ext cx="334800" cy="1094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0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64560" y="4634280"/>
                <a:ext cx="263160" cy="11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>
                <a:off x="3514680" y="4287240"/>
                <a:ext cx="113832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Learning Center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2" name=""/>
              <p:cNvCxnSpPr>
                <a:endCxn id="210" idx="1"/>
              </p:cNvCxnSpPr>
              <p:nvPr/>
            </p:nvCxnSpPr>
            <p:spPr>
              <a:xfrm flipV="1">
                <a:off x="3184200" y="4693320"/>
                <a:ext cx="180720" cy="207360"/>
              </a:xfrm>
              <a:prstGeom prst="bentConnector3">
                <a:avLst>
                  <a:gd name="adj1" fmla="val 60079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213" name=""/>
              <p:cNvCxnSpPr>
                <a:endCxn id="188" idx="0"/>
              </p:cNvCxnSpPr>
              <p:nvPr/>
            </p:nvCxnSpPr>
            <p:spPr>
              <a:xfrm>
                <a:off x="3657240" y="4705920"/>
                <a:ext cx="232920" cy="93960"/>
              </a:xfrm>
              <a:prstGeom prst="bentConnector4">
                <a:avLst>
                  <a:gd name="adj1" fmla="val 39164"/>
                  <a:gd name="adj2" fmla="val 95384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214" name=""/>
              <p:cNvSpPr/>
              <p:nvPr/>
            </p:nvSpPr>
            <p:spPr>
              <a:xfrm>
                <a:off x="5718240" y="5031720"/>
                <a:ext cx="549720" cy="22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18 September</a:t>
                </a:r>
                <a:br>
                  <a:rPr sz="400"/>
                </a:b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Platform Event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8320" y="5083920"/>
                <a:ext cx="26532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6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829840" y="5168520"/>
                <a:ext cx="352800" cy="210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3474000" y="5152320"/>
                <a:ext cx="396360" cy="131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3793680" y="5460120"/>
                <a:ext cx="352800" cy="25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2458080" y="5202720"/>
                <a:ext cx="261720" cy="12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"/>
              <p:cNvSpPr/>
              <p:nvPr/>
            </p:nvSpPr>
            <p:spPr>
              <a:xfrm>
                <a:off x="3034080" y="5614560"/>
                <a:ext cx="132480" cy="14904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42840" bIns="42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World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las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1" name=""/>
              <p:cNvCxnSpPr>
                <a:stCxn id="219" idx="3"/>
                <a:endCxn id="220" idx="2"/>
              </p:cNvCxnSpPr>
              <p:nvPr/>
            </p:nvCxnSpPr>
            <p:spPr>
              <a:xfrm>
                <a:off x="2719440" y="5263920"/>
                <a:ext cx="315000" cy="426960"/>
              </a:xfrm>
              <a:prstGeom prst="bentConnector3">
                <a:avLst>
                  <a:gd name="adj1" fmla="val 49771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pic>
            <p:nvPicPr>
              <p:cNvPr id="222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3386880" y="5540760"/>
                <a:ext cx="263520" cy="12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3430440" y="5650560"/>
                <a:ext cx="219960" cy="15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4371840" y="5456520"/>
                <a:ext cx="352800" cy="25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5203080" y="5456520"/>
                <a:ext cx="350640" cy="25164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26" name=""/>
              <p:cNvCxnSpPr>
                <a:stCxn id="220" idx="4"/>
                <a:endCxn id="222" idx="1"/>
              </p:cNvCxnSpPr>
              <p:nvPr/>
            </p:nvCxnSpPr>
            <p:spPr>
              <a:xfrm flipV="1">
                <a:off x="3166560" y="5601600"/>
                <a:ext cx="220680" cy="885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227" name=""/>
              <p:cNvCxnSpPr>
                <a:stCxn id="220" idx="4"/>
                <a:endCxn id="223" idx="1"/>
              </p:cNvCxnSpPr>
              <p:nvPr/>
            </p:nvCxnSpPr>
            <p:spPr>
              <a:xfrm>
                <a:off x="3166920" y="5689800"/>
                <a:ext cx="264240" cy="39960"/>
              </a:xfrm>
              <a:prstGeom prst="bentConnector3">
                <a:avLst>
                  <a:gd name="adj1" fmla="val 49795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228" name=""/>
              <p:cNvCxnSpPr/>
              <p:nvPr/>
            </p:nvCxnSpPr>
            <p:spPr>
              <a:xfrm flipV="1">
                <a:off x="3578760" y="5295240"/>
                <a:ext cx="159480" cy="1285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229" name=""/>
              <p:cNvSpPr/>
              <p:nvPr/>
            </p:nvSpPr>
            <p:spPr>
              <a:xfrm>
                <a:off x="3974040" y="5323320"/>
                <a:ext cx="0" cy="1418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870280" y="5465520"/>
                <a:ext cx="402840" cy="34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urpose: build suspect 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17520" y="5175720"/>
                <a:ext cx="131040" cy="14760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Opt-In</a:t>
                </a:r>
                <a:br>
                  <a:rPr sz="400"/>
                </a:b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240360" y="5222520"/>
                <a:ext cx="21960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947400" y="5747760"/>
                <a:ext cx="1677960" cy="63000"/>
              </a:xfrm>
              <a:prstGeom prst="rect">
                <a:avLst/>
              </a:prstGeom>
              <a:solidFill>
                <a:srgbClr val="ffd6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12240" bIns="12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event series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, featuring Lilly &amp; industry exper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34" name=""/>
              <p:cNvCxnSpPr>
                <a:endCxn id="216" idx="2"/>
              </p:cNvCxnSpPr>
              <p:nvPr/>
            </p:nvCxnSpPr>
            <p:spPr>
              <a:xfrm flipV="1">
                <a:off x="5796360" y="5378400"/>
                <a:ext cx="210600" cy="195120"/>
              </a:xfrm>
              <a:prstGeom prst="bentConnector2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235" name=""/>
              <p:cNvSpPr/>
              <p:nvPr/>
            </p:nvSpPr>
            <p:spPr>
              <a:xfrm>
                <a:off x="4248000" y="5622120"/>
                <a:ext cx="13968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680640" y="5562360"/>
                <a:ext cx="21960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7" name=""/>
              <p:cNvGrpSpPr/>
              <p:nvPr/>
            </p:nvGrpSpPr>
            <p:grpSpPr>
              <a:xfrm>
                <a:off x="2986920" y="5295960"/>
                <a:ext cx="153000" cy="111240"/>
                <a:chOff x="2986920" y="5295960"/>
                <a:chExt cx="153000" cy="11124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2993760" y="5306760"/>
                  <a:ext cx="142560" cy="100440"/>
                </a:xfrm>
                <a:custGeom>
                  <a:avLst/>
                  <a:gdLst/>
                  <a:ahLst/>
                  <a:rect l="l" t="t" r="r" b="b"/>
                  <a:pathLst>
                    <a:path w="531" h="503">
                      <a:moveTo>
                        <a:pt x="0" y="451"/>
                      </a:moveTo>
                      <a:lnTo>
                        <a:pt x="186" y="313"/>
                      </a:lnTo>
                      <a:lnTo>
                        <a:pt x="167" y="277"/>
                      </a:lnTo>
                      <a:lnTo>
                        <a:pt x="172" y="241"/>
                      </a:lnTo>
                      <a:lnTo>
                        <a:pt x="207" y="289"/>
                      </a:lnTo>
                      <a:lnTo>
                        <a:pt x="205" y="239"/>
                      </a:lnTo>
                      <a:lnTo>
                        <a:pt x="235" y="153"/>
                      </a:lnTo>
                      <a:lnTo>
                        <a:pt x="273" y="90"/>
                      </a:lnTo>
                      <a:lnTo>
                        <a:pt x="345" y="27"/>
                      </a:lnTo>
                      <a:lnTo>
                        <a:pt x="412" y="0"/>
                      </a:lnTo>
                      <a:lnTo>
                        <a:pt x="474" y="0"/>
                      </a:lnTo>
                      <a:lnTo>
                        <a:pt x="515" y="19"/>
                      </a:lnTo>
                      <a:lnTo>
                        <a:pt x="531" y="62"/>
                      </a:lnTo>
                      <a:lnTo>
                        <a:pt x="531" y="148"/>
                      </a:lnTo>
                      <a:lnTo>
                        <a:pt x="493" y="234"/>
                      </a:lnTo>
                      <a:lnTo>
                        <a:pt x="445" y="281"/>
                      </a:lnTo>
                      <a:lnTo>
                        <a:pt x="387" y="339"/>
                      </a:lnTo>
                      <a:lnTo>
                        <a:pt x="316" y="339"/>
                      </a:lnTo>
                      <a:lnTo>
                        <a:pt x="259" y="343"/>
                      </a:lnTo>
                      <a:lnTo>
                        <a:pt x="312" y="318"/>
                      </a:lnTo>
                      <a:lnTo>
                        <a:pt x="388" y="275"/>
                      </a:lnTo>
                      <a:lnTo>
                        <a:pt x="455" y="222"/>
                      </a:lnTo>
                      <a:lnTo>
                        <a:pt x="490" y="153"/>
                      </a:lnTo>
                      <a:lnTo>
                        <a:pt x="500" y="103"/>
                      </a:lnTo>
                      <a:lnTo>
                        <a:pt x="496" y="57"/>
                      </a:lnTo>
                      <a:lnTo>
                        <a:pt x="426" y="29"/>
                      </a:lnTo>
                      <a:lnTo>
                        <a:pt x="376" y="65"/>
                      </a:lnTo>
                      <a:lnTo>
                        <a:pt x="288" y="119"/>
                      </a:lnTo>
                      <a:lnTo>
                        <a:pt x="259" y="201"/>
                      </a:lnTo>
                      <a:lnTo>
                        <a:pt x="243" y="265"/>
                      </a:lnTo>
                      <a:lnTo>
                        <a:pt x="235" y="308"/>
                      </a:lnTo>
                      <a:lnTo>
                        <a:pt x="202" y="324"/>
                      </a:lnTo>
                      <a:lnTo>
                        <a:pt x="205" y="353"/>
                      </a:lnTo>
                      <a:lnTo>
                        <a:pt x="36" y="503"/>
                      </a:lnTo>
                      <a:lnTo>
                        <a:pt x="0" y="479"/>
                      </a:lnTo>
                      <a:lnTo>
                        <a:pt x="12" y="471"/>
                      </a:lnTo>
                      <a:lnTo>
                        <a:pt x="0" y="451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070440" y="5313960"/>
                  <a:ext cx="48600" cy="46080"/>
                </a:xfrm>
                <a:custGeom>
                  <a:avLst/>
                  <a:gdLst/>
                  <a:ahLst/>
                  <a:rect l="l" t="t" r="r" b="b"/>
                  <a:pathLst>
                    <a:path w="363" h="473">
                      <a:moveTo>
                        <a:pt x="186" y="53"/>
                      </a:moveTo>
                      <a:lnTo>
                        <a:pt x="215" y="104"/>
                      </a:lnTo>
                      <a:lnTo>
                        <a:pt x="205" y="196"/>
                      </a:lnTo>
                      <a:lnTo>
                        <a:pt x="154" y="287"/>
                      </a:lnTo>
                      <a:lnTo>
                        <a:pt x="0" y="458"/>
                      </a:lnTo>
                      <a:lnTo>
                        <a:pt x="95" y="473"/>
                      </a:lnTo>
                      <a:lnTo>
                        <a:pt x="262" y="329"/>
                      </a:lnTo>
                      <a:lnTo>
                        <a:pt x="338" y="201"/>
                      </a:lnTo>
                      <a:lnTo>
                        <a:pt x="363" y="95"/>
                      </a:lnTo>
                      <a:lnTo>
                        <a:pt x="344" y="44"/>
                      </a:lnTo>
                      <a:lnTo>
                        <a:pt x="297" y="0"/>
                      </a:lnTo>
                      <a:lnTo>
                        <a:pt x="230" y="9"/>
                      </a:lnTo>
                      <a:lnTo>
                        <a:pt x="186" y="53"/>
                      </a:lnTo>
                      <a:lnTo>
                        <a:pt x="186" y="53"/>
                      </a:lnTo>
                      <a:close/>
                    </a:path>
                  </a:pathLst>
                </a:custGeom>
                <a:solidFill>
                  <a:srgbClr val="cc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042360" y="5362560"/>
                  <a:ext cx="50400" cy="14040"/>
                </a:xfrm>
                <a:custGeom>
                  <a:avLst/>
                  <a:gdLst/>
                  <a:ahLst/>
                  <a:rect l="l" t="t" r="r" b="b"/>
                  <a:pathLst>
                    <a:path w="376" h="143">
                      <a:moveTo>
                        <a:pt x="89" y="0"/>
                      </a:moveTo>
                      <a:lnTo>
                        <a:pt x="108" y="48"/>
                      </a:lnTo>
                      <a:lnTo>
                        <a:pt x="184" y="86"/>
                      </a:lnTo>
                      <a:lnTo>
                        <a:pt x="376" y="67"/>
                      </a:lnTo>
                      <a:lnTo>
                        <a:pt x="270" y="109"/>
                      </a:lnTo>
                      <a:lnTo>
                        <a:pt x="99" y="128"/>
                      </a:lnTo>
                      <a:lnTo>
                        <a:pt x="0" y="143"/>
                      </a:lnTo>
                      <a:lnTo>
                        <a:pt x="9" y="57"/>
                      </a:lnTo>
                      <a:lnTo>
                        <a:pt x="89" y="0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058200" y="5310360"/>
                  <a:ext cx="71280" cy="51840"/>
                </a:xfrm>
                <a:custGeom>
                  <a:avLst/>
                  <a:gdLst/>
                  <a:ahLst/>
                  <a:rect l="l" t="t" r="r" b="b"/>
                  <a:pathLst>
                    <a:path w="534" h="518">
                      <a:moveTo>
                        <a:pt x="0" y="503"/>
                      </a:moveTo>
                      <a:lnTo>
                        <a:pt x="15" y="397"/>
                      </a:lnTo>
                      <a:lnTo>
                        <a:pt x="38" y="306"/>
                      </a:lnTo>
                      <a:lnTo>
                        <a:pt x="55" y="262"/>
                      </a:lnTo>
                      <a:lnTo>
                        <a:pt x="76" y="220"/>
                      </a:lnTo>
                      <a:lnTo>
                        <a:pt x="102" y="178"/>
                      </a:lnTo>
                      <a:lnTo>
                        <a:pt x="137" y="135"/>
                      </a:lnTo>
                      <a:lnTo>
                        <a:pt x="159" y="106"/>
                      </a:lnTo>
                      <a:lnTo>
                        <a:pt x="184" y="81"/>
                      </a:lnTo>
                      <a:lnTo>
                        <a:pt x="213" y="60"/>
                      </a:lnTo>
                      <a:lnTo>
                        <a:pt x="245" y="39"/>
                      </a:lnTo>
                      <a:lnTo>
                        <a:pt x="294" y="15"/>
                      </a:lnTo>
                      <a:lnTo>
                        <a:pt x="340" y="0"/>
                      </a:lnTo>
                      <a:lnTo>
                        <a:pt x="441" y="0"/>
                      </a:lnTo>
                      <a:lnTo>
                        <a:pt x="484" y="17"/>
                      </a:lnTo>
                      <a:lnTo>
                        <a:pt x="519" y="49"/>
                      </a:lnTo>
                      <a:lnTo>
                        <a:pt x="532" y="78"/>
                      </a:lnTo>
                      <a:lnTo>
                        <a:pt x="534" y="108"/>
                      </a:lnTo>
                      <a:lnTo>
                        <a:pt x="521" y="180"/>
                      </a:lnTo>
                      <a:lnTo>
                        <a:pt x="507" y="193"/>
                      </a:lnTo>
                      <a:lnTo>
                        <a:pt x="494" y="178"/>
                      </a:lnTo>
                      <a:lnTo>
                        <a:pt x="498" y="68"/>
                      </a:lnTo>
                      <a:lnTo>
                        <a:pt x="469" y="49"/>
                      </a:lnTo>
                      <a:lnTo>
                        <a:pt x="433" y="41"/>
                      </a:lnTo>
                      <a:lnTo>
                        <a:pt x="351" y="51"/>
                      </a:lnTo>
                      <a:lnTo>
                        <a:pt x="315" y="70"/>
                      </a:lnTo>
                      <a:lnTo>
                        <a:pt x="275" y="93"/>
                      </a:lnTo>
                      <a:lnTo>
                        <a:pt x="186" y="171"/>
                      </a:lnTo>
                      <a:lnTo>
                        <a:pt x="154" y="211"/>
                      </a:lnTo>
                      <a:lnTo>
                        <a:pt x="125" y="249"/>
                      </a:lnTo>
                      <a:lnTo>
                        <a:pt x="80" y="325"/>
                      </a:lnTo>
                      <a:lnTo>
                        <a:pt x="47" y="408"/>
                      </a:lnTo>
                      <a:lnTo>
                        <a:pt x="28" y="505"/>
                      </a:lnTo>
                      <a:lnTo>
                        <a:pt x="13" y="518"/>
                      </a:lnTo>
                      <a:lnTo>
                        <a:pt x="0" y="503"/>
                      </a:lnTo>
                      <a:lnTo>
                        <a:pt x="0" y="5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035880" y="5295960"/>
                  <a:ext cx="95400" cy="68040"/>
                </a:xfrm>
                <a:custGeom>
                  <a:avLst/>
                  <a:gdLst/>
                  <a:ahLst/>
                  <a:rect l="l" t="t" r="r" b="b"/>
                  <a:pathLst>
                    <a:path w="705" h="675">
                      <a:moveTo>
                        <a:pt x="0" y="661"/>
                      </a:moveTo>
                      <a:lnTo>
                        <a:pt x="0" y="608"/>
                      </a:lnTo>
                      <a:lnTo>
                        <a:pt x="2" y="561"/>
                      </a:lnTo>
                      <a:lnTo>
                        <a:pt x="17" y="473"/>
                      </a:lnTo>
                      <a:lnTo>
                        <a:pt x="31" y="429"/>
                      </a:lnTo>
                      <a:lnTo>
                        <a:pt x="48" y="388"/>
                      </a:lnTo>
                      <a:lnTo>
                        <a:pt x="69" y="344"/>
                      </a:lnTo>
                      <a:lnTo>
                        <a:pt x="93" y="298"/>
                      </a:lnTo>
                      <a:lnTo>
                        <a:pt x="114" y="266"/>
                      </a:lnTo>
                      <a:lnTo>
                        <a:pt x="135" y="238"/>
                      </a:lnTo>
                      <a:lnTo>
                        <a:pt x="181" y="179"/>
                      </a:lnTo>
                      <a:lnTo>
                        <a:pt x="221" y="137"/>
                      </a:lnTo>
                      <a:lnTo>
                        <a:pt x="257" y="104"/>
                      </a:lnTo>
                      <a:lnTo>
                        <a:pt x="295" y="74"/>
                      </a:lnTo>
                      <a:lnTo>
                        <a:pt x="342" y="47"/>
                      </a:lnTo>
                      <a:lnTo>
                        <a:pt x="394" y="27"/>
                      </a:lnTo>
                      <a:lnTo>
                        <a:pt x="441" y="11"/>
                      </a:lnTo>
                      <a:lnTo>
                        <a:pt x="534" y="0"/>
                      </a:lnTo>
                      <a:lnTo>
                        <a:pt x="620" y="15"/>
                      </a:lnTo>
                      <a:lnTo>
                        <a:pt x="703" y="65"/>
                      </a:lnTo>
                      <a:lnTo>
                        <a:pt x="705" y="84"/>
                      </a:lnTo>
                      <a:lnTo>
                        <a:pt x="684" y="85"/>
                      </a:lnTo>
                      <a:lnTo>
                        <a:pt x="648" y="61"/>
                      </a:lnTo>
                      <a:lnTo>
                        <a:pt x="612" y="47"/>
                      </a:lnTo>
                      <a:lnTo>
                        <a:pt x="536" y="44"/>
                      </a:lnTo>
                      <a:lnTo>
                        <a:pt x="456" y="66"/>
                      </a:lnTo>
                      <a:lnTo>
                        <a:pt x="413" y="84"/>
                      </a:lnTo>
                      <a:lnTo>
                        <a:pt x="367" y="103"/>
                      </a:lnTo>
                      <a:lnTo>
                        <a:pt x="293" y="152"/>
                      </a:lnTo>
                      <a:lnTo>
                        <a:pt x="263" y="180"/>
                      </a:lnTo>
                      <a:lnTo>
                        <a:pt x="226" y="217"/>
                      </a:lnTo>
                      <a:lnTo>
                        <a:pt x="204" y="245"/>
                      </a:lnTo>
                      <a:lnTo>
                        <a:pt x="181" y="270"/>
                      </a:lnTo>
                      <a:lnTo>
                        <a:pt x="139" y="323"/>
                      </a:lnTo>
                      <a:lnTo>
                        <a:pt x="114" y="367"/>
                      </a:lnTo>
                      <a:lnTo>
                        <a:pt x="93" y="407"/>
                      </a:lnTo>
                      <a:lnTo>
                        <a:pt x="55" y="485"/>
                      </a:lnTo>
                      <a:lnTo>
                        <a:pt x="33" y="566"/>
                      </a:lnTo>
                      <a:lnTo>
                        <a:pt x="29" y="659"/>
                      </a:lnTo>
                      <a:lnTo>
                        <a:pt x="15" y="675"/>
                      </a:lnTo>
                      <a:lnTo>
                        <a:pt x="0" y="661"/>
                      </a:lnTo>
                      <a:lnTo>
                        <a:pt x="0" y="6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089520" y="5315760"/>
                  <a:ext cx="50400" cy="57240"/>
                </a:xfrm>
                <a:custGeom>
                  <a:avLst/>
                  <a:gdLst/>
                  <a:ahLst/>
                  <a:rect l="l" t="t" r="r" b="b"/>
                  <a:pathLst>
                    <a:path w="373" h="566">
                      <a:moveTo>
                        <a:pt x="358" y="11"/>
                      </a:moveTo>
                      <a:lnTo>
                        <a:pt x="373" y="138"/>
                      </a:lnTo>
                      <a:lnTo>
                        <a:pt x="369" y="199"/>
                      </a:lnTo>
                      <a:lnTo>
                        <a:pt x="354" y="266"/>
                      </a:lnTo>
                      <a:lnTo>
                        <a:pt x="325" y="327"/>
                      </a:lnTo>
                      <a:lnTo>
                        <a:pt x="310" y="361"/>
                      </a:lnTo>
                      <a:lnTo>
                        <a:pt x="295" y="385"/>
                      </a:lnTo>
                      <a:lnTo>
                        <a:pt x="278" y="414"/>
                      </a:lnTo>
                      <a:lnTo>
                        <a:pt x="255" y="441"/>
                      </a:lnTo>
                      <a:lnTo>
                        <a:pt x="230" y="465"/>
                      </a:lnTo>
                      <a:lnTo>
                        <a:pt x="202" y="490"/>
                      </a:lnTo>
                      <a:lnTo>
                        <a:pt x="172" y="511"/>
                      </a:lnTo>
                      <a:lnTo>
                        <a:pt x="141" y="530"/>
                      </a:lnTo>
                      <a:lnTo>
                        <a:pt x="111" y="549"/>
                      </a:lnTo>
                      <a:lnTo>
                        <a:pt x="80" y="566"/>
                      </a:lnTo>
                      <a:lnTo>
                        <a:pt x="0" y="562"/>
                      </a:lnTo>
                      <a:lnTo>
                        <a:pt x="29" y="545"/>
                      </a:lnTo>
                      <a:lnTo>
                        <a:pt x="61" y="522"/>
                      </a:lnTo>
                      <a:lnTo>
                        <a:pt x="96" y="500"/>
                      </a:lnTo>
                      <a:lnTo>
                        <a:pt x="132" y="473"/>
                      </a:lnTo>
                      <a:lnTo>
                        <a:pt x="196" y="416"/>
                      </a:lnTo>
                      <a:lnTo>
                        <a:pt x="238" y="359"/>
                      </a:lnTo>
                      <a:lnTo>
                        <a:pt x="268" y="302"/>
                      </a:lnTo>
                      <a:lnTo>
                        <a:pt x="297" y="243"/>
                      </a:lnTo>
                      <a:lnTo>
                        <a:pt x="329" y="129"/>
                      </a:lnTo>
                      <a:lnTo>
                        <a:pt x="335" y="78"/>
                      </a:lnTo>
                      <a:lnTo>
                        <a:pt x="329" y="17"/>
                      </a:lnTo>
                      <a:lnTo>
                        <a:pt x="343" y="0"/>
                      </a:lnTo>
                      <a:lnTo>
                        <a:pt x="358" y="11"/>
                      </a:lnTo>
                      <a:lnTo>
                        <a:pt x="358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066840" y="5335200"/>
                  <a:ext cx="50400" cy="30240"/>
                </a:xfrm>
                <a:custGeom>
                  <a:avLst/>
                  <a:gdLst/>
                  <a:ahLst/>
                  <a:rect l="l" t="t" r="r" b="b"/>
                  <a:pathLst>
                    <a:path w="375" h="315">
                      <a:moveTo>
                        <a:pt x="375" y="19"/>
                      </a:moveTo>
                      <a:lnTo>
                        <a:pt x="356" y="57"/>
                      </a:lnTo>
                      <a:lnTo>
                        <a:pt x="337" y="91"/>
                      </a:lnTo>
                      <a:lnTo>
                        <a:pt x="318" y="122"/>
                      </a:lnTo>
                      <a:lnTo>
                        <a:pt x="295" y="150"/>
                      </a:lnTo>
                      <a:lnTo>
                        <a:pt x="272" y="177"/>
                      </a:lnTo>
                      <a:lnTo>
                        <a:pt x="244" y="201"/>
                      </a:lnTo>
                      <a:lnTo>
                        <a:pt x="213" y="226"/>
                      </a:lnTo>
                      <a:lnTo>
                        <a:pt x="179" y="251"/>
                      </a:lnTo>
                      <a:lnTo>
                        <a:pt x="143" y="279"/>
                      </a:lnTo>
                      <a:lnTo>
                        <a:pt x="103" y="302"/>
                      </a:lnTo>
                      <a:lnTo>
                        <a:pt x="18" y="315"/>
                      </a:lnTo>
                      <a:lnTo>
                        <a:pt x="0" y="308"/>
                      </a:lnTo>
                      <a:lnTo>
                        <a:pt x="8" y="291"/>
                      </a:lnTo>
                      <a:lnTo>
                        <a:pt x="42" y="264"/>
                      </a:lnTo>
                      <a:lnTo>
                        <a:pt x="57" y="253"/>
                      </a:lnTo>
                      <a:lnTo>
                        <a:pt x="78" y="241"/>
                      </a:lnTo>
                      <a:lnTo>
                        <a:pt x="139" y="199"/>
                      </a:lnTo>
                      <a:lnTo>
                        <a:pt x="171" y="177"/>
                      </a:lnTo>
                      <a:lnTo>
                        <a:pt x="204" y="156"/>
                      </a:lnTo>
                      <a:lnTo>
                        <a:pt x="232" y="137"/>
                      </a:lnTo>
                      <a:lnTo>
                        <a:pt x="261" y="118"/>
                      </a:lnTo>
                      <a:lnTo>
                        <a:pt x="348" y="7"/>
                      </a:lnTo>
                      <a:lnTo>
                        <a:pt x="367" y="0"/>
                      </a:lnTo>
                      <a:lnTo>
                        <a:pt x="375" y="19"/>
                      </a:lnTo>
                      <a:lnTo>
                        <a:pt x="37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988720" y="5367960"/>
                  <a:ext cx="50040" cy="39240"/>
                </a:xfrm>
                <a:custGeom>
                  <a:avLst/>
                  <a:gdLst/>
                  <a:ahLst/>
                  <a:rect l="l" t="t" r="r" b="b"/>
                  <a:pathLst>
                    <a:path w="185" h="198">
                      <a:moveTo>
                        <a:pt x="185" y="19"/>
                      </a:moveTo>
                      <a:lnTo>
                        <a:pt x="161" y="68"/>
                      </a:lnTo>
                      <a:lnTo>
                        <a:pt x="109" y="102"/>
                      </a:lnTo>
                      <a:lnTo>
                        <a:pt x="69" y="114"/>
                      </a:lnTo>
                      <a:lnTo>
                        <a:pt x="49" y="126"/>
                      </a:lnTo>
                      <a:lnTo>
                        <a:pt x="50" y="161"/>
                      </a:lnTo>
                      <a:lnTo>
                        <a:pt x="45" y="198"/>
                      </a:lnTo>
                      <a:lnTo>
                        <a:pt x="2" y="140"/>
                      </a:lnTo>
                      <a:lnTo>
                        <a:pt x="0" y="120"/>
                      </a:lnTo>
                      <a:lnTo>
                        <a:pt x="8" y="99"/>
                      </a:lnTo>
                      <a:lnTo>
                        <a:pt x="29" y="86"/>
                      </a:lnTo>
                      <a:lnTo>
                        <a:pt x="55" y="84"/>
                      </a:lnTo>
                      <a:lnTo>
                        <a:pt x="107" y="73"/>
                      </a:lnTo>
                      <a:lnTo>
                        <a:pt x="159" y="8"/>
                      </a:lnTo>
                      <a:lnTo>
                        <a:pt x="178" y="0"/>
                      </a:lnTo>
                      <a:lnTo>
                        <a:pt x="185" y="19"/>
                      </a:lnTo>
                      <a:lnTo>
                        <a:pt x="18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986920" y="5398200"/>
                  <a:ext cx="12240" cy="5040"/>
                </a:xfrm>
                <a:custGeom>
                  <a:avLst/>
                  <a:gdLst/>
                  <a:ahLst/>
                  <a:rect l="l" t="t" r="r" b="b"/>
                  <a:pathLst>
                    <a:path w="94" h="50">
                      <a:moveTo>
                        <a:pt x="21" y="0"/>
                      </a:moveTo>
                      <a:lnTo>
                        <a:pt x="46" y="8"/>
                      </a:lnTo>
                      <a:lnTo>
                        <a:pt x="80" y="15"/>
                      </a:lnTo>
                      <a:lnTo>
                        <a:pt x="94" y="30"/>
                      </a:lnTo>
                      <a:lnTo>
                        <a:pt x="80" y="44"/>
                      </a:lnTo>
                      <a:lnTo>
                        <a:pt x="42" y="50"/>
                      </a:lnTo>
                      <a:lnTo>
                        <a:pt x="4" y="23"/>
                      </a:lnTo>
                      <a:lnTo>
                        <a:pt x="0" y="2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>
                <a:off x="3140640" y="5280120"/>
                <a:ext cx="44532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Search Engines: keyword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48" name=""/>
              <p:cNvCxnSpPr/>
              <p:nvPr/>
            </p:nvCxnSpPr>
            <p:spPr>
              <a:xfrm flipV="1">
                <a:off x="3138840" y="5004000"/>
                <a:ext cx="160920" cy="543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249" name=""/>
              <p:cNvSpPr/>
              <p:nvPr/>
            </p:nvSpPr>
            <p:spPr>
              <a:xfrm>
                <a:off x="3780000" y="5218920"/>
                <a:ext cx="11520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4233960" y="5355720"/>
                <a:ext cx="263520" cy="120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4668840" y="5316120"/>
                <a:ext cx="265320" cy="12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"/>
              <p:cNvSpPr/>
              <p:nvPr/>
            </p:nvSpPr>
            <p:spPr>
              <a:xfrm flipV="1">
                <a:off x="4124160" y="5404320"/>
                <a:ext cx="104400" cy="842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504680" y="5404320"/>
                <a:ext cx="43560" cy="698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059360" y="5222520"/>
                <a:ext cx="177228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155120" y="5047920"/>
                <a:ext cx="932400" cy="34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ontent Refreshes on Learning Center: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Flash, OnDemand, Online Assessmen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4558680" y="5391360"/>
                <a:ext cx="104400" cy="8280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960440" y="5386320"/>
                <a:ext cx="335160" cy="1094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8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3376440" y="5396760"/>
                <a:ext cx="263520" cy="11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3524760" y="5047920"/>
                <a:ext cx="114048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Learning Center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0" name=""/>
              <p:cNvCxnSpPr>
                <a:endCxn id="258" idx="1"/>
              </p:cNvCxnSpPr>
              <p:nvPr/>
            </p:nvCxnSpPr>
            <p:spPr>
              <a:xfrm flipV="1">
                <a:off x="3196080" y="5454360"/>
                <a:ext cx="180360" cy="207360"/>
              </a:xfrm>
              <a:prstGeom prst="bentConnector3">
                <a:avLst>
                  <a:gd name="adj1" fmla="val 6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261" name=""/>
              <p:cNvCxnSpPr>
                <a:endCxn id="236" idx="0"/>
              </p:cNvCxnSpPr>
              <p:nvPr/>
            </p:nvCxnSpPr>
            <p:spPr>
              <a:xfrm>
                <a:off x="3668040" y="5468760"/>
                <a:ext cx="232560" cy="93960"/>
              </a:xfrm>
              <a:prstGeom prst="bentConnector4">
                <a:avLst>
                  <a:gd name="adj1" fmla="val 9922"/>
                  <a:gd name="adj2" fmla="val 95384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pic>
            <p:nvPicPr>
              <p:cNvPr id="262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2627640" y="5389920"/>
                <a:ext cx="219600" cy="15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>
                <a:off x="2393640" y="5098320"/>
                <a:ext cx="452160" cy="22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Targeted Tele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569680" y="5526720"/>
                <a:ext cx="371520" cy="34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OnDemand</a:t>
                </a:r>
                <a:br>
                  <a:rPr sz="400"/>
                </a:b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resentation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2662200" y="4438080"/>
                <a:ext cx="308880" cy="16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4270680" y="5195880"/>
                <a:ext cx="219960" cy="15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4960440" y="5312520"/>
                <a:ext cx="219960" cy="15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4256640" y="4430880"/>
                <a:ext cx="219960" cy="15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9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4953240" y="4492080"/>
                <a:ext cx="219960" cy="15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5192640" y="5146920"/>
                <a:ext cx="43776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ff9900"/>
                    </a:solidFill>
                    <a:latin typeface="Arial Black"/>
                  </a:rPr>
                  <a:t>F2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176800" y="4382280"/>
                <a:ext cx="43812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ff9900"/>
                    </a:solidFill>
                    <a:latin typeface="Arial Black"/>
                  </a:rPr>
                  <a:t>F2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5377680" y="5312520"/>
                <a:ext cx="0" cy="1670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5356800" y="4546080"/>
                <a:ext cx="0" cy="1688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777640" y="4303080"/>
                <a:ext cx="51660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18 September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499840" y="5852160"/>
                <a:ext cx="911520" cy="28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AwarenessDirect Mai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rod X Web Detail #1, #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Web Detail DM  #2 Follow-u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364560" y="5852160"/>
                <a:ext cx="1038600" cy="28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Tele-rep Script for Demand Gen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E-Mail w/ Web Detail Flash Presentation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eer-to-Peer Slide Sets (online version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349160" y="5852160"/>
                <a:ext cx="1044000" cy="28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eer-to-Peer Webinar Slide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eer-to-Peer Meeting DM Follow-u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rod X Detail Piece 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402280" y="6076800"/>
                <a:ext cx="2844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938320" y="6076800"/>
                <a:ext cx="2790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441240" y="6076800"/>
                <a:ext cx="2775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3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881160" y="6076800"/>
                <a:ext cx="2844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4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380480" y="6076800"/>
                <a:ext cx="281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5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894200" y="6076800"/>
                <a:ext cx="2804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6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433480" y="6076800"/>
                <a:ext cx="2793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7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926320" y="6076800"/>
                <a:ext cx="2790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8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5320080" y="4258080"/>
                <a:ext cx="0" cy="19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3813120" y="4258080"/>
                <a:ext cx="0" cy="19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200000">
                <a:off x="2036160" y="4562280"/>
                <a:ext cx="4834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0760" bIns="5076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Segment #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6200000">
                <a:off x="2036160" y="5330520"/>
                <a:ext cx="4834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0760" bIns="5076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Segment #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831840" y="4200840"/>
                <a:ext cx="107784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0760" bIns="5076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Build a “Contact Sequencing Matrix”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459800">
                <a:off x="5643720" y="4125960"/>
                <a:ext cx="506160" cy="162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0760" bIns="50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ILLUSTRATIVE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 flipH="1">
              <a:off x="6277680" y="3360960"/>
              <a:ext cx="506160" cy="72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2376360" y="3015360"/>
              <a:ext cx="4232880" cy="106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12840" y="5364720"/>
              <a:ext cx="166608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mpaign Pla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55720" y="4188240"/>
              <a:ext cx="16660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gram RO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693560" y="2925000"/>
              <a:ext cx="16660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rketing Pl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7501680" y="4827240"/>
              <a:ext cx="223560" cy="44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8222760" y="3441600"/>
              <a:ext cx="221760" cy="44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2035800" y="4185360"/>
              <a:ext cx="4101480" cy="2329560"/>
              <a:chOff x="2035800" y="4185360"/>
              <a:chExt cx="4101480" cy="2329560"/>
            </a:xfrm>
          </p:grpSpPr>
          <p:sp>
            <p:nvSpPr>
              <p:cNvPr id="300" name=""/>
              <p:cNvSpPr/>
              <p:nvPr/>
            </p:nvSpPr>
            <p:spPr>
              <a:xfrm>
                <a:off x="2192760" y="4245840"/>
                <a:ext cx="3935520" cy="1942920"/>
              </a:xfrm>
              <a:prstGeom prst="rect">
                <a:avLst/>
              </a:prstGeom>
              <a:solidFill>
                <a:srgbClr val="dbe3f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0760" bIns="50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92760" y="4402440"/>
                <a:ext cx="3935520" cy="1944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92760" y="6240960"/>
                <a:ext cx="3944520" cy="111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875680" y="6352200"/>
                <a:ext cx="57456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Month 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878360" y="6352200"/>
                <a:ext cx="57240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Month 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676240" y="6278400"/>
                <a:ext cx="0" cy="7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161880" y="6278400"/>
                <a:ext cx="0" cy="7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085640" y="6278400"/>
                <a:ext cx="0" cy="7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613040" y="6278400"/>
                <a:ext cx="0" cy="7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669280" y="6278400"/>
                <a:ext cx="0" cy="7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4613040" y="4414680"/>
                <a:ext cx="0" cy="19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5669280" y="4414680"/>
                <a:ext cx="0" cy="19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3161880" y="4414680"/>
                <a:ext cx="0" cy="19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2676240" y="4414680"/>
                <a:ext cx="0" cy="19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4085640" y="4414680"/>
                <a:ext cx="0" cy="19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5" name=""/>
              <p:cNvGrpSpPr/>
              <p:nvPr/>
            </p:nvGrpSpPr>
            <p:grpSpPr>
              <a:xfrm>
                <a:off x="2198160" y="5211720"/>
                <a:ext cx="3935160" cy="767520"/>
                <a:chOff x="2198160" y="5211720"/>
                <a:chExt cx="3935160" cy="767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2198160" y="5211720"/>
                  <a:ext cx="393516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2198160" y="5979240"/>
                  <a:ext cx="3935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2379600" y="5934960"/>
                <a:ext cx="436320" cy="15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nten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19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2763720" y="4477680"/>
                <a:ext cx="26532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0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5655600" y="4564080"/>
                <a:ext cx="352800" cy="208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1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3299760" y="4547880"/>
                <a:ext cx="396360" cy="12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2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3624840" y="4855680"/>
                <a:ext cx="350640" cy="24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3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2287080" y="4803480"/>
                <a:ext cx="265320" cy="12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4" name=""/>
              <p:cNvSpPr/>
              <p:nvPr/>
            </p:nvSpPr>
            <p:spPr>
              <a:xfrm>
                <a:off x="2238120" y="4912920"/>
                <a:ext cx="453960" cy="34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Touches: 10,000 outbound call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859840" y="5008320"/>
                <a:ext cx="132480" cy="15084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World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las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6" name=""/>
              <p:cNvCxnSpPr>
                <a:stCxn id="323" idx="3"/>
                <a:endCxn id="325" idx="2"/>
              </p:cNvCxnSpPr>
              <p:nvPr/>
            </p:nvCxnSpPr>
            <p:spPr>
              <a:xfrm>
                <a:off x="2552040" y="4866120"/>
                <a:ext cx="307800" cy="217800"/>
              </a:xfrm>
              <a:prstGeom prst="bentConnector3">
                <a:avLst>
                  <a:gd name="adj1" fmla="val 49765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pic>
            <p:nvPicPr>
              <p:cNvPr id="327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3212640" y="4936680"/>
                <a:ext cx="263520" cy="120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3256200" y="5046480"/>
                <a:ext cx="219960" cy="15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4197240" y="4851720"/>
                <a:ext cx="350640" cy="24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0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5028480" y="4851720"/>
                <a:ext cx="350640" cy="24984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331" name=""/>
              <p:cNvCxnSpPr/>
              <p:nvPr/>
            </p:nvCxnSpPr>
            <p:spPr>
              <a:xfrm flipV="1">
                <a:off x="2849040" y="4818960"/>
                <a:ext cx="201240" cy="78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332" name=""/>
              <p:cNvCxnSpPr>
                <a:stCxn id="325" idx="4"/>
                <a:endCxn id="328" idx="1"/>
              </p:cNvCxnSpPr>
              <p:nvPr/>
            </p:nvCxnSpPr>
            <p:spPr>
              <a:xfrm>
                <a:off x="2992320" y="5083560"/>
                <a:ext cx="264240" cy="41760"/>
              </a:xfrm>
              <a:prstGeom prst="bentConnector3">
                <a:avLst>
                  <a:gd name="adj1" fmla="val 49795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333" name=""/>
              <p:cNvCxnSpPr/>
              <p:nvPr/>
            </p:nvCxnSpPr>
            <p:spPr>
              <a:xfrm flipV="1">
                <a:off x="3474360" y="4783320"/>
                <a:ext cx="161280" cy="128160"/>
              </a:xfrm>
              <a:prstGeom prst="bentConnector3">
                <a:avLst>
                  <a:gd name="adj1" fmla="val 49888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334" name=""/>
              <p:cNvSpPr/>
              <p:nvPr/>
            </p:nvSpPr>
            <p:spPr>
              <a:xfrm>
                <a:off x="3799440" y="4718880"/>
                <a:ext cx="0" cy="1742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697480" y="4873320"/>
                <a:ext cx="35280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urpose: build 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741480" y="4571280"/>
                <a:ext cx="132480" cy="14580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Opt-In</a:t>
                </a:r>
                <a:br>
                  <a:rPr sz="400"/>
                </a:b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066120" y="4618080"/>
                <a:ext cx="21960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772800" y="5141520"/>
                <a:ext cx="1677960" cy="64800"/>
              </a:xfrm>
              <a:prstGeom prst="rect">
                <a:avLst/>
              </a:prstGeom>
              <a:solidFill>
                <a:srgbClr val="ffd6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14040" bIns="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event series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, featuring Lilly &amp; industry exper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9" name=""/>
              <p:cNvCxnSpPr>
                <a:endCxn id="320" idx="2"/>
              </p:cNvCxnSpPr>
              <p:nvPr/>
            </p:nvCxnSpPr>
            <p:spPr>
              <a:xfrm flipV="1">
                <a:off x="5621760" y="4772520"/>
                <a:ext cx="210600" cy="195120"/>
              </a:xfrm>
              <a:prstGeom prst="bentConnector2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340" name=""/>
              <p:cNvSpPr/>
              <p:nvPr/>
            </p:nvSpPr>
            <p:spPr>
              <a:xfrm>
                <a:off x="3975480" y="5015880"/>
                <a:ext cx="23760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06040" y="4956120"/>
                <a:ext cx="21960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2810880" y="4689720"/>
                <a:ext cx="153000" cy="111240"/>
                <a:chOff x="2810880" y="4689720"/>
                <a:chExt cx="153000" cy="1112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2817360" y="4700520"/>
                  <a:ext cx="142920" cy="100440"/>
                </a:xfrm>
                <a:custGeom>
                  <a:avLst/>
                  <a:gdLst/>
                  <a:ahLst/>
                  <a:rect l="l" t="t" r="r" b="b"/>
                  <a:pathLst>
                    <a:path w="531" h="503">
                      <a:moveTo>
                        <a:pt x="0" y="451"/>
                      </a:moveTo>
                      <a:lnTo>
                        <a:pt x="186" y="313"/>
                      </a:lnTo>
                      <a:lnTo>
                        <a:pt x="167" y="277"/>
                      </a:lnTo>
                      <a:lnTo>
                        <a:pt x="172" y="241"/>
                      </a:lnTo>
                      <a:lnTo>
                        <a:pt x="207" y="289"/>
                      </a:lnTo>
                      <a:lnTo>
                        <a:pt x="205" y="239"/>
                      </a:lnTo>
                      <a:lnTo>
                        <a:pt x="235" y="153"/>
                      </a:lnTo>
                      <a:lnTo>
                        <a:pt x="273" y="90"/>
                      </a:lnTo>
                      <a:lnTo>
                        <a:pt x="345" y="27"/>
                      </a:lnTo>
                      <a:lnTo>
                        <a:pt x="412" y="0"/>
                      </a:lnTo>
                      <a:lnTo>
                        <a:pt x="474" y="0"/>
                      </a:lnTo>
                      <a:lnTo>
                        <a:pt x="515" y="19"/>
                      </a:lnTo>
                      <a:lnTo>
                        <a:pt x="531" y="62"/>
                      </a:lnTo>
                      <a:lnTo>
                        <a:pt x="531" y="148"/>
                      </a:lnTo>
                      <a:lnTo>
                        <a:pt x="493" y="234"/>
                      </a:lnTo>
                      <a:lnTo>
                        <a:pt x="445" y="281"/>
                      </a:lnTo>
                      <a:lnTo>
                        <a:pt x="387" y="339"/>
                      </a:lnTo>
                      <a:lnTo>
                        <a:pt x="316" y="339"/>
                      </a:lnTo>
                      <a:lnTo>
                        <a:pt x="259" y="343"/>
                      </a:lnTo>
                      <a:lnTo>
                        <a:pt x="312" y="318"/>
                      </a:lnTo>
                      <a:lnTo>
                        <a:pt x="388" y="275"/>
                      </a:lnTo>
                      <a:lnTo>
                        <a:pt x="455" y="222"/>
                      </a:lnTo>
                      <a:lnTo>
                        <a:pt x="490" y="153"/>
                      </a:lnTo>
                      <a:lnTo>
                        <a:pt x="500" y="103"/>
                      </a:lnTo>
                      <a:lnTo>
                        <a:pt x="496" y="57"/>
                      </a:lnTo>
                      <a:lnTo>
                        <a:pt x="426" y="29"/>
                      </a:lnTo>
                      <a:lnTo>
                        <a:pt x="376" y="65"/>
                      </a:lnTo>
                      <a:lnTo>
                        <a:pt x="288" y="119"/>
                      </a:lnTo>
                      <a:lnTo>
                        <a:pt x="259" y="201"/>
                      </a:lnTo>
                      <a:lnTo>
                        <a:pt x="243" y="265"/>
                      </a:lnTo>
                      <a:lnTo>
                        <a:pt x="235" y="308"/>
                      </a:lnTo>
                      <a:lnTo>
                        <a:pt x="202" y="324"/>
                      </a:lnTo>
                      <a:lnTo>
                        <a:pt x="205" y="353"/>
                      </a:lnTo>
                      <a:lnTo>
                        <a:pt x="36" y="503"/>
                      </a:lnTo>
                      <a:lnTo>
                        <a:pt x="0" y="479"/>
                      </a:lnTo>
                      <a:lnTo>
                        <a:pt x="12" y="471"/>
                      </a:lnTo>
                      <a:lnTo>
                        <a:pt x="0" y="451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894040" y="4707720"/>
                  <a:ext cx="48960" cy="46080"/>
                </a:xfrm>
                <a:custGeom>
                  <a:avLst/>
                  <a:gdLst/>
                  <a:ahLst/>
                  <a:rect l="l" t="t" r="r" b="b"/>
                  <a:pathLst>
                    <a:path w="363" h="473">
                      <a:moveTo>
                        <a:pt x="186" y="53"/>
                      </a:moveTo>
                      <a:lnTo>
                        <a:pt x="215" y="104"/>
                      </a:lnTo>
                      <a:lnTo>
                        <a:pt x="205" y="196"/>
                      </a:lnTo>
                      <a:lnTo>
                        <a:pt x="154" y="287"/>
                      </a:lnTo>
                      <a:lnTo>
                        <a:pt x="0" y="458"/>
                      </a:lnTo>
                      <a:lnTo>
                        <a:pt x="95" y="473"/>
                      </a:lnTo>
                      <a:lnTo>
                        <a:pt x="262" y="329"/>
                      </a:lnTo>
                      <a:lnTo>
                        <a:pt x="338" y="201"/>
                      </a:lnTo>
                      <a:lnTo>
                        <a:pt x="363" y="95"/>
                      </a:lnTo>
                      <a:lnTo>
                        <a:pt x="344" y="44"/>
                      </a:lnTo>
                      <a:lnTo>
                        <a:pt x="297" y="0"/>
                      </a:lnTo>
                      <a:lnTo>
                        <a:pt x="230" y="9"/>
                      </a:lnTo>
                      <a:lnTo>
                        <a:pt x="186" y="53"/>
                      </a:lnTo>
                      <a:lnTo>
                        <a:pt x="186" y="53"/>
                      </a:lnTo>
                      <a:close/>
                    </a:path>
                  </a:pathLst>
                </a:custGeom>
                <a:solidFill>
                  <a:srgbClr val="cc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866320" y="4756320"/>
                  <a:ext cx="50400" cy="14040"/>
                </a:xfrm>
                <a:custGeom>
                  <a:avLst/>
                  <a:gdLst/>
                  <a:ahLst/>
                  <a:rect l="l" t="t" r="r" b="b"/>
                  <a:pathLst>
                    <a:path w="376" h="143">
                      <a:moveTo>
                        <a:pt x="89" y="0"/>
                      </a:moveTo>
                      <a:lnTo>
                        <a:pt x="108" y="48"/>
                      </a:lnTo>
                      <a:lnTo>
                        <a:pt x="184" y="86"/>
                      </a:lnTo>
                      <a:lnTo>
                        <a:pt x="376" y="67"/>
                      </a:lnTo>
                      <a:lnTo>
                        <a:pt x="270" y="109"/>
                      </a:lnTo>
                      <a:lnTo>
                        <a:pt x="99" y="128"/>
                      </a:lnTo>
                      <a:lnTo>
                        <a:pt x="0" y="143"/>
                      </a:lnTo>
                      <a:lnTo>
                        <a:pt x="9" y="57"/>
                      </a:lnTo>
                      <a:lnTo>
                        <a:pt x="89" y="0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882160" y="4704120"/>
                  <a:ext cx="70920" cy="51840"/>
                </a:xfrm>
                <a:custGeom>
                  <a:avLst/>
                  <a:gdLst/>
                  <a:ahLst/>
                  <a:rect l="l" t="t" r="r" b="b"/>
                  <a:pathLst>
                    <a:path w="534" h="518">
                      <a:moveTo>
                        <a:pt x="0" y="503"/>
                      </a:moveTo>
                      <a:lnTo>
                        <a:pt x="15" y="397"/>
                      </a:lnTo>
                      <a:lnTo>
                        <a:pt x="38" y="306"/>
                      </a:lnTo>
                      <a:lnTo>
                        <a:pt x="55" y="262"/>
                      </a:lnTo>
                      <a:lnTo>
                        <a:pt x="76" y="220"/>
                      </a:lnTo>
                      <a:lnTo>
                        <a:pt x="102" y="178"/>
                      </a:lnTo>
                      <a:lnTo>
                        <a:pt x="137" y="135"/>
                      </a:lnTo>
                      <a:lnTo>
                        <a:pt x="159" y="106"/>
                      </a:lnTo>
                      <a:lnTo>
                        <a:pt x="184" y="81"/>
                      </a:lnTo>
                      <a:lnTo>
                        <a:pt x="213" y="60"/>
                      </a:lnTo>
                      <a:lnTo>
                        <a:pt x="245" y="39"/>
                      </a:lnTo>
                      <a:lnTo>
                        <a:pt x="294" y="15"/>
                      </a:lnTo>
                      <a:lnTo>
                        <a:pt x="340" y="0"/>
                      </a:lnTo>
                      <a:lnTo>
                        <a:pt x="441" y="0"/>
                      </a:lnTo>
                      <a:lnTo>
                        <a:pt x="484" y="17"/>
                      </a:lnTo>
                      <a:lnTo>
                        <a:pt x="519" y="49"/>
                      </a:lnTo>
                      <a:lnTo>
                        <a:pt x="532" y="78"/>
                      </a:lnTo>
                      <a:lnTo>
                        <a:pt x="534" y="108"/>
                      </a:lnTo>
                      <a:lnTo>
                        <a:pt x="521" y="180"/>
                      </a:lnTo>
                      <a:lnTo>
                        <a:pt x="507" y="193"/>
                      </a:lnTo>
                      <a:lnTo>
                        <a:pt x="494" y="178"/>
                      </a:lnTo>
                      <a:lnTo>
                        <a:pt x="498" y="68"/>
                      </a:lnTo>
                      <a:lnTo>
                        <a:pt x="469" y="49"/>
                      </a:lnTo>
                      <a:lnTo>
                        <a:pt x="433" y="41"/>
                      </a:lnTo>
                      <a:lnTo>
                        <a:pt x="351" y="51"/>
                      </a:lnTo>
                      <a:lnTo>
                        <a:pt x="315" y="70"/>
                      </a:lnTo>
                      <a:lnTo>
                        <a:pt x="275" y="93"/>
                      </a:lnTo>
                      <a:lnTo>
                        <a:pt x="186" y="171"/>
                      </a:lnTo>
                      <a:lnTo>
                        <a:pt x="154" y="211"/>
                      </a:lnTo>
                      <a:lnTo>
                        <a:pt x="125" y="249"/>
                      </a:lnTo>
                      <a:lnTo>
                        <a:pt x="80" y="325"/>
                      </a:lnTo>
                      <a:lnTo>
                        <a:pt x="47" y="408"/>
                      </a:lnTo>
                      <a:lnTo>
                        <a:pt x="28" y="505"/>
                      </a:lnTo>
                      <a:lnTo>
                        <a:pt x="13" y="518"/>
                      </a:lnTo>
                      <a:lnTo>
                        <a:pt x="0" y="503"/>
                      </a:lnTo>
                      <a:lnTo>
                        <a:pt x="0" y="5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859480" y="4689720"/>
                  <a:ext cx="95760" cy="68040"/>
                </a:xfrm>
                <a:custGeom>
                  <a:avLst/>
                  <a:gdLst/>
                  <a:ahLst/>
                  <a:rect l="l" t="t" r="r" b="b"/>
                  <a:pathLst>
                    <a:path w="705" h="675">
                      <a:moveTo>
                        <a:pt x="0" y="661"/>
                      </a:moveTo>
                      <a:lnTo>
                        <a:pt x="0" y="608"/>
                      </a:lnTo>
                      <a:lnTo>
                        <a:pt x="2" y="561"/>
                      </a:lnTo>
                      <a:lnTo>
                        <a:pt x="17" y="473"/>
                      </a:lnTo>
                      <a:lnTo>
                        <a:pt x="31" y="429"/>
                      </a:lnTo>
                      <a:lnTo>
                        <a:pt x="48" y="388"/>
                      </a:lnTo>
                      <a:lnTo>
                        <a:pt x="69" y="344"/>
                      </a:lnTo>
                      <a:lnTo>
                        <a:pt x="93" y="298"/>
                      </a:lnTo>
                      <a:lnTo>
                        <a:pt x="114" y="266"/>
                      </a:lnTo>
                      <a:lnTo>
                        <a:pt x="135" y="238"/>
                      </a:lnTo>
                      <a:lnTo>
                        <a:pt x="181" y="179"/>
                      </a:lnTo>
                      <a:lnTo>
                        <a:pt x="221" y="137"/>
                      </a:lnTo>
                      <a:lnTo>
                        <a:pt x="257" y="104"/>
                      </a:lnTo>
                      <a:lnTo>
                        <a:pt x="295" y="74"/>
                      </a:lnTo>
                      <a:lnTo>
                        <a:pt x="342" y="47"/>
                      </a:lnTo>
                      <a:lnTo>
                        <a:pt x="394" y="27"/>
                      </a:lnTo>
                      <a:lnTo>
                        <a:pt x="441" y="11"/>
                      </a:lnTo>
                      <a:lnTo>
                        <a:pt x="534" y="0"/>
                      </a:lnTo>
                      <a:lnTo>
                        <a:pt x="620" y="15"/>
                      </a:lnTo>
                      <a:lnTo>
                        <a:pt x="703" y="65"/>
                      </a:lnTo>
                      <a:lnTo>
                        <a:pt x="705" y="84"/>
                      </a:lnTo>
                      <a:lnTo>
                        <a:pt x="684" y="85"/>
                      </a:lnTo>
                      <a:lnTo>
                        <a:pt x="648" y="61"/>
                      </a:lnTo>
                      <a:lnTo>
                        <a:pt x="612" y="47"/>
                      </a:lnTo>
                      <a:lnTo>
                        <a:pt x="536" y="44"/>
                      </a:lnTo>
                      <a:lnTo>
                        <a:pt x="456" y="66"/>
                      </a:lnTo>
                      <a:lnTo>
                        <a:pt x="413" y="84"/>
                      </a:lnTo>
                      <a:lnTo>
                        <a:pt x="367" y="103"/>
                      </a:lnTo>
                      <a:lnTo>
                        <a:pt x="293" y="152"/>
                      </a:lnTo>
                      <a:lnTo>
                        <a:pt x="263" y="180"/>
                      </a:lnTo>
                      <a:lnTo>
                        <a:pt x="226" y="217"/>
                      </a:lnTo>
                      <a:lnTo>
                        <a:pt x="204" y="245"/>
                      </a:lnTo>
                      <a:lnTo>
                        <a:pt x="181" y="270"/>
                      </a:lnTo>
                      <a:lnTo>
                        <a:pt x="139" y="323"/>
                      </a:lnTo>
                      <a:lnTo>
                        <a:pt x="114" y="367"/>
                      </a:lnTo>
                      <a:lnTo>
                        <a:pt x="93" y="407"/>
                      </a:lnTo>
                      <a:lnTo>
                        <a:pt x="55" y="485"/>
                      </a:lnTo>
                      <a:lnTo>
                        <a:pt x="33" y="566"/>
                      </a:lnTo>
                      <a:lnTo>
                        <a:pt x="29" y="659"/>
                      </a:lnTo>
                      <a:lnTo>
                        <a:pt x="15" y="675"/>
                      </a:lnTo>
                      <a:lnTo>
                        <a:pt x="0" y="661"/>
                      </a:lnTo>
                      <a:lnTo>
                        <a:pt x="0" y="6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913480" y="4709520"/>
                  <a:ext cx="50400" cy="57240"/>
                </a:xfrm>
                <a:custGeom>
                  <a:avLst/>
                  <a:gdLst/>
                  <a:ahLst/>
                  <a:rect l="l" t="t" r="r" b="b"/>
                  <a:pathLst>
                    <a:path w="373" h="566">
                      <a:moveTo>
                        <a:pt x="358" y="11"/>
                      </a:moveTo>
                      <a:lnTo>
                        <a:pt x="373" y="138"/>
                      </a:lnTo>
                      <a:lnTo>
                        <a:pt x="369" y="199"/>
                      </a:lnTo>
                      <a:lnTo>
                        <a:pt x="354" y="266"/>
                      </a:lnTo>
                      <a:lnTo>
                        <a:pt x="325" y="327"/>
                      </a:lnTo>
                      <a:lnTo>
                        <a:pt x="310" y="361"/>
                      </a:lnTo>
                      <a:lnTo>
                        <a:pt x="295" y="385"/>
                      </a:lnTo>
                      <a:lnTo>
                        <a:pt x="278" y="414"/>
                      </a:lnTo>
                      <a:lnTo>
                        <a:pt x="255" y="441"/>
                      </a:lnTo>
                      <a:lnTo>
                        <a:pt x="230" y="465"/>
                      </a:lnTo>
                      <a:lnTo>
                        <a:pt x="202" y="490"/>
                      </a:lnTo>
                      <a:lnTo>
                        <a:pt x="172" y="511"/>
                      </a:lnTo>
                      <a:lnTo>
                        <a:pt x="141" y="530"/>
                      </a:lnTo>
                      <a:lnTo>
                        <a:pt x="111" y="549"/>
                      </a:lnTo>
                      <a:lnTo>
                        <a:pt x="80" y="566"/>
                      </a:lnTo>
                      <a:lnTo>
                        <a:pt x="0" y="562"/>
                      </a:lnTo>
                      <a:lnTo>
                        <a:pt x="29" y="545"/>
                      </a:lnTo>
                      <a:lnTo>
                        <a:pt x="61" y="522"/>
                      </a:lnTo>
                      <a:lnTo>
                        <a:pt x="96" y="500"/>
                      </a:lnTo>
                      <a:lnTo>
                        <a:pt x="132" y="473"/>
                      </a:lnTo>
                      <a:lnTo>
                        <a:pt x="196" y="416"/>
                      </a:lnTo>
                      <a:lnTo>
                        <a:pt x="238" y="359"/>
                      </a:lnTo>
                      <a:lnTo>
                        <a:pt x="268" y="302"/>
                      </a:lnTo>
                      <a:lnTo>
                        <a:pt x="297" y="243"/>
                      </a:lnTo>
                      <a:lnTo>
                        <a:pt x="329" y="129"/>
                      </a:lnTo>
                      <a:lnTo>
                        <a:pt x="335" y="78"/>
                      </a:lnTo>
                      <a:lnTo>
                        <a:pt x="329" y="17"/>
                      </a:lnTo>
                      <a:lnTo>
                        <a:pt x="343" y="0"/>
                      </a:lnTo>
                      <a:lnTo>
                        <a:pt x="358" y="11"/>
                      </a:lnTo>
                      <a:lnTo>
                        <a:pt x="358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890800" y="4728960"/>
                  <a:ext cx="50040" cy="30240"/>
                </a:xfrm>
                <a:custGeom>
                  <a:avLst/>
                  <a:gdLst/>
                  <a:ahLst/>
                  <a:rect l="l" t="t" r="r" b="b"/>
                  <a:pathLst>
                    <a:path w="375" h="315">
                      <a:moveTo>
                        <a:pt x="375" y="19"/>
                      </a:moveTo>
                      <a:lnTo>
                        <a:pt x="356" y="57"/>
                      </a:lnTo>
                      <a:lnTo>
                        <a:pt x="337" y="91"/>
                      </a:lnTo>
                      <a:lnTo>
                        <a:pt x="318" y="122"/>
                      </a:lnTo>
                      <a:lnTo>
                        <a:pt x="295" y="150"/>
                      </a:lnTo>
                      <a:lnTo>
                        <a:pt x="272" y="177"/>
                      </a:lnTo>
                      <a:lnTo>
                        <a:pt x="244" y="201"/>
                      </a:lnTo>
                      <a:lnTo>
                        <a:pt x="213" y="226"/>
                      </a:lnTo>
                      <a:lnTo>
                        <a:pt x="179" y="251"/>
                      </a:lnTo>
                      <a:lnTo>
                        <a:pt x="143" y="279"/>
                      </a:lnTo>
                      <a:lnTo>
                        <a:pt x="103" y="302"/>
                      </a:lnTo>
                      <a:lnTo>
                        <a:pt x="18" y="315"/>
                      </a:lnTo>
                      <a:lnTo>
                        <a:pt x="0" y="308"/>
                      </a:lnTo>
                      <a:lnTo>
                        <a:pt x="8" y="291"/>
                      </a:lnTo>
                      <a:lnTo>
                        <a:pt x="42" y="264"/>
                      </a:lnTo>
                      <a:lnTo>
                        <a:pt x="57" y="253"/>
                      </a:lnTo>
                      <a:lnTo>
                        <a:pt x="78" y="241"/>
                      </a:lnTo>
                      <a:lnTo>
                        <a:pt x="139" y="199"/>
                      </a:lnTo>
                      <a:lnTo>
                        <a:pt x="171" y="177"/>
                      </a:lnTo>
                      <a:lnTo>
                        <a:pt x="204" y="156"/>
                      </a:lnTo>
                      <a:lnTo>
                        <a:pt x="232" y="137"/>
                      </a:lnTo>
                      <a:lnTo>
                        <a:pt x="261" y="118"/>
                      </a:lnTo>
                      <a:lnTo>
                        <a:pt x="348" y="7"/>
                      </a:lnTo>
                      <a:lnTo>
                        <a:pt x="367" y="0"/>
                      </a:lnTo>
                      <a:lnTo>
                        <a:pt x="375" y="19"/>
                      </a:lnTo>
                      <a:lnTo>
                        <a:pt x="37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812320" y="4761720"/>
                  <a:ext cx="50400" cy="39240"/>
                </a:xfrm>
                <a:custGeom>
                  <a:avLst/>
                  <a:gdLst/>
                  <a:ahLst/>
                  <a:rect l="l" t="t" r="r" b="b"/>
                  <a:pathLst>
                    <a:path w="185" h="198">
                      <a:moveTo>
                        <a:pt x="185" y="19"/>
                      </a:moveTo>
                      <a:lnTo>
                        <a:pt x="161" y="68"/>
                      </a:lnTo>
                      <a:lnTo>
                        <a:pt x="109" y="102"/>
                      </a:lnTo>
                      <a:lnTo>
                        <a:pt x="69" y="114"/>
                      </a:lnTo>
                      <a:lnTo>
                        <a:pt x="49" y="126"/>
                      </a:lnTo>
                      <a:lnTo>
                        <a:pt x="50" y="161"/>
                      </a:lnTo>
                      <a:lnTo>
                        <a:pt x="45" y="198"/>
                      </a:lnTo>
                      <a:lnTo>
                        <a:pt x="2" y="140"/>
                      </a:lnTo>
                      <a:lnTo>
                        <a:pt x="0" y="120"/>
                      </a:lnTo>
                      <a:lnTo>
                        <a:pt x="8" y="99"/>
                      </a:lnTo>
                      <a:lnTo>
                        <a:pt x="29" y="86"/>
                      </a:lnTo>
                      <a:lnTo>
                        <a:pt x="55" y="84"/>
                      </a:lnTo>
                      <a:lnTo>
                        <a:pt x="107" y="73"/>
                      </a:lnTo>
                      <a:lnTo>
                        <a:pt x="159" y="8"/>
                      </a:lnTo>
                      <a:lnTo>
                        <a:pt x="178" y="0"/>
                      </a:lnTo>
                      <a:lnTo>
                        <a:pt x="185" y="19"/>
                      </a:lnTo>
                      <a:lnTo>
                        <a:pt x="18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810880" y="4791960"/>
                  <a:ext cx="12240" cy="5040"/>
                </a:xfrm>
                <a:custGeom>
                  <a:avLst/>
                  <a:gdLst/>
                  <a:ahLst/>
                  <a:rect l="l" t="t" r="r" b="b"/>
                  <a:pathLst>
                    <a:path w="94" h="50">
                      <a:moveTo>
                        <a:pt x="21" y="0"/>
                      </a:moveTo>
                      <a:lnTo>
                        <a:pt x="46" y="8"/>
                      </a:lnTo>
                      <a:lnTo>
                        <a:pt x="80" y="15"/>
                      </a:lnTo>
                      <a:lnTo>
                        <a:pt x="94" y="30"/>
                      </a:lnTo>
                      <a:lnTo>
                        <a:pt x="80" y="44"/>
                      </a:lnTo>
                      <a:lnTo>
                        <a:pt x="42" y="50"/>
                      </a:lnTo>
                      <a:lnTo>
                        <a:pt x="4" y="23"/>
                      </a:lnTo>
                      <a:lnTo>
                        <a:pt x="0" y="2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2" name=""/>
              <p:cNvSpPr/>
              <p:nvPr/>
            </p:nvSpPr>
            <p:spPr>
              <a:xfrm>
                <a:off x="2919240" y="4670280"/>
                <a:ext cx="45036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Search Engines: keyword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53" name=""/>
              <p:cNvCxnSpPr/>
              <p:nvPr/>
            </p:nvCxnSpPr>
            <p:spPr>
              <a:xfrm flipV="1">
                <a:off x="2964240" y="4488480"/>
                <a:ext cx="160920" cy="56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354" name=""/>
              <p:cNvSpPr/>
              <p:nvPr/>
            </p:nvSpPr>
            <p:spPr>
              <a:xfrm>
                <a:off x="3605400" y="4612680"/>
                <a:ext cx="11340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5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4073400" y="4744080"/>
                <a:ext cx="265320" cy="120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6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4494240" y="4711680"/>
                <a:ext cx="263520" cy="12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"/>
              <p:cNvSpPr/>
              <p:nvPr/>
            </p:nvSpPr>
            <p:spPr>
              <a:xfrm flipV="1">
                <a:off x="3949560" y="4799520"/>
                <a:ext cx="104400" cy="8280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328640" y="4799520"/>
                <a:ext cx="43560" cy="6840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885120" y="4618080"/>
                <a:ext cx="177228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980880" y="4443480"/>
                <a:ext cx="93744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ontent Refreshes on Learning Center: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Flash, OnDemand, Online Assessmen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4384440" y="4785480"/>
                <a:ext cx="104400" cy="8280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785840" y="4781520"/>
                <a:ext cx="335160" cy="1094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63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3200400" y="4790520"/>
                <a:ext cx="263520" cy="11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>
                <a:off x="3350520" y="4443480"/>
                <a:ext cx="113832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Learning Center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65" name=""/>
              <p:cNvCxnSpPr>
                <a:endCxn id="363" idx="1"/>
              </p:cNvCxnSpPr>
              <p:nvPr/>
            </p:nvCxnSpPr>
            <p:spPr>
              <a:xfrm flipV="1">
                <a:off x="3020040" y="4849920"/>
                <a:ext cx="180360" cy="207360"/>
              </a:xfrm>
              <a:prstGeom prst="bentConnector3">
                <a:avLst>
                  <a:gd name="adj1" fmla="val 6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366" name=""/>
              <p:cNvCxnSpPr>
                <a:endCxn id="341" idx="0"/>
              </p:cNvCxnSpPr>
              <p:nvPr/>
            </p:nvCxnSpPr>
            <p:spPr>
              <a:xfrm>
                <a:off x="3493800" y="4862520"/>
                <a:ext cx="232560" cy="93960"/>
              </a:xfrm>
              <a:prstGeom prst="bentConnector4">
                <a:avLst>
                  <a:gd name="adj1" fmla="val 39069"/>
                  <a:gd name="adj2" fmla="val 95384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367" name=""/>
              <p:cNvSpPr/>
              <p:nvPr/>
            </p:nvSpPr>
            <p:spPr>
              <a:xfrm>
                <a:off x="5554080" y="5190120"/>
                <a:ext cx="549720" cy="22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18 September</a:t>
                </a:r>
                <a:br>
                  <a:rPr sz="400"/>
                </a:b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Platform Event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68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2774160" y="5240520"/>
                <a:ext cx="26532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9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5666040" y="5325120"/>
                <a:ext cx="352440" cy="210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0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3310200" y="5308560"/>
                <a:ext cx="396360" cy="131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1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3629880" y="5616360"/>
                <a:ext cx="352800" cy="2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2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2293920" y="5359320"/>
                <a:ext cx="262080" cy="12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3" name=""/>
              <p:cNvSpPr/>
              <p:nvPr/>
            </p:nvSpPr>
            <p:spPr>
              <a:xfrm>
                <a:off x="2870280" y="5771160"/>
                <a:ext cx="132480" cy="14904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42840" bIns="42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World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las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74" name=""/>
              <p:cNvCxnSpPr>
                <a:stCxn id="372" idx="3"/>
                <a:endCxn id="373" idx="2"/>
              </p:cNvCxnSpPr>
              <p:nvPr/>
            </p:nvCxnSpPr>
            <p:spPr>
              <a:xfrm>
                <a:off x="2555640" y="5420520"/>
                <a:ext cx="315000" cy="426960"/>
              </a:xfrm>
              <a:prstGeom prst="bentConnector3">
                <a:avLst>
                  <a:gd name="adj1" fmla="val 49771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pic>
            <p:nvPicPr>
              <p:cNvPr id="375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3222720" y="5697360"/>
                <a:ext cx="263520" cy="12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6" name="" descr=""/>
              <p:cNvPicPr/>
              <p:nvPr/>
            </p:nvPicPr>
            <p:blipFill>
              <a:blip r:embed="rId51"/>
              <a:stretch/>
            </p:blipFill>
            <p:spPr>
              <a:xfrm>
                <a:off x="3266640" y="5807160"/>
                <a:ext cx="219600" cy="15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7" name="" descr=""/>
              <p:cNvPicPr/>
              <p:nvPr/>
            </p:nvPicPr>
            <p:blipFill>
              <a:blip r:embed="rId52"/>
              <a:stretch/>
            </p:blipFill>
            <p:spPr>
              <a:xfrm>
                <a:off x="4207680" y="5613120"/>
                <a:ext cx="352800" cy="25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8" name="" descr=""/>
              <p:cNvPicPr/>
              <p:nvPr/>
            </p:nvPicPr>
            <p:blipFill>
              <a:blip r:embed="rId53"/>
              <a:stretch/>
            </p:blipFill>
            <p:spPr>
              <a:xfrm>
                <a:off x="5039280" y="5613120"/>
                <a:ext cx="350640" cy="25164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379" name=""/>
              <p:cNvCxnSpPr>
                <a:stCxn id="373" idx="4"/>
                <a:endCxn id="375" idx="1"/>
              </p:cNvCxnSpPr>
              <p:nvPr/>
            </p:nvCxnSpPr>
            <p:spPr>
              <a:xfrm flipV="1">
                <a:off x="3003120" y="5758200"/>
                <a:ext cx="220320" cy="88560"/>
              </a:xfrm>
              <a:prstGeom prst="bentConnector3">
                <a:avLst>
                  <a:gd name="adj1" fmla="val 49918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380" name=""/>
              <p:cNvCxnSpPr>
                <a:stCxn id="373" idx="4"/>
                <a:endCxn id="376" idx="1"/>
              </p:cNvCxnSpPr>
              <p:nvPr/>
            </p:nvCxnSpPr>
            <p:spPr>
              <a:xfrm>
                <a:off x="3003120" y="5846400"/>
                <a:ext cx="264240" cy="39960"/>
              </a:xfrm>
              <a:prstGeom prst="bentConnector3">
                <a:avLst>
                  <a:gd name="adj1" fmla="val 49795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381" name=""/>
              <p:cNvCxnSpPr/>
              <p:nvPr/>
            </p:nvCxnSpPr>
            <p:spPr>
              <a:xfrm flipV="1">
                <a:off x="3414960" y="5452200"/>
                <a:ext cx="159840" cy="128160"/>
              </a:xfrm>
              <a:prstGeom prst="bentConnector3">
                <a:avLst>
                  <a:gd name="adj1" fmla="val 49887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382" name=""/>
              <p:cNvSpPr/>
              <p:nvPr/>
            </p:nvSpPr>
            <p:spPr>
              <a:xfrm>
                <a:off x="3809880" y="5479560"/>
                <a:ext cx="0" cy="14220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706120" y="5622120"/>
                <a:ext cx="405000" cy="34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urpose: build suspect 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753720" y="5332320"/>
                <a:ext cx="131040" cy="14724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Opt-In</a:t>
                </a:r>
                <a:br>
                  <a:rPr sz="400"/>
                </a:b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076200" y="5378760"/>
                <a:ext cx="21996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783600" y="5904360"/>
                <a:ext cx="1677960" cy="62640"/>
              </a:xfrm>
              <a:prstGeom prst="rect">
                <a:avLst/>
              </a:prstGeom>
              <a:solidFill>
                <a:srgbClr val="ffd6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11880" bIns="11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event series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, featuring Lilly &amp; industry exper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7" name=""/>
              <p:cNvCxnSpPr>
                <a:endCxn id="369" idx="2"/>
              </p:cNvCxnSpPr>
              <p:nvPr/>
            </p:nvCxnSpPr>
            <p:spPr>
              <a:xfrm flipV="1">
                <a:off x="5632560" y="5534640"/>
                <a:ext cx="209880" cy="194760"/>
              </a:xfrm>
              <a:prstGeom prst="bentConnector2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388" name=""/>
              <p:cNvSpPr/>
              <p:nvPr/>
            </p:nvSpPr>
            <p:spPr>
              <a:xfrm>
                <a:off x="4083840" y="5778360"/>
                <a:ext cx="13968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516120" y="5718960"/>
                <a:ext cx="21996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0" name=""/>
              <p:cNvGrpSpPr/>
              <p:nvPr/>
            </p:nvGrpSpPr>
            <p:grpSpPr>
              <a:xfrm>
                <a:off x="2823120" y="5452560"/>
                <a:ext cx="153000" cy="111240"/>
                <a:chOff x="2823120" y="5452560"/>
                <a:chExt cx="153000" cy="11124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2829600" y="5463360"/>
                  <a:ext cx="142920" cy="100440"/>
                </a:xfrm>
                <a:custGeom>
                  <a:avLst/>
                  <a:gdLst/>
                  <a:ahLst/>
                  <a:rect l="l" t="t" r="r" b="b"/>
                  <a:pathLst>
                    <a:path w="531" h="503">
                      <a:moveTo>
                        <a:pt x="0" y="451"/>
                      </a:moveTo>
                      <a:lnTo>
                        <a:pt x="186" y="313"/>
                      </a:lnTo>
                      <a:lnTo>
                        <a:pt x="167" y="277"/>
                      </a:lnTo>
                      <a:lnTo>
                        <a:pt x="172" y="241"/>
                      </a:lnTo>
                      <a:lnTo>
                        <a:pt x="207" y="289"/>
                      </a:lnTo>
                      <a:lnTo>
                        <a:pt x="205" y="239"/>
                      </a:lnTo>
                      <a:lnTo>
                        <a:pt x="235" y="153"/>
                      </a:lnTo>
                      <a:lnTo>
                        <a:pt x="273" y="90"/>
                      </a:lnTo>
                      <a:lnTo>
                        <a:pt x="345" y="27"/>
                      </a:lnTo>
                      <a:lnTo>
                        <a:pt x="412" y="0"/>
                      </a:lnTo>
                      <a:lnTo>
                        <a:pt x="474" y="0"/>
                      </a:lnTo>
                      <a:lnTo>
                        <a:pt x="515" y="19"/>
                      </a:lnTo>
                      <a:lnTo>
                        <a:pt x="531" y="62"/>
                      </a:lnTo>
                      <a:lnTo>
                        <a:pt x="531" y="148"/>
                      </a:lnTo>
                      <a:lnTo>
                        <a:pt x="493" y="234"/>
                      </a:lnTo>
                      <a:lnTo>
                        <a:pt x="445" y="281"/>
                      </a:lnTo>
                      <a:lnTo>
                        <a:pt x="387" y="339"/>
                      </a:lnTo>
                      <a:lnTo>
                        <a:pt x="316" y="339"/>
                      </a:lnTo>
                      <a:lnTo>
                        <a:pt x="259" y="343"/>
                      </a:lnTo>
                      <a:lnTo>
                        <a:pt x="312" y="318"/>
                      </a:lnTo>
                      <a:lnTo>
                        <a:pt x="388" y="275"/>
                      </a:lnTo>
                      <a:lnTo>
                        <a:pt x="455" y="222"/>
                      </a:lnTo>
                      <a:lnTo>
                        <a:pt x="490" y="153"/>
                      </a:lnTo>
                      <a:lnTo>
                        <a:pt x="500" y="103"/>
                      </a:lnTo>
                      <a:lnTo>
                        <a:pt x="496" y="57"/>
                      </a:lnTo>
                      <a:lnTo>
                        <a:pt x="426" y="29"/>
                      </a:lnTo>
                      <a:lnTo>
                        <a:pt x="376" y="65"/>
                      </a:lnTo>
                      <a:lnTo>
                        <a:pt x="288" y="119"/>
                      </a:lnTo>
                      <a:lnTo>
                        <a:pt x="259" y="201"/>
                      </a:lnTo>
                      <a:lnTo>
                        <a:pt x="243" y="265"/>
                      </a:lnTo>
                      <a:lnTo>
                        <a:pt x="235" y="308"/>
                      </a:lnTo>
                      <a:lnTo>
                        <a:pt x="202" y="324"/>
                      </a:lnTo>
                      <a:lnTo>
                        <a:pt x="205" y="353"/>
                      </a:lnTo>
                      <a:lnTo>
                        <a:pt x="36" y="503"/>
                      </a:lnTo>
                      <a:lnTo>
                        <a:pt x="0" y="479"/>
                      </a:lnTo>
                      <a:lnTo>
                        <a:pt x="12" y="471"/>
                      </a:lnTo>
                      <a:lnTo>
                        <a:pt x="0" y="451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906280" y="5470200"/>
                  <a:ext cx="48960" cy="46800"/>
                </a:xfrm>
                <a:custGeom>
                  <a:avLst/>
                  <a:gdLst/>
                  <a:ahLst/>
                  <a:rect l="l" t="t" r="r" b="b"/>
                  <a:pathLst>
                    <a:path w="363" h="473">
                      <a:moveTo>
                        <a:pt x="186" y="53"/>
                      </a:moveTo>
                      <a:lnTo>
                        <a:pt x="215" y="104"/>
                      </a:lnTo>
                      <a:lnTo>
                        <a:pt x="205" y="196"/>
                      </a:lnTo>
                      <a:lnTo>
                        <a:pt x="154" y="287"/>
                      </a:lnTo>
                      <a:lnTo>
                        <a:pt x="0" y="458"/>
                      </a:lnTo>
                      <a:lnTo>
                        <a:pt x="95" y="473"/>
                      </a:lnTo>
                      <a:lnTo>
                        <a:pt x="262" y="329"/>
                      </a:lnTo>
                      <a:lnTo>
                        <a:pt x="338" y="201"/>
                      </a:lnTo>
                      <a:lnTo>
                        <a:pt x="363" y="95"/>
                      </a:lnTo>
                      <a:lnTo>
                        <a:pt x="344" y="44"/>
                      </a:lnTo>
                      <a:lnTo>
                        <a:pt x="297" y="0"/>
                      </a:lnTo>
                      <a:lnTo>
                        <a:pt x="230" y="9"/>
                      </a:lnTo>
                      <a:lnTo>
                        <a:pt x="186" y="53"/>
                      </a:lnTo>
                      <a:lnTo>
                        <a:pt x="186" y="53"/>
                      </a:lnTo>
                      <a:close/>
                    </a:path>
                  </a:pathLst>
                </a:custGeom>
                <a:solidFill>
                  <a:srgbClr val="cc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878560" y="5518800"/>
                  <a:ext cx="50400" cy="14400"/>
                </a:xfrm>
                <a:custGeom>
                  <a:avLst/>
                  <a:gdLst/>
                  <a:ahLst/>
                  <a:rect l="l" t="t" r="r" b="b"/>
                  <a:pathLst>
                    <a:path w="376" h="143">
                      <a:moveTo>
                        <a:pt x="89" y="0"/>
                      </a:moveTo>
                      <a:lnTo>
                        <a:pt x="108" y="48"/>
                      </a:lnTo>
                      <a:lnTo>
                        <a:pt x="184" y="86"/>
                      </a:lnTo>
                      <a:lnTo>
                        <a:pt x="376" y="67"/>
                      </a:lnTo>
                      <a:lnTo>
                        <a:pt x="270" y="109"/>
                      </a:lnTo>
                      <a:lnTo>
                        <a:pt x="99" y="128"/>
                      </a:lnTo>
                      <a:lnTo>
                        <a:pt x="0" y="143"/>
                      </a:lnTo>
                      <a:lnTo>
                        <a:pt x="9" y="57"/>
                      </a:lnTo>
                      <a:lnTo>
                        <a:pt x="89" y="0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894040" y="5466600"/>
                  <a:ext cx="71280" cy="51840"/>
                </a:xfrm>
                <a:custGeom>
                  <a:avLst/>
                  <a:gdLst/>
                  <a:ahLst/>
                  <a:rect l="l" t="t" r="r" b="b"/>
                  <a:pathLst>
                    <a:path w="534" h="518">
                      <a:moveTo>
                        <a:pt x="0" y="503"/>
                      </a:moveTo>
                      <a:lnTo>
                        <a:pt x="15" y="397"/>
                      </a:lnTo>
                      <a:lnTo>
                        <a:pt x="38" y="306"/>
                      </a:lnTo>
                      <a:lnTo>
                        <a:pt x="55" y="262"/>
                      </a:lnTo>
                      <a:lnTo>
                        <a:pt x="76" y="220"/>
                      </a:lnTo>
                      <a:lnTo>
                        <a:pt x="102" y="178"/>
                      </a:lnTo>
                      <a:lnTo>
                        <a:pt x="137" y="135"/>
                      </a:lnTo>
                      <a:lnTo>
                        <a:pt x="159" y="106"/>
                      </a:lnTo>
                      <a:lnTo>
                        <a:pt x="184" y="81"/>
                      </a:lnTo>
                      <a:lnTo>
                        <a:pt x="213" y="60"/>
                      </a:lnTo>
                      <a:lnTo>
                        <a:pt x="245" y="39"/>
                      </a:lnTo>
                      <a:lnTo>
                        <a:pt x="294" y="15"/>
                      </a:lnTo>
                      <a:lnTo>
                        <a:pt x="340" y="0"/>
                      </a:lnTo>
                      <a:lnTo>
                        <a:pt x="441" y="0"/>
                      </a:lnTo>
                      <a:lnTo>
                        <a:pt x="484" y="17"/>
                      </a:lnTo>
                      <a:lnTo>
                        <a:pt x="519" y="49"/>
                      </a:lnTo>
                      <a:lnTo>
                        <a:pt x="532" y="78"/>
                      </a:lnTo>
                      <a:lnTo>
                        <a:pt x="534" y="108"/>
                      </a:lnTo>
                      <a:lnTo>
                        <a:pt x="521" y="180"/>
                      </a:lnTo>
                      <a:lnTo>
                        <a:pt x="507" y="193"/>
                      </a:lnTo>
                      <a:lnTo>
                        <a:pt x="494" y="178"/>
                      </a:lnTo>
                      <a:lnTo>
                        <a:pt x="498" y="68"/>
                      </a:lnTo>
                      <a:lnTo>
                        <a:pt x="469" y="49"/>
                      </a:lnTo>
                      <a:lnTo>
                        <a:pt x="433" y="41"/>
                      </a:lnTo>
                      <a:lnTo>
                        <a:pt x="351" y="51"/>
                      </a:lnTo>
                      <a:lnTo>
                        <a:pt x="315" y="70"/>
                      </a:lnTo>
                      <a:lnTo>
                        <a:pt x="275" y="93"/>
                      </a:lnTo>
                      <a:lnTo>
                        <a:pt x="186" y="171"/>
                      </a:lnTo>
                      <a:lnTo>
                        <a:pt x="154" y="211"/>
                      </a:lnTo>
                      <a:lnTo>
                        <a:pt x="125" y="249"/>
                      </a:lnTo>
                      <a:lnTo>
                        <a:pt x="80" y="325"/>
                      </a:lnTo>
                      <a:lnTo>
                        <a:pt x="47" y="408"/>
                      </a:lnTo>
                      <a:lnTo>
                        <a:pt x="28" y="505"/>
                      </a:lnTo>
                      <a:lnTo>
                        <a:pt x="13" y="518"/>
                      </a:lnTo>
                      <a:lnTo>
                        <a:pt x="0" y="503"/>
                      </a:lnTo>
                      <a:lnTo>
                        <a:pt x="0" y="5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871720" y="5452560"/>
                  <a:ext cx="95760" cy="68040"/>
                </a:xfrm>
                <a:custGeom>
                  <a:avLst/>
                  <a:gdLst/>
                  <a:ahLst/>
                  <a:rect l="l" t="t" r="r" b="b"/>
                  <a:pathLst>
                    <a:path w="705" h="675">
                      <a:moveTo>
                        <a:pt x="0" y="661"/>
                      </a:moveTo>
                      <a:lnTo>
                        <a:pt x="0" y="608"/>
                      </a:lnTo>
                      <a:lnTo>
                        <a:pt x="2" y="561"/>
                      </a:lnTo>
                      <a:lnTo>
                        <a:pt x="17" y="473"/>
                      </a:lnTo>
                      <a:lnTo>
                        <a:pt x="31" y="429"/>
                      </a:lnTo>
                      <a:lnTo>
                        <a:pt x="48" y="388"/>
                      </a:lnTo>
                      <a:lnTo>
                        <a:pt x="69" y="344"/>
                      </a:lnTo>
                      <a:lnTo>
                        <a:pt x="93" y="298"/>
                      </a:lnTo>
                      <a:lnTo>
                        <a:pt x="114" y="266"/>
                      </a:lnTo>
                      <a:lnTo>
                        <a:pt x="135" y="238"/>
                      </a:lnTo>
                      <a:lnTo>
                        <a:pt x="181" y="179"/>
                      </a:lnTo>
                      <a:lnTo>
                        <a:pt x="221" y="137"/>
                      </a:lnTo>
                      <a:lnTo>
                        <a:pt x="257" y="104"/>
                      </a:lnTo>
                      <a:lnTo>
                        <a:pt x="295" y="74"/>
                      </a:lnTo>
                      <a:lnTo>
                        <a:pt x="342" y="47"/>
                      </a:lnTo>
                      <a:lnTo>
                        <a:pt x="394" y="27"/>
                      </a:lnTo>
                      <a:lnTo>
                        <a:pt x="441" y="11"/>
                      </a:lnTo>
                      <a:lnTo>
                        <a:pt x="534" y="0"/>
                      </a:lnTo>
                      <a:lnTo>
                        <a:pt x="620" y="15"/>
                      </a:lnTo>
                      <a:lnTo>
                        <a:pt x="703" y="65"/>
                      </a:lnTo>
                      <a:lnTo>
                        <a:pt x="705" y="84"/>
                      </a:lnTo>
                      <a:lnTo>
                        <a:pt x="684" y="85"/>
                      </a:lnTo>
                      <a:lnTo>
                        <a:pt x="648" y="61"/>
                      </a:lnTo>
                      <a:lnTo>
                        <a:pt x="612" y="47"/>
                      </a:lnTo>
                      <a:lnTo>
                        <a:pt x="536" y="44"/>
                      </a:lnTo>
                      <a:lnTo>
                        <a:pt x="456" y="66"/>
                      </a:lnTo>
                      <a:lnTo>
                        <a:pt x="413" y="84"/>
                      </a:lnTo>
                      <a:lnTo>
                        <a:pt x="367" y="103"/>
                      </a:lnTo>
                      <a:lnTo>
                        <a:pt x="293" y="152"/>
                      </a:lnTo>
                      <a:lnTo>
                        <a:pt x="263" y="180"/>
                      </a:lnTo>
                      <a:lnTo>
                        <a:pt x="226" y="217"/>
                      </a:lnTo>
                      <a:lnTo>
                        <a:pt x="204" y="245"/>
                      </a:lnTo>
                      <a:lnTo>
                        <a:pt x="181" y="270"/>
                      </a:lnTo>
                      <a:lnTo>
                        <a:pt x="139" y="323"/>
                      </a:lnTo>
                      <a:lnTo>
                        <a:pt x="114" y="367"/>
                      </a:lnTo>
                      <a:lnTo>
                        <a:pt x="93" y="407"/>
                      </a:lnTo>
                      <a:lnTo>
                        <a:pt x="55" y="485"/>
                      </a:lnTo>
                      <a:lnTo>
                        <a:pt x="33" y="566"/>
                      </a:lnTo>
                      <a:lnTo>
                        <a:pt x="29" y="659"/>
                      </a:lnTo>
                      <a:lnTo>
                        <a:pt x="15" y="675"/>
                      </a:lnTo>
                      <a:lnTo>
                        <a:pt x="0" y="661"/>
                      </a:lnTo>
                      <a:lnTo>
                        <a:pt x="0" y="6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925720" y="5472360"/>
                  <a:ext cx="50400" cy="57240"/>
                </a:xfrm>
                <a:custGeom>
                  <a:avLst/>
                  <a:gdLst/>
                  <a:ahLst/>
                  <a:rect l="l" t="t" r="r" b="b"/>
                  <a:pathLst>
                    <a:path w="373" h="566">
                      <a:moveTo>
                        <a:pt x="358" y="11"/>
                      </a:moveTo>
                      <a:lnTo>
                        <a:pt x="373" y="138"/>
                      </a:lnTo>
                      <a:lnTo>
                        <a:pt x="369" y="199"/>
                      </a:lnTo>
                      <a:lnTo>
                        <a:pt x="354" y="266"/>
                      </a:lnTo>
                      <a:lnTo>
                        <a:pt x="325" y="327"/>
                      </a:lnTo>
                      <a:lnTo>
                        <a:pt x="310" y="361"/>
                      </a:lnTo>
                      <a:lnTo>
                        <a:pt x="295" y="385"/>
                      </a:lnTo>
                      <a:lnTo>
                        <a:pt x="278" y="414"/>
                      </a:lnTo>
                      <a:lnTo>
                        <a:pt x="255" y="441"/>
                      </a:lnTo>
                      <a:lnTo>
                        <a:pt x="230" y="465"/>
                      </a:lnTo>
                      <a:lnTo>
                        <a:pt x="202" y="490"/>
                      </a:lnTo>
                      <a:lnTo>
                        <a:pt x="172" y="511"/>
                      </a:lnTo>
                      <a:lnTo>
                        <a:pt x="141" y="530"/>
                      </a:lnTo>
                      <a:lnTo>
                        <a:pt x="111" y="549"/>
                      </a:lnTo>
                      <a:lnTo>
                        <a:pt x="80" y="566"/>
                      </a:lnTo>
                      <a:lnTo>
                        <a:pt x="0" y="562"/>
                      </a:lnTo>
                      <a:lnTo>
                        <a:pt x="29" y="545"/>
                      </a:lnTo>
                      <a:lnTo>
                        <a:pt x="61" y="522"/>
                      </a:lnTo>
                      <a:lnTo>
                        <a:pt x="96" y="500"/>
                      </a:lnTo>
                      <a:lnTo>
                        <a:pt x="132" y="473"/>
                      </a:lnTo>
                      <a:lnTo>
                        <a:pt x="196" y="416"/>
                      </a:lnTo>
                      <a:lnTo>
                        <a:pt x="238" y="359"/>
                      </a:lnTo>
                      <a:lnTo>
                        <a:pt x="268" y="302"/>
                      </a:lnTo>
                      <a:lnTo>
                        <a:pt x="297" y="243"/>
                      </a:lnTo>
                      <a:lnTo>
                        <a:pt x="329" y="129"/>
                      </a:lnTo>
                      <a:lnTo>
                        <a:pt x="335" y="78"/>
                      </a:lnTo>
                      <a:lnTo>
                        <a:pt x="329" y="17"/>
                      </a:lnTo>
                      <a:lnTo>
                        <a:pt x="343" y="0"/>
                      </a:lnTo>
                      <a:lnTo>
                        <a:pt x="358" y="11"/>
                      </a:lnTo>
                      <a:lnTo>
                        <a:pt x="358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902680" y="5491800"/>
                  <a:ext cx="50400" cy="30240"/>
                </a:xfrm>
                <a:custGeom>
                  <a:avLst/>
                  <a:gdLst/>
                  <a:ahLst/>
                  <a:rect l="l" t="t" r="r" b="b"/>
                  <a:pathLst>
                    <a:path w="375" h="315">
                      <a:moveTo>
                        <a:pt x="375" y="19"/>
                      </a:moveTo>
                      <a:lnTo>
                        <a:pt x="356" y="57"/>
                      </a:lnTo>
                      <a:lnTo>
                        <a:pt x="337" y="91"/>
                      </a:lnTo>
                      <a:lnTo>
                        <a:pt x="318" y="122"/>
                      </a:lnTo>
                      <a:lnTo>
                        <a:pt x="295" y="150"/>
                      </a:lnTo>
                      <a:lnTo>
                        <a:pt x="272" y="177"/>
                      </a:lnTo>
                      <a:lnTo>
                        <a:pt x="244" y="201"/>
                      </a:lnTo>
                      <a:lnTo>
                        <a:pt x="213" y="226"/>
                      </a:lnTo>
                      <a:lnTo>
                        <a:pt x="179" y="251"/>
                      </a:lnTo>
                      <a:lnTo>
                        <a:pt x="143" y="279"/>
                      </a:lnTo>
                      <a:lnTo>
                        <a:pt x="103" y="302"/>
                      </a:lnTo>
                      <a:lnTo>
                        <a:pt x="18" y="315"/>
                      </a:lnTo>
                      <a:lnTo>
                        <a:pt x="0" y="308"/>
                      </a:lnTo>
                      <a:lnTo>
                        <a:pt x="8" y="291"/>
                      </a:lnTo>
                      <a:lnTo>
                        <a:pt x="42" y="264"/>
                      </a:lnTo>
                      <a:lnTo>
                        <a:pt x="57" y="253"/>
                      </a:lnTo>
                      <a:lnTo>
                        <a:pt x="78" y="241"/>
                      </a:lnTo>
                      <a:lnTo>
                        <a:pt x="139" y="199"/>
                      </a:lnTo>
                      <a:lnTo>
                        <a:pt x="171" y="177"/>
                      </a:lnTo>
                      <a:lnTo>
                        <a:pt x="204" y="156"/>
                      </a:lnTo>
                      <a:lnTo>
                        <a:pt x="232" y="137"/>
                      </a:lnTo>
                      <a:lnTo>
                        <a:pt x="261" y="118"/>
                      </a:lnTo>
                      <a:lnTo>
                        <a:pt x="348" y="7"/>
                      </a:lnTo>
                      <a:lnTo>
                        <a:pt x="367" y="0"/>
                      </a:lnTo>
                      <a:lnTo>
                        <a:pt x="375" y="19"/>
                      </a:lnTo>
                      <a:lnTo>
                        <a:pt x="37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824560" y="5524560"/>
                  <a:ext cx="50400" cy="39240"/>
                </a:xfrm>
                <a:custGeom>
                  <a:avLst/>
                  <a:gdLst/>
                  <a:ahLst/>
                  <a:rect l="l" t="t" r="r" b="b"/>
                  <a:pathLst>
                    <a:path w="185" h="198">
                      <a:moveTo>
                        <a:pt x="185" y="19"/>
                      </a:moveTo>
                      <a:lnTo>
                        <a:pt x="161" y="68"/>
                      </a:lnTo>
                      <a:lnTo>
                        <a:pt x="109" y="102"/>
                      </a:lnTo>
                      <a:lnTo>
                        <a:pt x="69" y="114"/>
                      </a:lnTo>
                      <a:lnTo>
                        <a:pt x="49" y="126"/>
                      </a:lnTo>
                      <a:lnTo>
                        <a:pt x="50" y="161"/>
                      </a:lnTo>
                      <a:lnTo>
                        <a:pt x="45" y="198"/>
                      </a:lnTo>
                      <a:lnTo>
                        <a:pt x="2" y="140"/>
                      </a:lnTo>
                      <a:lnTo>
                        <a:pt x="0" y="120"/>
                      </a:lnTo>
                      <a:lnTo>
                        <a:pt x="8" y="99"/>
                      </a:lnTo>
                      <a:lnTo>
                        <a:pt x="29" y="86"/>
                      </a:lnTo>
                      <a:lnTo>
                        <a:pt x="55" y="84"/>
                      </a:lnTo>
                      <a:lnTo>
                        <a:pt x="107" y="73"/>
                      </a:lnTo>
                      <a:lnTo>
                        <a:pt x="159" y="8"/>
                      </a:lnTo>
                      <a:lnTo>
                        <a:pt x="178" y="0"/>
                      </a:lnTo>
                      <a:lnTo>
                        <a:pt x="185" y="19"/>
                      </a:lnTo>
                      <a:lnTo>
                        <a:pt x="18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823120" y="5554440"/>
                  <a:ext cx="11520" cy="5400"/>
                </a:xfrm>
                <a:custGeom>
                  <a:avLst/>
                  <a:gdLst/>
                  <a:ahLst/>
                  <a:rect l="l" t="t" r="r" b="b"/>
                  <a:pathLst>
                    <a:path w="94" h="50">
                      <a:moveTo>
                        <a:pt x="21" y="0"/>
                      </a:moveTo>
                      <a:lnTo>
                        <a:pt x="46" y="8"/>
                      </a:lnTo>
                      <a:lnTo>
                        <a:pt x="80" y="15"/>
                      </a:lnTo>
                      <a:lnTo>
                        <a:pt x="94" y="30"/>
                      </a:lnTo>
                      <a:lnTo>
                        <a:pt x="80" y="44"/>
                      </a:lnTo>
                      <a:lnTo>
                        <a:pt x="42" y="50"/>
                      </a:lnTo>
                      <a:lnTo>
                        <a:pt x="4" y="23"/>
                      </a:lnTo>
                      <a:lnTo>
                        <a:pt x="0" y="2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>
                <a:off x="2976840" y="5436360"/>
                <a:ext cx="44496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Search Engines: keyword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01" name=""/>
              <p:cNvCxnSpPr/>
              <p:nvPr/>
            </p:nvCxnSpPr>
            <p:spPr>
              <a:xfrm flipV="1">
                <a:off x="2975040" y="5160600"/>
                <a:ext cx="161280" cy="54360"/>
              </a:xfrm>
              <a:prstGeom prst="bentConnector3">
                <a:avLst>
                  <a:gd name="adj1" fmla="val 49888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402" name=""/>
              <p:cNvSpPr/>
              <p:nvPr/>
            </p:nvSpPr>
            <p:spPr>
              <a:xfrm>
                <a:off x="3616200" y="5375520"/>
                <a:ext cx="11520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03" name="" descr=""/>
              <p:cNvPicPr/>
              <p:nvPr/>
            </p:nvPicPr>
            <p:blipFill>
              <a:blip r:embed="rId54"/>
              <a:stretch/>
            </p:blipFill>
            <p:spPr>
              <a:xfrm>
                <a:off x="4069800" y="5512320"/>
                <a:ext cx="263520" cy="120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4" name="" descr=""/>
              <p:cNvPicPr/>
              <p:nvPr/>
            </p:nvPicPr>
            <p:blipFill>
              <a:blip r:embed="rId55"/>
              <a:stretch/>
            </p:blipFill>
            <p:spPr>
              <a:xfrm>
                <a:off x="4504680" y="5472720"/>
                <a:ext cx="265320" cy="12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flipV="1">
                <a:off x="3959640" y="5560920"/>
                <a:ext cx="104760" cy="842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340880" y="5560920"/>
                <a:ext cx="43560" cy="698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895200" y="5378760"/>
                <a:ext cx="177228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991320" y="5206320"/>
                <a:ext cx="932040" cy="34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ontent Refreshes on Learning Center: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Flash, OnDemand, Online Assessmen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4394520" y="5548320"/>
                <a:ext cx="104760" cy="8280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796640" y="5542920"/>
                <a:ext cx="334800" cy="1094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1" name="" descr=""/>
              <p:cNvPicPr/>
              <p:nvPr/>
            </p:nvPicPr>
            <p:blipFill>
              <a:blip r:embed="rId56"/>
              <a:stretch/>
            </p:blipFill>
            <p:spPr>
              <a:xfrm>
                <a:off x="3212640" y="5553360"/>
                <a:ext cx="263520" cy="11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2" name=""/>
              <p:cNvSpPr/>
              <p:nvPr/>
            </p:nvSpPr>
            <p:spPr>
              <a:xfrm>
                <a:off x="3360960" y="5206320"/>
                <a:ext cx="113976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Learning Center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13" name=""/>
              <p:cNvCxnSpPr>
                <a:endCxn id="411" idx="1"/>
              </p:cNvCxnSpPr>
              <p:nvPr/>
            </p:nvCxnSpPr>
            <p:spPr>
              <a:xfrm flipV="1">
                <a:off x="3032280" y="5610600"/>
                <a:ext cx="180360" cy="207360"/>
              </a:xfrm>
              <a:prstGeom prst="bentConnector3">
                <a:avLst>
                  <a:gd name="adj1" fmla="val 6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414" name=""/>
              <p:cNvCxnSpPr>
                <a:endCxn id="389" idx="0"/>
              </p:cNvCxnSpPr>
              <p:nvPr/>
            </p:nvCxnSpPr>
            <p:spPr>
              <a:xfrm>
                <a:off x="3503520" y="5625360"/>
                <a:ext cx="232920" cy="94320"/>
              </a:xfrm>
              <a:prstGeom prst="bentConnector4">
                <a:avLst>
                  <a:gd name="adj1" fmla="val 10061"/>
                  <a:gd name="adj2" fmla="val 95402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pic>
            <p:nvPicPr>
              <p:cNvPr id="415" name="" descr=""/>
              <p:cNvPicPr/>
              <p:nvPr/>
            </p:nvPicPr>
            <p:blipFill>
              <a:blip r:embed="rId57"/>
              <a:stretch/>
            </p:blipFill>
            <p:spPr>
              <a:xfrm>
                <a:off x="2463480" y="5546160"/>
                <a:ext cx="219960" cy="15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"/>
              <p:cNvSpPr/>
              <p:nvPr/>
            </p:nvSpPr>
            <p:spPr>
              <a:xfrm>
                <a:off x="2232720" y="5258520"/>
                <a:ext cx="448560" cy="22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Targeted Tele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405880" y="5686560"/>
                <a:ext cx="373320" cy="34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OnDemand</a:t>
                </a:r>
                <a:br>
                  <a:rPr sz="400"/>
                </a:b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resentation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8" name="" descr=""/>
              <p:cNvPicPr/>
              <p:nvPr/>
            </p:nvPicPr>
            <p:blipFill>
              <a:blip r:embed="rId58"/>
              <a:stretch/>
            </p:blipFill>
            <p:spPr>
              <a:xfrm>
                <a:off x="2498040" y="4594680"/>
                <a:ext cx="309240" cy="15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9" name="" descr=""/>
              <p:cNvPicPr/>
              <p:nvPr/>
            </p:nvPicPr>
            <p:blipFill>
              <a:blip r:embed="rId59"/>
              <a:stretch/>
            </p:blipFill>
            <p:spPr>
              <a:xfrm>
                <a:off x="4106880" y="5352120"/>
                <a:ext cx="219600" cy="15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0" name="" descr=""/>
              <p:cNvPicPr/>
              <p:nvPr/>
            </p:nvPicPr>
            <p:blipFill>
              <a:blip r:embed="rId60"/>
              <a:stretch/>
            </p:blipFill>
            <p:spPr>
              <a:xfrm>
                <a:off x="4796640" y="5469120"/>
                <a:ext cx="219600" cy="15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61"/>
              <a:stretch/>
            </p:blipFill>
            <p:spPr>
              <a:xfrm>
                <a:off x="4092480" y="4587480"/>
                <a:ext cx="219960" cy="15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62"/>
              <a:stretch/>
            </p:blipFill>
            <p:spPr>
              <a:xfrm>
                <a:off x="4789440" y="4648680"/>
                <a:ext cx="219960" cy="15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"/>
              <p:cNvSpPr/>
              <p:nvPr/>
            </p:nvSpPr>
            <p:spPr>
              <a:xfrm>
                <a:off x="5030280" y="5303520"/>
                <a:ext cx="43668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ff9900"/>
                    </a:solidFill>
                    <a:latin typeface="Arial Black"/>
                  </a:rPr>
                  <a:t>F2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014800" y="4540680"/>
                <a:ext cx="43632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ff9900"/>
                    </a:solidFill>
                    <a:latin typeface="Arial Black"/>
                  </a:rPr>
                  <a:t>F2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5213520" y="5469120"/>
                <a:ext cx="0" cy="1670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5193000" y="4702680"/>
                <a:ext cx="0" cy="16920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613480" y="4459680"/>
                <a:ext cx="51696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18 September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35680" y="6008760"/>
                <a:ext cx="911520" cy="28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AwarenessDirect Mai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rod X Web Detail #1, #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Web Detail DM  #2 Follow-u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200400" y="6008760"/>
                <a:ext cx="1038960" cy="28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Tele-rep Script for Demand Gen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E-Mail w/ Web Detail Flash Presentation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eer-to-Peer Slide Sets (online version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187160" y="6008760"/>
                <a:ext cx="1044000" cy="28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eer-to-Peer Webinar Slide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eer-to-Peer Meeting DM Follow-u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rod X Detail Piece 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38120" y="6233400"/>
                <a:ext cx="2844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774160" y="6233400"/>
                <a:ext cx="2793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277080" y="6233400"/>
                <a:ext cx="2775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3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717000" y="6233400"/>
                <a:ext cx="2844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4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216680" y="6233400"/>
                <a:ext cx="281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5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30040" y="6233400"/>
                <a:ext cx="281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6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269680" y="6233400"/>
                <a:ext cx="2790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7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762160" y="6233400"/>
                <a:ext cx="281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8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>
                <a:off x="5156280" y="4414680"/>
                <a:ext cx="0" cy="19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3648960" y="4414680"/>
                <a:ext cx="0" cy="19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16200000">
                <a:off x="1872360" y="4718880"/>
                <a:ext cx="4834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0760" bIns="5076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Segment #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16200000">
                <a:off x="1872360" y="5487120"/>
                <a:ext cx="4834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0760" bIns="5076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Segment #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667680" y="4357440"/>
                <a:ext cx="107784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0760" bIns="5076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Build a “Contact Sequencing Matrix”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1459800">
                <a:off x="5479920" y="4282200"/>
                <a:ext cx="506160" cy="162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0760" bIns="50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ILLUSTRATIVE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1859040" y="4341960"/>
              <a:ext cx="4100040" cy="2329560"/>
              <a:chOff x="1859040" y="4341960"/>
              <a:chExt cx="4100040" cy="2329560"/>
            </a:xfrm>
          </p:grpSpPr>
          <p:sp>
            <p:nvSpPr>
              <p:cNvPr id="446" name=""/>
              <p:cNvSpPr/>
              <p:nvPr/>
            </p:nvSpPr>
            <p:spPr>
              <a:xfrm>
                <a:off x="2016000" y="4402440"/>
                <a:ext cx="3934080" cy="1942560"/>
              </a:xfrm>
              <a:prstGeom prst="rect">
                <a:avLst/>
              </a:prstGeom>
              <a:solidFill>
                <a:srgbClr val="dbe3f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0760" bIns="50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016000" y="4558320"/>
                <a:ext cx="3934080" cy="1944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016000" y="6397200"/>
                <a:ext cx="3943080" cy="11160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700720" y="6508800"/>
                <a:ext cx="56880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Month 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700160" y="6508800"/>
                <a:ext cx="57240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Month 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499840" y="6435000"/>
                <a:ext cx="0" cy="7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983680" y="6435000"/>
                <a:ext cx="0" cy="7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908880" y="6435000"/>
                <a:ext cx="0" cy="7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436640" y="6435000"/>
                <a:ext cx="0" cy="7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491440" y="6435000"/>
                <a:ext cx="0" cy="7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4436640" y="4570920"/>
                <a:ext cx="0" cy="19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5491440" y="4570920"/>
                <a:ext cx="0" cy="19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2983680" y="4570920"/>
                <a:ext cx="0" cy="19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2499840" y="4570920"/>
                <a:ext cx="0" cy="19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3908880" y="4570920"/>
                <a:ext cx="0" cy="19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1" name=""/>
              <p:cNvGrpSpPr/>
              <p:nvPr/>
            </p:nvGrpSpPr>
            <p:grpSpPr>
              <a:xfrm>
                <a:off x="2021760" y="5368320"/>
                <a:ext cx="3933720" cy="767520"/>
                <a:chOff x="2021760" y="5368320"/>
                <a:chExt cx="3933720" cy="76752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2021760" y="5368320"/>
                  <a:ext cx="393372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021760" y="6135840"/>
                  <a:ext cx="3933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2205000" y="6091560"/>
                <a:ext cx="434520" cy="15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nten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5" name="" descr=""/>
              <p:cNvPicPr/>
              <p:nvPr/>
            </p:nvPicPr>
            <p:blipFill>
              <a:blip r:embed="rId63"/>
              <a:stretch/>
            </p:blipFill>
            <p:spPr>
              <a:xfrm>
                <a:off x="2586960" y="4634280"/>
                <a:ext cx="26352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6" name="" descr=""/>
              <p:cNvPicPr/>
              <p:nvPr/>
            </p:nvPicPr>
            <p:blipFill>
              <a:blip r:embed="rId64"/>
              <a:stretch/>
            </p:blipFill>
            <p:spPr>
              <a:xfrm>
                <a:off x="5477400" y="4720320"/>
                <a:ext cx="352800" cy="20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7" name="" descr=""/>
              <p:cNvPicPr/>
              <p:nvPr/>
            </p:nvPicPr>
            <p:blipFill>
              <a:blip r:embed="rId65"/>
              <a:stretch/>
            </p:blipFill>
            <p:spPr>
              <a:xfrm>
                <a:off x="3121920" y="4704480"/>
                <a:ext cx="397800" cy="12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8" name="" descr=""/>
              <p:cNvPicPr/>
              <p:nvPr/>
            </p:nvPicPr>
            <p:blipFill>
              <a:blip r:embed="rId66"/>
              <a:stretch/>
            </p:blipFill>
            <p:spPr>
              <a:xfrm>
                <a:off x="3448080" y="5012280"/>
                <a:ext cx="351000" cy="24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9" name="" descr=""/>
              <p:cNvPicPr/>
              <p:nvPr/>
            </p:nvPicPr>
            <p:blipFill>
              <a:blip r:embed="rId67"/>
              <a:stretch/>
            </p:blipFill>
            <p:spPr>
              <a:xfrm>
                <a:off x="2110320" y="4960080"/>
                <a:ext cx="263520" cy="12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0" name=""/>
              <p:cNvSpPr/>
              <p:nvPr/>
            </p:nvSpPr>
            <p:spPr>
              <a:xfrm>
                <a:off x="2061720" y="5071320"/>
                <a:ext cx="455760" cy="34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Touches: 10,000 outbound call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683440" y="5164920"/>
                <a:ext cx="131040" cy="15084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World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las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72" name=""/>
              <p:cNvCxnSpPr>
                <a:stCxn id="469" idx="3"/>
                <a:endCxn id="471" idx="2"/>
              </p:cNvCxnSpPr>
              <p:nvPr/>
            </p:nvCxnSpPr>
            <p:spPr>
              <a:xfrm>
                <a:off x="2373840" y="5022360"/>
                <a:ext cx="309960" cy="218520"/>
              </a:xfrm>
              <a:prstGeom prst="bentConnector3">
                <a:avLst>
                  <a:gd name="adj1" fmla="val 49767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pic>
            <p:nvPicPr>
              <p:cNvPr id="473" name="" descr=""/>
              <p:cNvPicPr/>
              <p:nvPr/>
            </p:nvPicPr>
            <p:blipFill>
              <a:blip r:embed="rId68"/>
              <a:stretch/>
            </p:blipFill>
            <p:spPr>
              <a:xfrm>
                <a:off x="3034080" y="5092920"/>
                <a:ext cx="265320" cy="12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4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3079800" y="5202720"/>
                <a:ext cx="219600" cy="15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5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4019040" y="5008320"/>
                <a:ext cx="352800" cy="24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6" name="" descr=""/>
              <p:cNvPicPr/>
              <p:nvPr/>
            </p:nvPicPr>
            <p:blipFill>
              <a:blip r:embed="rId71"/>
              <a:stretch/>
            </p:blipFill>
            <p:spPr>
              <a:xfrm>
                <a:off x="4850280" y="5008320"/>
                <a:ext cx="351000" cy="24984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477" name=""/>
              <p:cNvCxnSpPr/>
              <p:nvPr/>
            </p:nvCxnSpPr>
            <p:spPr>
              <a:xfrm flipV="1">
                <a:off x="2672280" y="4975920"/>
                <a:ext cx="201240" cy="777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478" name=""/>
              <p:cNvCxnSpPr>
                <a:stCxn id="471" idx="4"/>
                <a:endCxn id="474" idx="1"/>
              </p:cNvCxnSpPr>
              <p:nvPr/>
            </p:nvCxnSpPr>
            <p:spPr>
              <a:xfrm>
                <a:off x="2814120" y="5240520"/>
                <a:ext cx="266040" cy="41760"/>
              </a:xfrm>
              <a:prstGeom prst="bentConnector3">
                <a:avLst>
                  <a:gd name="adj1" fmla="val 49728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479" name=""/>
              <p:cNvCxnSpPr/>
              <p:nvPr/>
            </p:nvCxnSpPr>
            <p:spPr>
              <a:xfrm flipV="1">
                <a:off x="3297600" y="4939560"/>
                <a:ext cx="159480" cy="128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480" name=""/>
              <p:cNvSpPr/>
              <p:nvPr/>
            </p:nvSpPr>
            <p:spPr>
              <a:xfrm>
                <a:off x="3621240" y="4875480"/>
                <a:ext cx="0" cy="17388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521080" y="5029920"/>
                <a:ext cx="35244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urpose: build 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565440" y="4727880"/>
                <a:ext cx="130680" cy="14544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Opt-In</a:t>
                </a:r>
                <a:br>
                  <a:rPr sz="400"/>
                </a:b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887560" y="4774680"/>
                <a:ext cx="21960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596760" y="5298120"/>
                <a:ext cx="1676160" cy="64800"/>
              </a:xfrm>
              <a:prstGeom prst="rect">
                <a:avLst/>
              </a:prstGeom>
              <a:solidFill>
                <a:srgbClr val="ffd6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14040" bIns="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event series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, featuring Lilly &amp; industry exper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85" name=""/>
              <p:cNvCxnSpPr>
                <a:endCxn id="466" idx="2"/>
              </p:cNvCxnSpPr>
              <p:nvPr/>
            </p:nvCxnSpPr>
            <p:spPr>
              <a:xfrm flipV="1">
                <a:off x="5443920" y="4928760"/>
                <a:ext cx="209880" cy="194760"/>
              </a:xfrm>
              <a:prstGeom prst="bentConnector2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486" name=""/>
              <p:cNvSpPr/>
              <p:nvPr/>
            </p:nvSpPr>
            <p:spPr>
              <a:xfrm>
                <a:off x="3799440" y="5172120"/>
                <a:ext cx="23688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327840" y="5112720"/>
                <a:ext cx="21996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8" name=""/>
              <p:cNvGrpSpPr/>
              <p:nvPr/>
            </p:nvGrpSpPr>
            <p:grpSpPr>
              <a:xfrm>
                <a:off x="2634120" y="4846320"/>
                <a:ext cx="153000" cy="110880"/>
                <a:chOff x="2634120" y="4846320"/>
                <a:chExt cx="153000" cy="11088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2640960" y="4857120"/>
                  <a:ext cx="142920" cy="100080"/>
                </a:xfrm>
                <a:custGeom>
                  <a:avLst/>
                  <a:gdLst/>
                  <a:ahLst/>
                  <a:rect l="l" t="t" r="r" b="b"/>
                  <a:pathLst>
                    <a:path w="531" h="503">
                      <a:moveTo>
                        <a:pt x="0" y="451"/>
                      </a:moveTo>
                      <a:lnTo>
                        <a:pt x="186" y="313"/>
                      </a:lnTo>
                      <a:lnTo>
                        <a:pt x="167" y="277"/>
                      </a:lnTo>
                      <a:lnTo>
                        <a:pt x="172" y="241"/>
                      </a:lnTo>
                      <a:lnTo>
                        <a:pt x="207" y="289"/>
                      </a:lnTo>
                      <a:lnTo>
                        <a:pt x="205" y="239"/>
                      </a:lnTo>
                      <a:lnTo>
                        <a:pt x="235" y="153"/>
                      </a:lnTo>
                      <a:lnTo>
                        <a:pt x="273" y="90"/>
                      </a:lnTo>
                      <a:lnTo>
                        <a:pt x="345" y="27"/>
                      </a:lnTo>
                      <a:lnTo>
                        <a:pt x="412" y="0"/>
                      </a:lnTo>
                      <a:lnTo>
                        <a:pt x="474" y="0"/>
                      </a:lnTo>
                      <a:lnTo>
                        <a:pt x="515" y="19"/>
                      </a:lnTo>
                      <a:lnTo>
                        <a:pt x="531" y="62"/>
                      </a:lnTo>
                      <a:lnTo>
                        <a:pt x="531" y="148"/>
                      </a:lnTo>
                      <a:lnTo>
                        <a:pt x="493" y="234"/>
                      </a:lnTo>
                      <a:lnTo>
                        <a:pt x="445" y="281"/>
                      </a:lnTo>
                      <a:lnTo>
                        <a:pt x="387" y="339"/>
                      </a:lnTo>
                      <a:lnTo>
                        <a:pt x="316" y="339"/>
                      </a:lnTo>
                      <a:lnTo>
                        <a:pt x="259" y="343"/>
                      </a:lnTo>
                      <a:lnTo>
                        <a:pt x="312" y="318"/>
                      </a:lnTo>
                      <a:lnTo>
                        <a:pt x="388" y="275"/>
                      </a:lnTo>
                      <a:lnTo>
                        <a:pt x="455" y="222"/>
                      </a:lnTo>
                      <a:lnTo>
                        <a:pt x="490" y="153"/>
                      </a:lnTo>
                      <a:lnTo>
                        <a:pt x="500" y="103"/>
                      </a:lnTo>
                      <a:lnTo>
                        <a:pt x="496" y="57"/>
                      </a:lnTo>
                      <a:lnTo>
                        <a:pt x="426" y="29"/>
                      </a:lnTo>
                      <a:lnTo>
                        <a:pt x="376" y="65"/>
                      </a:lnTo>
                      <a:lnTo>
                        <a:pt x="288" y="119"/>
                      </a:lnTo>
                      <a:lnTo>
                        <a:pt x="259" y="201"/>
                      </a:lnTo>
                      <a:lnTo>
                        <a:pt x="243" y="265"/>
                      </a:lnTo>
                      <a:lnTo>
                        <a:pt x="235" y="308"/>
                      </a:lnTo>
                      <a:lnTo>
                        <a:pt x="202" y="324"/>
                      </a:lnTo>
                      <a:lnTo>
                        <a:pt x="205" y="353"/>
                      </a:lnTo>
                      <a:lnTo>
                        <a:pt x="36" y="503"/>
                      </a:lnTo>
                      <a:lnTo>
                        <a:pt x="0" y="479"/>
                      </a:lnTo>
                      <a:lnTo>
                        <a:pt x="12" y="471"/>
                      </a:lnTo>
                      <a:lnTo>
                        <a:pt x="0" y="451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2717640" y="4863960"/>
                  <a:ext cx="48600" cy="46800"/>
                </a:xfrm>
                <a:custGeom>
                  <a:avLst/>
                  <a:gdLst/>
                  <a:ahLst/>
                  <a:rect l="l" t="t" r="r" b="b"/>
                  <a:pathLst>
                    <a:path w="363" h="473">
                      <a:moveTo>
                        <a:pt x="186" y="53"/>
                      </a:moveTo>
                      <a:lnTo>
                        <a:pt x="215" y="104"/>
                      </a:lnTo>
                      <a:lnTo>
                        <a:pt x="205" y="196"/>
                      </a:lnTo>
                      <a:lnTo>
                        <a:pt x="154" y="287"/>
                      </a:lnTo>
                      <a:lnTo>
                        <a:pt x="0" y="458"/>
                      </a:lnTo>
                      <a:lnTo>
                        <a:pt x="95" y="473"/>
                      </a:lnTo>
                      <a:lnTo>
                        <a:pt x="262" y="329"/>
                      </a:lnTo>
                      <a:lnTo>
                        <a:pt x="338" y="201"/>
                      </a:lnTo>
                      <a:lnTo>
                        <a:pt x="363" y="95"/>
                      </a:lnTo>
                      <a:lnTo>
                        <a:pt x="344" y="44"/>
                      </a:lnTo>
                      <a:lnTo>
                        <a:pt x="297" y="0"/>
                      </a:lnTo>
                      <a:lnTo>
                        <a:pt x="230" y="9"/>
                      </a:lnTo>
                      <a:lnTo>
                        <a:pt x="186" y="53"/>
                      </a:lnTo>
                      <a:lnTo>
                        <a:pt x="186" y="53"/>
                      </a:lnTo>
                      <a:close/>
                    </a:path>
                  </a:pathLst>
                </a:custGeom>
                <a:solidFill>
                  <a:srgbClr val="cc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689560" y="4912560"/>
                  <a:ext cx="50400" cy="14040"/>
                </a:xfrm>
                <a:custGeom>
                  <a:avLst/>
                  <a:gdLst/>
                  <a:ahLst/>
                  <a:rect l="l" t="t" r="r" b="b"/>
                  <a:pathLst>
                    <a:path w="376" h="143">
                      <a:moveTo>
                        <a:pt x="89" y="0"/>
                      </a:moveTo>
                      <a:lnTo>
                        <a:pt x="108" y="48"/>
                      </a:lnTo>
                      <a:lnTo>
                        <a:pt x="184" y="86"/>
                      </a:lnTo>
                      <a:lnTo>
                        <a:pt x="376" y="67"/>
                      </a:lnTo>
                      <a:lnTo>
                        <a:pt x="270" y="109"/>
                      </a:lnTo>
                      <a:lnTo>
                        <a:pt x="99" y="128"/>
                      </a:lnTo>
                      <a:lnTo>
                        <a:pt x="0" y="143"/>
                      </a:lnTo>
                      <a:lnTo>
                        <a:pt x="9" y="57"/>
                      </a:lnTo>
                      <a:lnTo>
                        <a:pt x="89" y="0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2705400" y="4860360"/>
                  <a:ext cx="71280" cy="51840"/>
                </a:xfrm>
                <a:custGeom>
                  <a:avLst/>
                  <a:gdLst/>
                  <a:ahLst/>
                  <a:rect l="l" t="t" r="r" b="b"/>
                  <a:pathLst>
                    <a:path w="534" h="518">
                      <a:moveTo>
                        <a:pt x="0" y="503"/>
                      </a:moveTo>
                      <a:lnTo>
                        <a:pt x="15" y="397"/>
                      </a:lnTo>
                      <a:lnTo>
                        <a:pt x="38" y="306"/>
                      </a:lnTo>
                      <a:lnTo>
                        <a:pt x="55" y="262"/>
                      </a:lnTo>
                      <a:lnTo>
                        <a:pt x="76" y="220"/>
                      </a:lnTo>
                      <a:lnTo>
                        <a:pt x="102" y="178"/>
                      </a:lnTo>
                      <a:lnTo>
                        <a:pt x="137" y="135"/>
                      </a:lnTo>
                      <a:lnTo>
                        <a:pt x="159" y="106"/>
                      </a:lnTo>
                      <a:lnTo>
                        <a:pt x="184" y="81"/>
                      </a:lnTo>
                      <a:lnTo>
                        <a:pt x="213" y="60"/>
                      </a:lnTo>
                      <a:lnTo>
                        <a:pt x="245" y="39"/>
                      </a:lnTo>
                      <a:lnTo>
                        <a:pt x="294" y="15"/>
                      </a:lnTo>
                      <a:lnTo>
                        <a:pt x="340" y="0"/>
                      </a:lnTo>
                      <a:lnTo>
                        <a:pt x="441" y="0"/>
                      </a:lnTo>
                      <a:lnTo>
                        <a:pt x="484" y="17"/>
                      </a:lnTo>
                      <a:lnTo>
                        <a:pt x="519" y="49"/>
                      </a:lnTo>
                      <a:lnTo>
                        <a:pt x="532" y="78"/>
                      </a:lnTo>
                      <a:lnTo>
                        <a:pt x="534" y="108"/>
                      </a:lnTo>
                      <a:lnTo>
                        <a:pt x="521" y="180"/>
                      </a:lnTo>
                      <a:lnTo>
                        <a:pt x="507" y="193"/>
                      </a:lnTo>
                      <a:lnTo>
                        <a:pt x="494" y="178"/>
                      </a:lnTo>
                      <a:lnTo>
                        <a:pt x="498" y="68"/>
                      </a:lnTo>
                      <a:lnTo>
                        <a:pt x="469" y="49"/>
                      </a:lnTo>
                      <a:lnTo>
                        <a:pt x="433" y="41"/>
                      </a:lnTo>
                      <a:lnTo>
                        <a:pt x="351" y="51"/>
                      </a:lnTo>
                      <a:lnTo>
                        <a:pt x="315" y="70"/>
                      </a:lnTo>
                      <a:lnTo>
                        <a:pt x="275" y="93"/>
                      </a:lnTo>
                      <a:lnTo>
                        <a:pt x="186" y="171"/>
                      </a:lnTo>
                      <a:lnTo>
                        <a:pt x="154" y="211"/>
                      </a:lnTo>
                      <a:lnTo>
                        <a:pt x="125" y="249"/>
                      </a:lnTo>
                      <a:lnTo>
                        <a:pt x="80" y="325"/>
                      </a:lnTo>
                      <a:lnTo>
                        <a:pt x="47" y="408"/>
                      </a:lnTo>
                      <a:lnTo>
                        <a:pt x="28" y="505"/>
                      </a:lnTo>
                      <a:lnTo>
                        <a:pt x="13" y="518"/>
                      </a:lnTo>
                      <a:lnTo>
                        <a:pt x="0" y="503"/>
                      </a:lnTo>
                      <a:lnTo>
                        <a:pt x="0" y="5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683080" y="4846320"/>
                  <a:ext cx="95400" cy="68400"/>
                </a:xfrm>
                <a:custGeom>
                  <a:avLst/>
                  <a:gdLst/>
                  <a:ahLst/>
                  <a:rect l="l" t="t" r="r" b="b"/>
                  <a:pathLst>
                    <a:path w="705" h="675">
                      <a:moveTo>
                        <a:pt x="0" y="661"/>
                      </a:moveTo>
                      <a:lnTo>
                        <a:pt x="0" y="608"/>
                      </a:lnTo>
                      <a:lnTo>
                        <a:pt x="2" y="561"/>
                      </a:lnTo>
                      <a:lnTo>
                        <a:pt x="17" y="473"/>
                      </a:lnTo>
                      <a:lnTo>
                        <a:pt x="31" y="429"/>
                      </a:lnTo>
                      <a:lnTo>
                        <a:pt x="48" y="388"/>
                      </a:lnTo>
                      <a:lnTo>
                        <a:pt x="69" y="344"/>
                      </a:lnTo>
                      <a:lnTo>
                        <a:pt x="93" y="298"/>
                      </a:lnTo>
                      <a:lnTo>
                        <a:pt x="114" y="266"/>
                      </a:lnTo>
                      <a:lnTo>
                        <a:pt x="135" y="238"/>
                      </a:lnTo>
                      <a:lnTo>
                        <a:pt x="181" y="179"/>
                      </a:lnTo>
                      <a:lnTo>
                        <a:pt x="221" y="137"/>
                      </a:lnTo>
                      <a:lnTo>
                        <a:pt x="257" y="104"/>
                      </a:lnTo>
                      <a:lnTo>
                        <a:pt x="295" y="74"/>
                      </a:lnTo>
                      <a:lnTo>
                        <a:pt x="342" y="47"/>
                      </a:lnTo>
                      <a:lnTo>
                        <a:pt x="394" y="27"/>
                      </a:lnTo>
                      <a:lnTo>
                        <a:pt x="441" y="11"/>
                      </a:lnTo>
                      <a:lnTo>
                        <a:pt x="534" y="0"/>
                      </a:lnTo>
                      <a:lnTo>
                        <a:pt x="620" y="15"/>
                      </a:lnTo>
                      <a:lnTo>
                        <a:pt x="703" y="65"/>
                      </a:lnTo>
                      <a:lnTo>
                        <a:pt x="705" y="84"/>
                      </a:lnTo>
                      <a:lnTo>
                        <a:pt x="684" y="85"/>
                      </a:lnTo>
                      <a:lnTo>
                        <a:pt x="648" y="61"/>
                      </a:lnTo>
                      <a:lnTo>
                        <a:pt x="612" y="47"/>
                      </a:lnTo>
                      <a:lnTo>
                        <a:pt x="536" y="44"/>
                      </a:lnTo>
                      <a:lnTo>
                        <a:pt x="456" y="66"/>
                      </a:lnTo>
                      <a:lnTo>
                        <a:pt x="413" y="84"/>
                      </a:lnTo>
                      <a:lnTo>
                        <a:pt x="367" y="103"/>
                      </a:lnTo>
                      <a:lnTo>
                        <a:pt x="293" y="152"/>
                      </a:lnTo>
                      <a:lnTo>
                        <a:pt x="263" y="180"/>
                      </a:lnTo>
                      <a:lnTo>
                        <a:pt x="226" y="217"/>
                      </a:lnTo>
                      <a:lnTo>
                        <a:pt x="204" y="245"/>
                      </a:lnTo>
                      <a:lnTo>
                        <a:pt x="181" y="270"/>
                      </a:lnTo>
                      <a:lnTo>
                        <a:pt x="139" y="323"/>
                      </a:lnTo>
                      <a:lnTo>
                        <a:pt x="114" y="367"/>
                      </a:lnTo>
                      <a:lnTo>
                        <a:pt x="93" y="407"/>
                      </a:lnTo>
                      <a:lnTo>
                        <a:pt x="55" y="485"/>
                      </a:lnTo>
                      <a:lnTo>
                        <a:pt x="33" y="566"/>
                      </a:lnTo>
                      <a:lnTo>
                        <a:pt x="29" y="659"/>
                      </a:lnTo>
                      <a:lnTo>
                        <a:pt x="15" y="675"/>
                      </a:lnTo>
                      <a:lnTo>
                        <a:pt x="0" y="661"/>
                      </a:lnTo>
                      <a:lnTo>
                        <a:pt x="0" y="6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737080" y="4866120"/>
                  <a:ext cx="50040" cy="57240"/>
                </a:xfrm>
                <a:custGeom>
                  <a:avLst/>
                  <a:gdLst/>
                  <a:ahLst/>
                  <a:rect l="l" t="t" r="r" b="b"/>
                  <a:pathLst>
                    <a:path w="373" h="566">
                      <a:moveTo>
                        <a:pt x="358" y="11"/>
                      </a:moveTo>
                      <a:lnTo>
                        <a:pt x="373" y="138"/>
                      </a:lnTo>
                      <a:lnTo>
                        <a:pt x="369" y="199"/>
                      </a:lnTo>
                      <a:lnTo>
                        <a:pt x="354" y="266"/>
                      </a:lnTo>
                      <a:lnTo>
                        <a:pt x="325" y="327"/>
                      </a:lnTo>
                      <a:lnTo>
                        <a:pt x="310" y="361"/>
                      </a:lnTo>
                      <a:lnTo>
                        <a:pt x="295" y="385"/>
                      </a:lnTo>
                      <a:lnTo>
                        <a:pt x="278" y="414"/>
                      </a:lnTo>
                      <a:lnTo>
                        <a:pt x="255" y="441"/>
                      </a:lnTo>
                      <a:lnTo>
                        <a:pt x="230" y="465"/>
                      </a:lnTo>
                      <a:lnTo>
                        <a:pt x="202" y="490"/>
                      </a:lnTo>
                      <a:lnTo>
                        <a:pt x="172" y="511"/>
                      </a:lnTo>
                      <a:lnTo>
                        <a:pt x="141" y="530"/>
                      </a:lnTo>
                      <a:lnTo>
                        <a:pt x="111" y="549"/>
                      </a:lnTo>
                      <a:lnTo>
                        <a:pt x="80" y="566"/>
                      </a:lnTo>
                      <a:lnTo>
                        <a:pt x="0" y="562"/>
                      </a:lnTo>
                      <a:lnTo>
                        <a:pt x="29" y="545"/>
                      </a:lnTo>
                      <a:lnTo>
                        <a:pt x="61" y="522"/>
                      </a:lnTo>
                      <a:lnTo>
                        <a:pt x="96" y="500"/>
                      </a:lnTo>
                      <a:lnTo>
                        <a:pt x="132" y="473"/>
                      </a:lnTo>
                      <a:lnTo>
                        <a:pt x="196" y="416"/>
                      </a:lnTo>
                      <a:lnTo>
                        <a:pt x="238" y="359"/>
                      </a:lnTo>
                      <a:lnTo>
                        <a:pt x="268" y="302"/>
                      </a:lnTo>
                      <a:lnTo>
                        <a:pt x="297" y="243"/>
                      </a:lnTo>
                      <a:lnTo>
                        <a:pt x="329" y="129"/>
                      </a:lnTo>
                      <a:lnTo>
                        <a:pt x="335" y="78"/>
                      </a:lnTo>
                      <a:lnTo>
                        <a:pt x="329" y="17"/>
                      </a:lnTo>
                      <a:lnTo>
                        <a:pt x="343" y="0"/>
                      </a:lnTo>
                      <a:lnTo>
                        <a:pt x="358" y="11"/>
                      </a:lnTo>
                      <a:lnTo>
                        <a:pt x="358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714040" y="4885560"/>
                  <a:ext cx="50400" cy="30240"/>
                </a:xfrm>
                <a:custGeom>
                  <a:avLst/>
                  <a:gdLst/>
                  <a:ahLst/>
                  <a:rect l="l" t="t" r="r" b="b"/>
                  <a:pathLst>
                    <a:path w="375" h="315">
                      <a:moveTo>
                        <a:pt x="375" y="19"/>
                      </a:moveTo>
                      <a:lnTo>
                        <a:pt x="356" y="57"/>
                      </a:lnTo>
                      <a:lnTo>
                        <a:pt x="337" y="91"/>
                      </a:lnTo>
                      <a:lnTo>
                        <a:pt x="318" y="122"/>
                      </a:lnTo>
                      <a:lnTo>
                        <a:pt x="295" y="150"/>
                      </a:lnTo>
                      <a:lnTo>
                        <a:pt x="272" y="177"/>
                      </a:lnTo>
                      <a:lnTo>
                        <a:pt x="244" y="201"/>
                      </a:lnTo>
                      <a:lnTo>
                        <a:pt x="213" y="226"/>
                      </a:lnTo>
                      <a:lnTo>
                        <a:pt x="179" y="251"/>
                      </a:lnTo>
                      <a:lnTo>
                        <a:pt x="143" y="279"/>
                      </a:lnTo>
                      <a:lnTo>
                        <a:pt x="103" y="302"/>
                      </a:lnTo>
                      <a:lnTo>
                        <a:pt x="18" y="315"/>
                      </a:lnTo>
                      <a:lnTo>
                        <a:pt x="0" y="308"/>
                      </a:lnTo>
                      <a:lnTo>
                        <a:pt x="8" y="291"/>
                      </a:lnTo>
                      <a:lnTo>
                        <a:pt x="42" y="264"/>
                      </a:lnTo>
                      <a:lnTo>
                        <a:pt x="57" y="253"/>
                      </a:lnTo>
                      <a:lnTo>
                        <a:pt x="78" y="241"/>
                      </a:lnTo>
                      <a:lnTo>
                        <a:pt x="139" y="199"/>
                      </a:lnTo>
                      <a:lnTo>
                        <a:pt x="171" y="177"/>
                      </a:lnTo>
                      <a:lnTo>
                        <a:pt x="204" y="156"/>
                      </a:lnTo>
                      <a:lnTo>
                        <a:pt x="232" y="137"/>
                      </a:lnTo>
                      <a:lnTo>
                        <a:pt x="261" y="118"/>
                      </a:lnTo>
                      <a:lnTo>
                        <a:pt x="348" y="7"/>
                      </a:lnTo>
                      <a:lnTo>
                        <a:pt x="367" y="0"/>
                      </a:lnTo>
                      <a:lnTo>
                        <a:pt x="375" y="19"/>
                      </a:lnTo>
                      <a:lnTo>
                        <a:pt x="37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635920" y="4917960"/>
                  <a:ext cx="50400" cy="39240"/>
                </a:xfrm>
                <a:custGeom>
                  <a:avLst/>
                  <a:gdLst/>
                  <a:ahLst/>
                  <a:rect l="l" t="t" r="r" b="b"/>
                  <a:pathLst>
                    <a:path w="185" h="198">
                      <a:moveTo>
                        <a:pt x="185" y="19"/>
                      </a:moveTo>
                      <a:lnTo>
                        <a:pt x="161" y="68"/>
                      </a:lnTo>
                      <a:lnTo>
                        <a:pt x="109" y="102"/>
                      </a:lnTo>
                      <a:lnTo>
                        <a:pt x="69" y="114"/>
                      </a:lnTo>
                      <a:lnTo>
                        <a:pt x="49" y="126"/>
                      </a:lnTo>
                      <a:lnTo>
                        <a:pt x="50" y="161"/>
                      </a:lnTo>
                      <a:lnTo>
                        <a:pt x="45" y="198"/>
                      </a:lnTo>
                      <a:lnTo>
                        <a:pt x="2" y="140"/>
                      </a:lnTo>
                      <a:lnTo>
                        <a:pt x="0" y="120"/>
                      </a:lnTo>
                      <a:lnTo>
                        <a:pt x="8" y="99"/>
                      </a:lnTo>
                      <a:lnTo>
                        <a:pt x="29" y="86"/>
                      </a:lnTo>
                      <a:lnTo>
                        <a:pt x="55" y="84"/>
                      </a:lnTo>
                      <a:lnTo>
                        <a:pt x="107" y="73"/>
                      </a:lnTo>
                      <a:lnTo>
                        <a:pt x="159" y="8"/>
                      </a:lnTo>
                      <a:lnTo>
                        <a:pt x="178" y="0"/>
                      </a:lnTo>
                      <a:lnTo>
                        <a:pt x="185" y="19"/>
                      </a:lnTo>
                      <a:lnTo>
                        <a:pt x="18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634120" y="4948200"/>
                  <a:ext cx="12240" cy="5400"/>
                </a:xfrm>
                <a:custGeom>
                  <a:avLst/>
                  <a:gdLst/>
                  <a:ahLst/>
                  <a:rect l="l" t="t" r="r" b="b"/>
                  <a:pathLst>
                    <a:path w="94" h="50">
                      <a:moveTo>
                        <a:pt x="21" y="0"/>
                      </a:moveTo>
                      <a:lnTo>
                        <a:pt x="46" y="8"/>
                      </a:lnTo>
                      <a:lnTo>
                        <a:pt x="80" y="15"/>
                      </a:lnTo>
                      <a:lnTo>
                        <a:pt x="94" y="30"/>
                      </a:lnTo>
                      <a:lnTo>
                        <a:pt x="80" y="44"/>
                      </a:lnTo>
                      <a:lnTo>
                        <a:pt x="42" y="50"/>
                      </a:lnTo>
                      <a:lnTo>
                        <a:pt x="4" y="23"/>
                      </a:lnTo>
                      <a:lnTo>
                        <a:pt x="0" y="2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"/>
              <p:cNvSpPr/>
              <p:nvPr/>
            </p:nvSpPr>
            <p:spPr>
              <a:xfrm>
                <a:off x="2740680" y="4826880"/>
                <a:ext cx="45216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Search Engines: keyword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99" name=""/>
              <p:cNvCxnSpPr/>
              <p:nvPr/>
            </p:nvCxnSpPr>
            <p:spPr>
              <a:xfrm flipV="1">
                <a:off x="2787840" y="4644360"/>
                <a:ext cx="161280" cy="56520"/>
              </a:xfrm>
              <a:prstGeom prst="bentConnector3">
                <a:avLst>
                  <a:gd name="adj1" fmla="val 49888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500" name=""/>
              <p:cNvSpPr/>
              <p:nvPr/>
            </p:nvSpPr>
            <p:spPr>
              <a:xfrm>
                <a:off x="3427200" y="4768920"/>
                <a:ext cx="11520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1" name="" descr=""/>
              <p:cNvPicPr/>
              <p:nvPr/>
            </p:nvPicPr>
            <p:blipFill>
              <a:blip r:embed="rId72"/>
              <a:stretch/>
            </p:blipFill>
            <p:spPr>
              <a:xfrm>
                <a:off x="3897000" y="4900320"/>
                <a:ext cx="263160" cy="12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2" name="" descr=""/>
              <p:cNvPicPr/>
              <p:nvPr/>
            </p:nvPicPr>
            <p:blipFill>
              <a:blip r:embed="rId73"/>
              <a:stretch/>
            </p:blipFill>
            <p:spPr>
              <a:xfrm>
                <a:off x="4316040" y="4868280"/>
                <a:ext cx="263520" cy="12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flipV="1">
                <a:off x="3771360" y="4956120"/>
                <a:ext cx="104760" cy="8280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151880" y="4956120"/>
                <a:ext cx="43920" cy="6840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708360" y="4774680"/>
                <a:ext cx="177084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800880" y="4600080"/>
                <a:ext cx="93744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ontent Refreshes on Learning Center: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Flash, OnDemand, Online Assessmen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4205880" y="4942080"/>
                <a:ext cx="104760" cy="8280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607640" y="4938120"/>
                <a:ext cx="335160" cy="1094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9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3024000" y="4947120"/>
                <a:ext cx="263520" cy="11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0" name=""/>
              <p:cNvSpPr/>
              <p:nvPr/>
            </p:nvSpPr>
            <p:spPr>
              <a:xfrm>
                <a:off x="3174120" y="4600080"/>
                <a:ext cx="113832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Learning Center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11" name=""/>
              <p:cNvCxnSpPr>
                <a:endCxn id="509" idx="1"/>
              </p:cNvCxnSpPr>
              <p:nvPr/>
            </p:nvCxnSpPr>
            <p:spPr>
              <a:xfrm flipV="1">
                <a:off x="2843640" y="5006520"/>
                <a:ext cx="180720" cy="207360"/>
              </a:xfrm>
              <a:prstGeom prst="bentConnector3">
                <a:avLst>
                  <a:gd name="adj1" fmla="val 60079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512" name=""/>
              <p:cNvCxnSpPr>
                <a:endCxn id="487" idx="0"/>
              </p:cNvCxnSpPr>
              <p:nvPr/>
            </p:nvCxnSpPr>
            <p:spPr>
              <a:xfrm>
                <a:off x="3317400" y="5019120"/>
                <a:ext cx="231120" cy="94320"/>
              </a:xfrm>
              <a:prstGeom prst="bentConnector4">
                <a:avLst>
                  <a:gd name="adj1" fmla="val 39157"/>
                  <a:gd name="adj2" fmla="val 95402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513" name=""/>
              <p:cNvSpPr/>
              <p:nvPr/>
            </p:nvSpPr>
            <p:spPr>
              <a:xfrm>
                <a:off x="5374440" y="5346720"/>
                <a:ext cx="551880" cy="22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18 September</a:t>
                </a:r>
                <a:br>
                  <a:rPr sz="400"/>
                </a:b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Platform Event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4" name="" descr=""/>
              <p:cNvPicPr/>
              <p:nvPr/>
            </p:nvPicPr>
            <p:blipFill>
              <a:blip r:embed="rId75"/>
              <a:stretch/>
            </p:blipFill>
            <p:spPr>
              <a:xfrm>
                <a:off x="2597760" y="5396760"/>
                <a:ext cx="26532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5" name="" descr=""/>
              <p:cNvPicPr/>
              <p:nvPr/>
            </p:nvPicPr>
            <p:blipFill>
              <a:blip r:embed="rId76"/>
              <a:stretch/>
            </p:blipFill>
            <p:spPr>
              <a:xfrm>
                <a:off x="5487840" y="5481720"/>
                <a:ext cx="352800" cy="210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6" name="" descr=""/>
              <p:cNvPicPr/>
              <p:nvPr/>
            </p:nvPicPr>
            <p:blipFill>
              <a:blip r:embed="rId77"/>
              <a:stretch/>
            </p:blipFill>
            <p:spPr>
              <a:xfrm>
                <a:off x="3134160" y="5465160"/>
                <a:ext cx="396360" cy="131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7" name="" descr=""/>
              <p:cNvPicPr/>
              <p:nvPr/>
            </p:nvPicPr>
            <p:blipFill>
              <a:blip r:embed="rId78"/>
              <a:stretch/>
            </p:blipFill>
            <p:spPr>
              <a:xfrm>
                <a:off x="3451680" y="5772960"/>
                <a:ext cx="352800" cy="251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8" name="" descr=""/>
              <p:cNvPicPr/>
              <p:nvPr/>
            </p:nvPicPr>
            <p:blipFill>
              <a:blip r:embed="rId79"/>
              <a:stretch/>
            </p:blipFill>
            <p:spPr>
              <a:xfrm>
                <a:off x="2115720" y="5515560"/>
                <a:ext cx="263520" cy="12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9" name=""/>
              <p:cNvSpPr/>
              <p:nvPr/>
            </p:nvSpPr>
            <p:spPr>
              <a:xfrm>
                <a:off x="2693520" y="5927400"/>
                <a:ext cx="132480" cy="14904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42840" bIns="42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World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las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0" name=""/>
              <p:cNvCxnSpPr>
                <a:stCxn id="518" idx="3"/>
                <a:endCxn id="519" idx="2"/>
              </p:cNvCxnSpPr>
              <p:nvPr/>
            </p:nvCxnSpPr>
            <p:spPr>
              <a:xfrm>
                <a:off x="2379600" y="5576400"/>
                <a:ext cx="314280" cy="427320"/>
              </a:xfrm>
              <a:prstGeom prst="bentConnector3">
                <a:avLst>
                  <a:gd name="adj1" fmla="val 49885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pic>
            <p:nvPicPr>
              <p:cNvPr id="521" name="" descr=""/>
              <p:cNvPicPr/>
              <p:nvPr/>
            </p:nvPicPr>
            <p:blipFill>
              <a:blip r:embed="rId80"/>
              <a:stretch/>
            </p:blipFill>
            <p:spPr>
              <a:xfrm>
                <a:off x="3046680" y="5853600"/>
                <a:ext cx="263520" cy="12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2" name="" descr=""/>
              <p:cNvPicPr/>
              <p:nvPr/>
            </p:nvPicPr>
            <p:blipFill>
              <a:blip r:embed="rId81"/>
              <a:stretch/>
            </p:blipFill>
            <p:spPr>
              <a:xfrm>
                <a:off x="3090240" y="5963400"/>
                <a:ext cx="219960" cy="15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3" name="" descr=""/>
              <p:cNvPicPr/>
              <p:nvPr/>
            </p:nvPicPr>
            <p:blipFill>
              <a:blip r:embed="rId82"/>
              <a:stretch/>
            </p:blipFill>
            <p:spPr>
              <a:xfrm>
                <a:off x="4029840" y="5769360"/>
                <a:ext cx="352440" cy="2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4" name="" descr=""/>
              <p:cNvPicPr/>
              <p:nvPr/>
            </p:nvPicPr>
            <p:blipFill>
              <a:blip r:embed="rId83"/>
              <a:stretch/>
            </p:blipFill>
            <p:spPr>
              <a:xfrm>
                <a:off x="4861080" y="5769360"/>
                <a:ext cx="350640" cy="2520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525" name=""/>
              <p:cNvCxnSpPr>
                <a:stCxn id="519" idx="4"/>
                <a:endCxn id="521" idx="1"/>
              </p:cNvCxnSpPr>
              <p:nvPr/>
            </p:nvCxnSpPr>
            <p:spPr>
              <a:xfrm flipV="1">
                <a:off x="2826000" y="5914080"/>
                <a:ext cx="220680" cy="889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526" name=""/>
              <p:cNvCxnSpPr>
                <a:stCxn id="519" idx="4"/>
                <a:endCxn id="522" idx="1"/>
              </p:cNvCxnSpPr>
              <p:nvPr/>
            </p:nvCxnSpPr>
            <p:spPr>
              <a:xfrm>
                <a:off x="2826360" y="6003000"/>
                <a:ext cx="264240" cy="39960"/>
              </a:xfrm>
              <a:prstGeom prst="bentConnector3">
                <a:avLst>
                  <a:gd name="adj1" fmla="val 49795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527" name=""/>
              <p:cNvCxnSpPr/>
              <p:nvPr/>
            </p:nvCxnSpPr>
            <p:spPr>
              <a:xfrm flipV="1">
                <a:off x="3236760" y="5608800"/>
                <a:ext cx="160920" cy="128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528" name=""/>
              <p:cNvSpPr/>
              <p:nvPr/>
            </p:nvSpPr>
            <p:spPr>
              <a:xfrm>
                <a:off x="3633480" y="5636160"/>
                <a:ext cx="0" cy="1418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531160" y="5778360"/>
                <a:ext cx="403200" cy="34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urpose: build suspect 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575520" y="5488560"/>
                <a:ext cx="132480" cy="147600"/>
              </a:xfrm>
              <a:prstGeom prst="can">
                <a:avLst>
                  <a:gd name="adj" fmla="val 25000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Opt-In</a:t>
                </a:r>
                <a:br>
                  <a:rPr sz="400"/>
                </a:b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Lis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900160" y="5535360"/>
                <a:ext cx="21960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607200" y="6060960"/>
                <a:ext cx="1676160" cy="62640"/>
              </a:xfrm>
              <a:prstGeom prst="rect">
                <a:avLst/>
              </a:prstGeom>
              <a:solidFill>
                <a:srgbClr val="ffd6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11880" bIns="11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event series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, featuring Lilly &amp; industry exper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33" name=""/>
              <p:cNvCxnSpPr>
                <a:endCxn id="515" idx="2"/>
              </p:cNvCxnSpPr>
              <p:nvPr/>
            </p:nvCxnSpPr>
            <p:spPr>
              <a:xfrm flipV="1">
                <a:off x="5454360" y="5691240"/>
                <a:ext cx="209880" cy="194760"/>
              </a:xfrm>
              <a:prstGeom prst="bentConnector2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534" name=""/>
              <p:cNvSpPr/>
              <p:nvPr/>
            </p:nvSpPr>
            <p:spPr>
              <a:xfrm>
                <a:off x="3907440" y="5934960"/>
                <a:ext cx="13968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340080" y="5875200"/>
                <a:ext cx="21960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2646360" y="5609160"/>
                <a:ext cx="151560" cy="110880"/>
                <a:chOff x="2646360" y="5609160"/>
                <a:chExt cx="151560" cy="11088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2653200" y="5619600"/>
                  <a:ext cx="141120" cy="100440"/>
                </a:xfrm>
                <a:custGeom>
                  <a:avLst/>
                  <a:gdLst/>
                  <a:ahLst/>
                  <a:rect l="l" t="t" r="r" b="b"/>
                  <a:pathLst>
                    <a:path w="531" h="503">
                      <a:moveTo>
                        <a:pt x="0" y="451"/>
                      </a:moveTo>
                      <a:lnTo>
                        <a:pt x="186" y="313"/>
                      </a:lnTo>
                      <a:lnTo>
                        <a:pt x="167" y="277"/>
                      </a:lnTo>
                      <a:lnTo>
                        <a:pt x="172" y="241"/>
                      </a:lnTo>
                      <a:lnTo>
                        <a:pt x="207" y="289"/>
                      </a:lnTo>
                      <a:lnTo>
                        <a:pt x="205" y="239"/>
                      </a:lnTo>
                      <a:lnTo>
                        <a:pt x="235" y="153"/>
                      </a:lnTo>
                      <a:lnTo>
                        <a:pt x="273" y="90"/>
                      </a:lnTo>
                      <a:lnTo>
                        <a:pt x="345" y="27"/>
                      </a:lnTo>
                      <a:lnTo>
                        <a:pt x="412" y="0"/>
                      </a:lnTo>
                      <a:lnTo>
                        <a:pt x="474" y="0"/>
                      </a:lnTo>
                      <a:lnTo>
                        <a:pt x="515" y="19"/>
                      </a:lnTo>
                      <a:lnTo>
                        <a:pt x="531" y="62"/>
                      </a:lnTo>
                      <a:lnTo>
                        <a:pt x="531" y="148"/>
                      </a:lnTo>
                      <a:lnTo>
                        <a:pt x="493" y="234"/>
                      </a:lnTo>
                      <a:lnTo>
                        <a:pt x="445" y="281"/>
                      </a:lnTo>
                      <a:lnTo>
                        <a:pt x="387" y="339"/>
                      </a:lnTo>
                      <a:lnTo>
                        <a:pt x="316" y="339"/>
                      </a:lnTo>
                      <a:lnTo>
                        <a:pt x="259" y="343"/>
                      </a:lnTo>
                      <a:lnTo>
                        <a:pt x="312" y="318"/>
                      </a:lnTo>
                      <a:lnTo>
                        <a:pt x="388" y="275"/>
                      </a:lnTo>
                      <a:lnTo>
                        <a:pt x="455" y="222"/>
                      </a:lnTo>
                      <a:lnTo>
                        <a:pt x="490" y="153"/>
                      </a:lnTo>
                      <a:lnTo>
                        <a:pt x="500" y="103"/>
                      </a:lnTo>
                      <a:lnTo>
                        <a:pt x="496" y="57"/>
                      </a:lnTo>
                      <a:lnTo>
                        <a:pt x="426" y="29"/>
                      </a:lnTo>
                      <a:lnTo>
                        <a:pt x="376" y="65"/>
                      </a:lnTo>
                      <a:lnTo>
                        <a:pt x="288" y="119"/>
                      </a:lnTo>
                      <a:lnTo>
                        <a:pt x="259" y="201"/>
                      </a:lnTo>
                      <a:lnTo>
                        <a:pt x="243" y="265"/>
                      </a:lnTo>
                      <a:lnTo>
                        <a:pt x="235" y="308"/>
                      </a:lnTo>
                      <a:lnTo>
                        <a:pt x="202" y="324"/>
                      </a:lnTo>
                      <a:lnTo>
                        <a:pt x="205" y="353"/>
                      </a:lnTo>
                      <a:lnTo>
                        <a:pt x="36" y="503"/>
                      </a:lnTo>
                      <a:lnTo>
                        <a:pt x="0" y="479"/>
                      </a:lnTo>
                      <a:lnTo>
                        <a:pt x="12" y="471"/>
                      </a:lnTo>
                      <a:lnTo>
                        <a:pt x="0" y="451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728080" y="5626800"/>
                  <a:ext cx="48960" cy="46800"/>
                </a:xfrm>
                <a:custGeom>
                  <a:avLst/>
                  <a:gdLst/>
                  <a:ahLst/>
                  <a:rect l="l" t="t" r="r" b="b"/>
                  <a:pathLst>
                    <a:path w="363" h="473">
                      <a:moveTo>
                        <a:pt x="186" y="53"/>
                      </a:moveTo>
                      <a:lnTo>
                        <a:pt x="215" y="104"/>
                      </a:lnTo>
                      <a:lnTo>
                        <a:pt x="205" y="196"/>
                      </a:lnTo>
                      <a:lnTo>
                        <a:pt x="154" y="287"/>
                      </a:lnTo>
                      <a:lnTo>
                        <a:pt x="0" y="458"/>
                      </a:lnTo>
                      <a:lnTo>
                        <a:pt x="95" y="473"/>
                      </a:lnTo>
                      <a:lnTo>
                        <a:pt x="262" y="329"/>
                      </a:lnTo>
                      <a:lnTo>
                        <a:pt x="338" y="201"/>
                      </a:lnTo>
                      <a:lnTo>
                        <a:pt x="363" y="95"/>
                      </a:lnTo>
                      <a:lnTo>
                        <a:pt x="344" y="44"/>
                      </a:lnTo>
                      <a:lnTo>
                        <a:pt x="297" y="0"/>
                      </a:lnTo>
                      <a:lnTo>
                        <a:pt x="230" y="9"/>
                      </a:lnTo>
                      <a:lnTo>
                        <a:pt x="186" y="53"/>
                      </a:lnTo>
                      <a:lnTo>
                        <a:pt x="186" y="53"/>
                      </a:lnTo>
                      <a:close/>
                    </a:path>
                  </a:pathLst>
                </a:custGeom>
                <a:solidFill>
                  <a:srgbClr val="cc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701800" y="5675400"/>
                  <a:ext cx="50400" cy="14040"/>
                </a:xfrm>
                <a:custGeom>
                  <a:avLst/>
                  <a:gdLst/>
                  <a:ahLst/>
                  <a:rect l="l" t="t" r="r" b="b"/>
                  <a:pathLst>
                    <a:path w="376" h="143">
                      <a:moveTo>
                        <a:pt x="89" y="0"/>
                      </a:moveTo>
                      <a:lnTo>
                        <a:pt x="108" y="48"/>
                      </a:lnTo>
                      <a:lnTo>
                        <a:pt x="184" y="86"/>
                      </a:lnTo>
                      <a:lnTo>
                        <a:pt x="376" y="67"/>
                      </a:lnTo>
                      <a:lnTo>
                        <a:pt x="270" y="109"/>
                      </a:lnTo>
                      <a:lnTo>
                        <a:pt x="99" y="128"/>
                      </a:lnTo>
                      <a:lnTo>
                        <a:pt x="0" y="143"/>
                      </a:lnTo>
                      <a:lnTo>
                        <a:pt x="9" y="57"/>
                      </a:lnTo>
                      <a:lnTo>
                        <a:pt x="89" y="0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bfb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716200" y="5623200"/>
                  <a:ext cx="70920" cy="51840"/>
                </a:xfrm>
                <a:custGeom>
                  <a:avLst/>
                  <a:gdLst/>
                  <a:ahLst/>
                  <a:rect l="l" t="t" r="r" b="b"/>
                  <a:pathLst>
                    <a:path w="534" h="518">
                      <a:moveTo>
                        <a:pt x="0" y="503"/>
                      </a:moveTo>
                      <a:lnTo>
                        <a:pt x="15" y="397"/>
                      </a:lnTo>
                      <a:lnTo>
                        <a:pt x="38" y="306"/>
                      </a:lnTo>
                      <a:lnTo>
                        <a:pt x="55" y="262"/>
                      </a:lnTo>
                      <a:lnTo>
                        <a:pt x="76" y="220"/>
                      </a:lnTo>
                      <a:lnTo>
                        <a:pt x="102" y="178"/>
                      </a:lnTo>
                      <a:lnTo>
                        <a:pt x="137" y="135"/>
                      </a:lnTo>
                      <a:lnTo>
                        <a:pt x="159" y="106"/>
                      </a:lnTo>
                      <a:lnTo>
                        <a:pt x="184" y="81"/>
                      </a:lnTo>
                      <a:lnTo>
                        <a:pt x="213" y="60"/>
                      </a:lnTo>
                      <a:lnTo>
                        <a:pt x="245" y="39"/>
                      </a:lnTo>
                      <a:lnTo>
                        <a:pt x="294" y="15"/>
                      </a:lnTo>
                      <a:lnTo>
                        <a:pt x="340" y="0"/>
                      </a:lnTo>
                      <a:lnTo>
                        <a:pt x="441" y="0"/>
                      </a:lnTo>
                      <a:lnTo>
                        <a:pt x="484" y="17"/>
                      </a:lnTo>
                      <a:lnTo>
                        <a:pt x="519" y="49"/>
                      </a:lnTo>
                      <a:lnTo>
                        <a:pt x="532" y="78"/>
                      </a:lnTo>
                      <a:lnTo>
                        <a:pt x="534" y="108"/>
                      </a:lnTo>
                      <a:lnTo>
                        <a:pt x="521" y="180"/>
                      </a:lnTo>
                      <a:lnTo>
                        <a:pt x="507" y="193"/>
                      </a:lnTo>
                      <a:lnTo>
                        <a:pt x="494" y="178"/>
                      </a:lnTo>
                      <a:lnTo>
                        <a:pt x="498" y="68"/>
                      </a:lnTo>
                      <a:lnTo>
                        <a:pt x="469" y="49"/>
                      </a:lnTo>
                      <a:lnTo>
                        <a:pt x="433" y="41"/>
                      </a:lnTo>
                      <a:lnTo>
                        <a:pt x="351" y="51"/>
                      </a:lnTo>
                      <a:lnTo>
                        <a:pt x="315" y="70"/>
                      </a:lnTo>
                      <a:lnTo>
                        <a:pt x="275" y="93"/>
                      </a:lnTo>
                      <a:lnTo>
                        <a:pt x="186" y="171"/>
                      </a:lnTo>
                      <a:lnTo>
                        <a:pt x="154" y="211"/>
                      </a:lnTo>
                      <a:lnTo>
                        <a:pt x="125" y="249"/>
                      </a:lnTo>
                      <a:lnTo>
                        <a:pt x="80" y="325"/>
                      </a:lnTo>
                      <a:lnTo>
                        <a:pt x="47" y="408"/>
                      </a:lnTo>
                      <a:lnTo>
                        <a:pt x="28" y="505"/>
                      </a:lnTo>
                      <a:lnTo>
                        <a:pt x="13" y="518"/>
                      </a:lnTo>
                      <a:lnTo>
                        <a:pt x="0" y="503"/>
                      </a:lnTo>
                      <a:lnTo>
                        <a:pt x="0" y="5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695320" y="5609160"/>
                  <a:ext cx="93960" cy="67680"/>
                </a:xfrm>
                <a:custGeom>
                  <a:avLst/>
                  <a:gdLst/>
                  <a:ahLst/>
                  <a:rect l="l" t="t" r="r" b="b"/>
                  <a:pathLst>
                    <a:path w="705" h="675">
                      <a:moveTo>
                        <a:pt x="0" y="661"/>
                      </a:moveTo>
                      <a:lnTo>
                        <a:pt x="0" y="608"/>
                      </a:lnTo>
                      <a:lnTo>
                        <a:pt x="2" y="561"/>
                      </a:lnTo>
                      <a:lnTo>
                        <a:pt x="17" y="473"/>
                      </a:lnTo>
                      <a:lnTo>
                        <a:pt x="31" y="429"/>
                      </a:lnTo>
                      <a:lnTo>
                        <a:pt x="48" y="388"/>
                      </a:lnTo>
                      <a:lnTo>
                        <a:pt x="69" y="344"/>
                      </a:lnTo>
                      <a:lnTo>
                        <a:pt x="93" y="298"/>
                      </a:lnTo>
                      <a:lnTo>
                        <a:pt x="114" y="266"/>
                      </a:lnTo>
                      <a:lnTo>
                        <a:pt x="135" y="238"/>
                      </a:lnTo>
                      <a:lnTo>
                        <a:pt x="181" y="179"/>
                      </a:lnTo>
                      <a:lnTo>
                        <a:pt x="221" y="137"/>
                      </a:lnTo>
                      <a:lnTo>
                        <a:pt x="257" y="104"/>
                      </a:lnTo>
                      <a:lnTo>
                        <a:pt x="295" y="74"/>
                      </a:lnTo>
                      <a:lnTo>
                        <a:pt x="342" y="47"/>
                      </a:lnTo>
                      <a:lnTo>
                        <a:pt x="394" y="27"/>
                      </a:lnTo>
                      <a:lnTo>
                        <a:pt x="441" y="11"/>
                      </a:lnTo>
                      <a:lnTo>
                        <a:pt x="534" y="0"/>
                      </a:lnTo>
                      <a:lnTo>
                        <a:pt x="620" y="15"/>
                      </a:lnTo>
                      <a:lnTo>
                        <a:pt x="703" y="65"/>
                      </a:lnTo>
                      <a:lnTo>
                        <a:pt x="705" y="84"/>
                      </a:lnTo>
                      <a:lnTo>
                        <a:pt x="684" y="85"/>
                      </a:lnTo>
                      <a:lnTo>
                        <a:pt x="648" y="61"/>
                      </a:lnTo>
                      <a:lnTo>
                        <a:pt x="612" y="47"/>
                      </a:lnTo>
                      <a:lnTo>
                        <a:pt x="536" y="44"/>
                      </a:lnTo>
                      <a:lnTo>
                        <a:pt x="456" y="66"/>
                      </a:lnTo>
                      <a:lnTo>
                        <a:pt x="413" y="84"/>
                      </a:lnTo>
                      <a:lnTo>
                        <a:pt x="367" y="103"/>
                      </a:lnTo>
                      <a:lnTo>
                        <a:pt x="293" y="152"/>
                      </a:lnTo>
                      <a:lnTo>
                        <a:pt x="263" y="180"/>
                      </a:lnTo>
                      <a:lnTo>
                        <a:pt x="226" y="217"/>
                      </a:lnTo>
                      <a:lnTo>
                        <a:pt x="204" y="245"/>
                      </a:lnTo>
                      <a:lnTo>
                        <a:pt x="181" y="270"/>
                      </a:lnTo>
                      <a:lnTo>
                        <a:pt x="139" y="323"/>
                      </a:lnTo>
                      <a:lnTo>
                        <a:pt x="114" y="367"/>
                      </a:lnTo>
                      <a:lnTo>
                        <a:pt x="93" y="407"/>
                      </a:lnTo>
                      <a:lnTo>
                        <a:pt x="55" y="485"/>
                      </a:lnTo>
                      <a:lnTo>
                        <a:pt x="33" y="566"/>
                      </a:lnTo>
                      <a:lnTo>
                        <a:pt x="29" y="659"/>
                      </a:lnTo>
                      <a:lnTo>
                        <a:pt x="15" y="675"/>
                      </a:lnTo>
                      <a:lnTo>
                        <a:pt x="0" y="661"/>
                      </a:lnTo>
                      <a:lnTo>
                        <a:pt x="0" y="6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747520" y="5628600"/>
                  <a:ext cx="50400" cy="57240"/>
                </a:xfrm>
                <a:custGeom>
                  <a:avLst/>
                  <a:gdLst/>
                  <a:ahLst/>
                  <a:rect l="l" t="t" r="r" b="b"/>
                  <a:pathLst>
                    <a:path w="373" h="566">
                      <a:moveTo>
                        <a:pt x="358" y="11"/>
                      </a:moveTo>
                      <a:lnTo>
                        <a:pt x="373" y="138"/>
                      </a:lnTo>
                      <a:lnTo>
                        <a:pt x="369" y="199"/>
                      </a:lnTo>
                      <a:lnTo>
                        <a:pt x="354" y="266"/>
                      </a:lnTo>
                      <a:lnTo>
                        <a:pt x="325" y="327"/>
                      </a:lnTo>
                      <a:lnTo>
                        <a:pt x="310" y="361"/>
                      </a:lnTo>
                      <a:lnTo>
                        <a:pt x="295" y="385"/>
                      </a:lnTo>
                      <a:lnTo>
                        <a:pt x="278" y="414"/>
                      </a:lnTo>
                      <a:lnTo>
                        <a:pt x="255" y="441"/>
                      </a:lnTo>
                      <a:lnTo>
                        <a:pt x="230" y="465"/>
                      </a:lnTo>
                      <a:lnTo>
                        <a:pt x="202" y="490"/>
                      </a:lnTo>
                      <a:lnTo>
                        <a:pt x="172" y="511"/>
                      </a:lnTo>
                      <a:lnTo>
                        <a:pt x="141" y="530"/>
                      </a:lnTo>
                      <a:lnTo>
                        <a:pt x="111" y="549"/>
                      </a:lnTo>
                      <a:lnTo>
                        <a:pt x="80" y="566"/>
                      </a:lnTo>
                      <a:lnTo>
                        <a:pt x="0" y="562"/>
                      </a:lnTo>
                      <a:lnTo>
                        <a:pt x="29" y="545"/>
                      </a:lnTo>
                      <a:lnTo>
                        <a:pt x="61" y="522"/>
                      </a:lnTo>
                      <a:lnTo>
                        <a:pt x="96" y="500"/>
                      </a:lnTo>
                      <a:lnTo>
                        <a:pt x="132" y="473"/>
                      </a:lnTo>
                      <a:lnTo>
                        <a:pt x="196" y="416"/>
                      </a:lnTo>
                      <a:lnTo>
                        <a:pt x="238" y="359"/>
                      </a:lnTo>
                      <a:lnTo>
                        <a:pt x="268" y="302"/>
                      </a:lnTo>
                      <a:lnTo>
                        <a:pt x="297" y="243"/>
                      </a:lnTo>
                      <a:lnTo>
                        <a:pt x="329" y="129"/>
                      </a:lnTo>
                      <a:lnTo>
                        <a:pt x="335" y="78"/>
                      </a:lnTo>
                      <a:lnTo>
                        <a:pt x="329" y="17"/>
                      </a:lnTo>
                      <a:lnTo>
                        <a:pt x="343" y="0"/>
                      </a:lnTo>
                      <a:lnTo>
                        <a:pt x="358" y="11"/>
                      </a:lnTo>
                      <a:lnTo>
                        <a:pt x="358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2724840" y="5648400"/>
                  <a:ext cx="50400" cy="30240"/>
                </a:xfrm>
                <a:custGeom>
                  <a:avLst/>
                  <a:gdLst/>
                  <a:ahLst/>
                  <a:rect l="l" t="t" r="r" b="b"/>
                  <a:pathLst>
                    <a:path w="375" h="315">
                      <a:moveTo>
                        <a:pt x="375" y="19"/>
                      </a:moveTo>
                      <a:lnTo>
                        <a:pt x="356" y="57"/>
                      </a:lnTo>
                      <a:lnTo>
                        <a:pt x="337" y="91"/>
                      </a:lnTo>
                      <a:lnTo>
                        <a:pt x="318" y="122"/>
                      </a:lnTo>
                      <a:lnTo>
                        <a:pt x="295" y="150"/>
                      </a:lnTo>
                      <a:lnTo>
                        <a:pt x="272" y="177"/>
                      </a:lnTo>
                      <a:lnTo>
                        <a:pt x="244" y="201"/>
                      </a:lnTo>
                      <a:lnTo>
                        <a:pt x="213" y="226"/>
                      </a:lnTo>
                      <a:lnTo>
                        <a:pt x="179" y="251"/>
                      </a:lnTo>
                      <a:lnTo>
                        <a:pt x="143" y="279"/>
                      </a:lnTo>
                      <a:lnTo>
                        <a:pt x="103" y="302"/>
                      </a:lnTo>
                      <a:lnTo>
                        <a:pt x="18" y="315"/>
                      </a:lnTo>
                      <a:lnTo>
                        <a:pt x="0" y="308"/>
                      </a:lnTo>
                      <a:lnTo>
                        <a:pt x="8" y="291"/>
                      </a:lnTo>
                      <a:lnTo>
                        <a:pt x="42" y="264"/>
                      </a:lnTo>
                      <a:lnTo>
                        <a:pt x="57" y="253"/>
                      </a:lnTo>
                      <a:lnTo>
                        <a:pt x="78" y="241"/>
                      </a:lnTo>
                      <a:lnTo>
                        <a:pt x="139" y="199"/>
                      </a:lnTo>
                      <a:lnTo>
                        <a:pt x="171" y="177"/>
                      </a:lnTo>
                      <a:lnTo>
                        <a:pt x="204" y="156"/>
                      </a:lnTo>
                      <a:lnTo>
                        <a:pt x="232" y="137"/>
                      </a:lnTo>
                      <a:lnTo>
                        <a:pt x="261" y="118"/>
                      </a:lnTo>
                      <a:lnTo>
                        <a:pt x="348" y="7"/>
                      </a:lnTo>
                      <a:lnTo>
                        <a:pt x="367" y="0"/>
                      </a:lnTo>
                      <a:lnTo>
                        <a:pt x="375" y="19"/>
                      </a:lnTo>
                      <a:lnTo>
                        <a:pt x="37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2648160" y="5680800"/>
                  <a:ext cx="50040" cy="39240"/>
                </a:xfrm>
                <a:custGeom>
                  <a:avLst/>
                  <a:gdLst/>
                  <a:ahLst/>
                  <a:rect l="l" t="t" r="r" b="b"/>
                  <a:pathLst>
                    <a:path w="185" h="198">
                      <a:moveTo>
                        <a:pt x="185" y="19"/>
                      </a:moveTo>
                      <a:lnTo>
                        <a:pt x="161" y="68"/>
                      </a:lnTo>
                      <a:lnTo>
                        <a:pt x="109" y="102"/>
                      </a:lnTo>
                      <a:lnTo>
                        <a:pt x="69" y="114"/>
                      </a:lnTo>
                      <a:lnTo>
                        <a:pt x="49" y="126"/>
                      </a:lnTo>
                      <a:lnTo>
                        <a:pt x="50" y="161"/>
                      </a:lnTo>
                      <a:lnTo>
                        <a:pt x="45" y="198"/>
                      </a:lnTo>
                      <a:lnTo>
                        <a:pt x="2" y="140"/>
                      </a:lnTo>
                      <a:lnTo>
                        <a:pt x="0" y="120"/>
                      </a:lnTo>
                      <a:lnTo>
                        <a:pt x="8" y="99"/>
                      </a:lnTo>
                      <a:lnTo>
                        <a:pt x="29" y="86"/>
                      </a:lnTo>
                      <a:lnTo>
                        <a:pt x="55" y="84"/>
                      </a:lnTo>
                      <a:lnTo>
                        <a:pt x="107" y="73"/>
                      </a:lnTo>
                      <a:lnTo>
                        <a:pt x="159" y="8"/>
                      </a:lnTo>
                      <a:lnTo>
                        <a:pt x="178" y="0"/>
                      </a:lnTo>
                      <a:lnTo>
                        <a:pt x="185" y="19"/>
                      </a:lnTo>
                      <a:lnTo>
                        <a:pt x="18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2646360" y="5711040"/>
                  <a:ext cx="12240" cy="5040"/>
                </a:xfrm>
                <a:custGeom>
                  <a:avLst/>
                  <a:gdLst/>
                  <a:ahLst/>
                  <a:rect l="l" t="t" r="r" b="b"/>
                  <a:pathLst>
                    <a:path w="94" h="50">
                      <a:moveTo>
                        <a:pt x="21" y="0"/>
                      </a:moveTo>
                      <a:lnTo>
                        <a:pt x="46" y="8"/>
                      </a:lnTo>
                      <a:lnTo>
                        <a:pt x="80" y="15"/>
                      </a:lnTo>
                      <a:lnTo>
                        <a:pt x="94" y="30"/>
                      </a:lnTo>
                      <a:lnTo>
                        <a:pt x="80" y="44"/>
                      </a:lnTo>
                      <a:lnTo>
                        <a:pt x="42" y="50"/>
                      </a:lnTo>
                      <a:lnTo>
                        <a:pt x="4" y="23"/>
                      </a:lnTo>
                      <a:lnTo>
                        <a:pt x="0" y="2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6" name=""/>
              <p:cNvSpPr/>
              <p:nvPr/>
            </p:nvSpPr>
            <p:spPr>
              <a:xfrm>
                <a:off x="2798640" y="5592960"/>
                <a:ext cx="44856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Search Engines: keyword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47" name=""/>
              <p:cNvCxnSpPr/>
              <p:nvPr/>
            </p:nvCxnSpPr>
            <p:spPr>
              <a:xfrm flipV="1">
                <a:off x="2798280" y="5317200"/>
                <a:ext cx="159480" cy="547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sp>
            <p:nvSpPr>
              <p:cNvPr id="548" name=""/>
              <p:cNvSpPr/>
              <p:nvPr/>
            </p:nvSpPr>
            <p:spPr>
              <a:xfrm>
                <a:off x="3437640" y="5531760"/>
                <a:ext cx="11520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9" name="" descr=""/>
              <p:cNvPicPr/>
              <p:nvPr/>
            </p:nvPicPr>
            <p:blipFill>
              <a:blip r:embed="rId84"/>
              <a:stretch/>
            </p:blipFill>
            <p:spPr>
              <a:xfrm>
                <a:off x="3891600" y="5668560"/>
                <a:ext cx="265680" cy="12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0" name="" descr=""/>
              <p:cNvPicPr/>
              <p:nvPr/>
            </p:nvPicPr>
            <p:blipFill>
              <a:blip r:embed="rId85"/>
              <a:stretch/>
            </p:blipFill>
            <p:spPr>
              <a:xfrm>
                <a:off x="4328280" y="5628960"/>
                <a:ext cx="263520" cy="12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1" name=""/>
              <p:cNvSpPr/>
              <p:nvPr/>
            </p:nvSpPr>
            <p:spPr>
              <a:xfrm flipV="1">
                <a:off x="3781800" y="5716800"/>
                <a:ext cx="106200" cy="8460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162320" y="5717160"/>
                <a:ext cx="43560" cy="698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718800" y="5535360"/>
                <a:ext cx="1770480" cy="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814920" y="5362920"/>
                <a:ext cx="930960" cy="34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Content Refreshes on Learning Center: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Flash, OnDemand, Online Assessment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4218480" y="5704200"/>
                <a:ext cx="102960" cy="8280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19880" y="5699160"/>
                <a:ext cx="333360" cy="1094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7" name="" descr=""/>
              <p:cNvPicPr/>
              <p:nvPr/>
            </p:nvPicPr>
            <p:blipFill>
              <a:blip r:embed="rId86"/>
              <a:stretch/>
            </p:blipFill>
            <p:spPr>
              <a:xfrm>
                <a:off x="3034080" y="5709960"/>
                <a:ext cx="265320" cy="11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"/>
              <p:cNvSpPr/>
              <p:nvPr/>
            </p:nvSpPr>
            <p:spPr>
              <a:xfrm>
                <a:off x="3184200" y="5362920"/>
                <a:ext cx="114048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Online Learning Center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59" name=""/>
              <p:cNvCxnSpPr>
                <a:endCxn id="557" idx="1"/>
              </p:cNvCxnSpPr>
              <p:nvPr/>
            </p:nvCxnSpPr>
            <p:spPr>
              <a:xfrm flipV="1">
                <a:off x="2854080" y="5767200"/>
                <a:ext cx="180360" cy="207360"/>
              </a:xfrm>
              <a:prstGeom prst="bentConnector3">
                <a:avLst>
                  <a:gd name="adj1" fmla="val 60000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cxnSp>
            <p:nvCxnSpPr>
              <p:cNvPr id="560" name=""/>
              <p:cNvCxnSpPr>
                <a:endCxn id="535" idx="0"/>
              </p:cNvCxnSpPr>
              <p:nvPr/>
            </p:nvCxnSpPr>
            <p:spPr>
              <a:xfrm>
                <a:off x="3327840" y="5781600"/>
                <a:ext cx="232560" cy="93960"/>
              </a:xfrm>
              <a:prstGeom prst="bentConnector4">
                <a:avLst>
                  <a:gd name="adj1" fmla="val 9922"/>
                  <a:gd name="adj2" fmla="val 95384"/>
                </a:avLst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</p:cxnSp>
          <p:pic>
            <p:nvPicPr>
              <p:cNvPr id="561" name="" descr=""/>
              <p:cNvPicPr/>
              <p:nvPr/>
            </p:nvPicPr>
            <p:blipFill>
              <a:blip r:embed="rId87"/>
              <a:stretch/>
            </p:blipFill>
            <p:spPr>
              <a:xfrm>
                <a:off x="2287080" y="5702760"/>
                <a:ext cx="219600" cy="15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2" name=""/>
              <p:cNvSpPr/>
              <p:nvPr/>
            </p:nvSpPr>
            <p:spPr>
              <a:xfrm>
                <a:off x="2056320" y="5415120"/>
                <a:ext cx="448560" cy="22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Targeted Tele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227680" y="5843160"/>
                <a:ext cx="375120" cy="34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OnDemand</a:t>
                </a:r>
                <a:br>
                  <a:rPr sz="400"/>
                </a:b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resentation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4" name="" descr=""/>
              <p:cNvPicPr/>
              <p:nvPr/>
            </p:nvPicPr>
            <p:blipFill>
              <a:blip r:embed="rId88"/>
              <a:stretch/>
            </p:blipFill>
            <p:spPr>
              <a:xfrm>
                <a:off x="2321640" y="4750920"/>
                <a:ext cx="307080" cy="16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5" name="" descr=""/>
              <p:cNvPicPr/>
              <p:nvPr/>
            </p:nvPicPr>
            <p:blipFill>
              <a:blip r:embed="rId89"/>
              <a:stretch/>
            </p:blipFill>
            <p:spPr>
              <a:xfrm>
                <a:off x="3928320" y="5508720"/>
                <a:ext cx="219960" cy="15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6" name="" descr=""/>
              <p:cNvPicPr/>
              <p:nvPr/>
            </p:nvPicPr>
            <p:blipFill>
              <a:blip r:embed="rId90"/>
              <a:stretch/>
            </p:blipFill>
            <p:spPr>
              <a:xfrm>
                <a:off x="4619880" y="5625360"/>
                <a:ext cx="219960" cy="15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7" name="" descr=""/>
              <p:cNvPicPr/>
              <p:nvPr/>
            </p:nvPicPr>
            <p:blipFill>
              <a:blip r:embed="rId91"/>
              <a:stretch/>
            </p:blipFill>
            <p:spPr>
              <a:xfrm>
                <a:off x="3914640" y="4744080"/>
                <a:ext cx="219600" cy="15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8" name="" descr=""/>
              <p:cNvPicPr/>
              <p:nvPr/>
            </p:nvPicPr>
            <p:blipFill>
              <a:blip r:embed="rId92"/>
              <a:stretch/>
            </p:blipFill>
            <p:spPr>
              <a:xfrm>
                <a:off x="4611240" y="4805280"/>
                <a:ext cx="219960" cy="15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9" name=""/>
              <p:cNvSpPr/>
              <p:nvPr/>
            </p:nvSpPr>
            <p:spPr>
              <a:xfrm>
                <a:off x="4853880" y="5460120"/>
                <a:ext cx="43452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ff9900"/>
                    </a:solidFill>
                    <a:latin typeface="Arial Black"/>
                  </a:rPr>
                  <a:t>F2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838040" y="4697280"/>
                <a:ext cx="43452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400" spc="-1" strike="noStrike">
                    <a:solidFill>
                      <a:srgbClr val="ff9900"/>
                    </a:solidFill>
                    <a:latin typeface="Arial Black"/>
                  </a:rPr>
                  <a:t>F2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5037120" y="5625000"/>
                <a:ext cx="0" cy="16740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5014800" y="4858920"/>
                <a:ext cx="0" cy="168840"/>
              </a:xfrm>
              <a:prstGeom prst="line">
                <a:avLst/>
              </a:prstGeom>
              <a:ln w="9360">
                <a:solidFill>
                  <a:srgbClr val="b7c7e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433840" y="4616280"/>
                <a:ext cx="51876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880" rIns="101880" tIns="50760" bIns="507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18 September</a:t>
                </a:r>
                <a:r>
                  <a:rPr b="0" lang="en-US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159280" y="6165000"/>
                <a:ext cx="911520" cy="28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AwarenessDirect Mai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rod X Web Detail #1, #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Web Detail DM  #2 Follow-u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024000" y="6165000"/>
                <a:ext cx="1038600" cy="28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Tele-rep Script for Demand Gen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E-Mail w/ Web Detail Flash Presentation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eer-to-Peer Slide Sets (online version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010400" y="6165000"/>
                <a:ext cx="1040400" cy="28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eer-to-Peer Webinar Slide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eer-to-Peer Meeting DM Follow-u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480" indent="-60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 Narrow"/>
                  </a:rPr>
                  <a:t>Prod X Detail Piece 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61720" y="6390000"/>
                <a:ext cx="2844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594160" y="6390000"/>
                <a:ext cx="2826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100680" y="6390000"/>
                <a:ext cx="2790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3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542400" y="6390000"/>
                <a:ext cx="281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4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038480" y="6390000"/>
                <a:ext cx="281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5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551840" y="6390000"/>
                <a:ext cx="281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6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091480" y="6390000"/>
                <a:ext cx="281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7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582160" y="6390000"/>
                <a:ext cx="281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200" rIns="97200" tIns="48600" bIns="48600" anchor="t">
                <a:sp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73080"/>
                    <a:tab algn="l" pos="1946160"/>
                    <a:tab algn="l" pos="2919240"/>
                    <a:tab algn="l" pos="3892680"/>
                    <a:tab algn="l" pos="4865760"/>
                    <a:tab algn="l" pos="5838840"/>
                    <a:tab algn="l" pos="6811920"/>
                    <a:tab algn="l" pos="7785000"/>
                    <a:tab algn="l" pos="8758080"/>
                    <a:tab algn="l" pos="9731520"/>
                    <a:tab algn="l" pos="10704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8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4977720" y="4570920"/>
                <a:ext cx="0" cy="19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3471120" y="4570920"/>
                <a:ext cx="0" cy="194436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16200000">
                <a:off x="1695600" y="4874760"/>
                <a:ext cx="4834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0760" bIns="5076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Segment #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16200000">
                <a:off x="1695600" y="5643000"/>
                <a:ext cx="4834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0760" bIns="5076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Segment #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489840" y="4513680"/>
                <a:ext cx="107784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0760" bIns="5076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Build a “Contact Sequencing Matrix”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1459800">
                <a:off x="5299560" y="4438800"/>
                <a:ext cx="506160" cy="162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880" rIns="101880" tIns="50760" bIns="50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 Narrow"/>
                  </a:rPr>
                  <a:t>ILLUSTRATIVE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1" name=""/>
          <p:cNvSpPr/>
          <p:nvPr/>
        </p:nvSpPr>
        <p:spPr>
          <a:xfrm>
            <a:off x="331920" y="1566720"/>
            <a:ext cx="27907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3400" rIns="113400" tIns="56880" bIns="5688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c50731"/>
                </a:solidFill>
                <a:latin typeface="Arial"/>
              </a:rPr>
              <a:t>Business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c50731"/>
                </a:solidFill>
                <a:latin typeface="Arial"/>
              </a:rPr>
              <a:t>Program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c50731"/>
                </a:solidFill>
                <a:latin typeface="Arial"/>
              </a:rPr>
              <a:t>Campaign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013200" y="1773360"/>
            <a:ext cx="345960" cy="0"/>
          </a:xfrm>
          <a:prstGeom prst="line">
            <a:avLst/>
          </a:prstGeom>
          <a:ln w="38160">
            <a:solidFill>
              <a:srgbClr val="c507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-50760" bIns="-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933640" y="2147760"/>
            <a:ext cx="668520" cy="481320"/>
          </a:xfrm>
          <a:prstGeom prst="line">
            <a:avLst/>
          </a:prstGeom>
          <a:ln w="38160">
            <a:solidFill>
              <a:srgbClr val="c507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671480" y="2709720"/>
            <a:ext cx="201600" cy="1206720"/>
          </a:xfrm>
          <a:prstGeom prst="line">
            <a:avLst/>
          </a:prstGeom>
          <a:ln w="38160">
            <a:solidFill>
              <a:srgbClr val="c507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82400" y="232920"/>
            <a:ext cx="84610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t-in-Class Companies Integrate Marketing Planning and Performance at the Business, Program and Campaign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of Macro-Level Marketing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23360" y="1199880"/>
            <a:ext cx="9186840" cy="567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190440" indent="0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Probl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business-to-consumer company spends hundreds of millions on marketing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ampaign has a direct “yield”, but the interactions between channels are not well understood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ly, there are diminishing returns and potentially minimum efficient scales for each channel, creating an “S” curv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each new customer produces cash flows throughout the lifecycle; these curves are discounted back using weighted average cost of capital (WAC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 Questi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do I understand integrated return on marketing investm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do I model customer lifecycle and profit sensitivities to different retention rates / etc.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do I understand the most optimal mix of marketing channels to meet given revenue, expense, and profit goal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11120" y="114480"/>
            <a:ext cx="912168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usiness Problem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Returns on Marketing Spend Typically Are High Initially, Yet Level Off with Increasing Spend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786120" y="5513400"/>
            <a:ext cx="0" cy="878040"/>
          </a:xfrm>
          <a:prstGeom prst="line">
            <a:avLst/>
          </a:prstGeom>
          <a:ln w="190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2987280" y="5551560"/>
            <a:ext cx="351000" cy="0"/>
          </a:xfrm>
          <a:prstGeom prst="line">
            <a:avLst/>
          </a:prstGeom>
          <a:ln w="190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3252960" y="5551560"/>
            <a:ext cx="4572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724200" y="5437080"/>
            <a:ext cx="214560" cy="179640"/>
          </a:xfrm>
          <a:prstGeom prst="star5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243320" y="4689360"/>
            <a:ext cx="1177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"/>
              </a:rPr>
              <a:t>Spend the </a:t>
            </a:r>
            <a:r>
              <a:rPr b="0" i="1" lang="en-US" sz="1200" spc="-1" strike="noStrike" u="sng">
                <a:solidFill>
                  <a:srgbClr val="0000ff"/>
                </a:solidFill>
                <a:uFillTx/>
                <a:latin typeface="Arial"/>
              </a:rPr>
              <a:t>same</a:t>
            </a:r>
            <a:r>
              <a:rPr b="0" i="1" lang="en-US" sz="1200" spc="-1" strike="noStrike">
                <a:solidFill>
                  <a:srgbClr val="0000ff"/>
                </a:solidFill>
                <a:latin typeface="Arial"/>
              </a:rPr>
              <a:t> amount to capture more pro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776840" y="5619600"/>
            <a:ext cx="117468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"/>
              </a:rPr>
              <a:t>Spend </a:t>
            </a:r>
            <a:r>
              <a:rPr b="0" i="1" lang="en-US" sz="1200" spc="-1" strike="noStrike" u="sng">
                <a:solidFill>
                  <a:srgbClr val="0000ff"/>
                </a:solidFill>
                <a:uFillTx/>
                <a:latin typeface="Arial"/>
              </a:rPr>
              <a:t>less</a:t>
            </a:r>
            <a:r>
              <a:rPr b="0" i="1" lang="en-US" sz="1200" spc="-1" strike="noStrike">
                <a:solidFill>
                  <a:srgbClr val="0000ff"/>
                </a:solidFill>
                <a:latin typeface="Arial"/>
              </a:rPr>
              <a:t> to achieve the same </a:t>
            </a:r>
            <a:r>
              <a:rPr b="0" i="1" lang="en-US" sz="12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ff"/>
                </a:solidFill>
                <a:latin typeface="Arial"/>
              </a:rPr>
              <a:t>amount of pro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308640" y="4498920"/>
            <a:ext cx="2024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fficient frontier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--    the most optimal mix of marketing le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rot="16200000">
            <a:off x="1498680" y="5301720"/>
            <a:ext cx="2378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rofit 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965320" y="4403880"/>
            <a:ext cx="1800" cy="200808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847960" y="6505560"/>
            <a:ext cx="3700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arketing Expense/Revenue 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268360" y="3551400"/>
            <a:ext cx="58881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Within the Marketing Spend, There Is an Optimal Mix Which Yields the Most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2965320" y="1288800"/>
            <a:ext cx="1800" cy="185868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954160" y="6409440"/>
            <a:ext cx="3289320" cy="18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954160" y="3146400"/>
            <a:ext cx="3289320" cy="144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rot="16200000">
            <a:off x="1648800" y="2025720"/>
            <a:ext cx="2078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Reven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790720" y="3209760"/>
            <a:ext cx="3700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arketing Inves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038400" y="1506600"/>
            <a:ext cx="3062520" cy="1493640"/>
          </a:xfrm>
          <a:custGeom>
            <a:avLst/>
            <a:gdLst/>
            <a:ahLst/>
            <a:rect l="l" t="t" r="r" b="b"/>
            <a:pathLst>
              <a:path w="3936" h="2216">
                <a:moveTo>
                  <a:pt x="0" y="2216"/>
                </a:moveTo>
                <a:cubicBezTo>
                  <a:pt x="128" y="2212"/>
                  <a:pt x="256" y="2208"/>
                  <a:pt x="432" y="2120"/>
                </a:cubicBezTo>
                <a:cubicBezTo>
                  <a:pt x="608" y="2032"/>
                  <a:pt x="864" y="1960"/>
                  <a:pt x="1056" y="1688"/>
                </a:cubicBezTo>
                <a:cubicBezTo>
                  <a:pt x="1248" y="1416"/>
                  <a:pt x="1400" y="752"/>
                  <a:pt x="1584" y="488"/>
                </a:cubicBezTo>
                <a:cubicBezTo>
                  <a:pt x="1768" y="224"/>
                  <a:pt x="1904" y="184"/>
                  <a:pt x="2160" y="104"/>
                </a:cubicBezTo>
                <a:cubicBezTo>
                  <a:pt x="2416" y="24"/>
                  <a:pt x="2880" y="16"/>
                  <a:pt x="3120" y="8"/>
                </a:cubicBezTo>
                <a:cubicBezTo>
                  <a:pt x="3360" y="0"/>
                  <a:pt x="3464" y="24"/>
                  <a:pt x="3600" y="56"/>
                </a:cubicBezTo>
                <a:cubicBezTo>
                  <a:pt x="3736" y="88"/>
                  <a:pt x="3836" y="144"/>
                  <a:pt x="3936" y="2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267080" y="1967040"/>
            <a:ext cx="3213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173160" indent="-173160">
              <a:spcBef>
                <a:spcPts val="37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"/>
              </a:rPr>
              <a:t>It is difficult to know precise curve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7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"/>
              </a:rPr>
              <a:t>And the curve varies -- by marketing lever, offering, country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7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"/>
              </a:rPr>
              <a:t>Return may even drop at some point            (e.g. advertising over-expos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165720" y="1243080"/>
            <a:ext cx="2311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arket response curve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– return on different levels    of marketing spe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635280" y="2467080"/>
            <a:ext cx="320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50731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016160" y="1857240"/>
            <a:ext cx="320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50731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 rot="10800000">
            <a:off x="2948040" y="4523760"/>
            <a:ext cx="3047040" cy="380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 flipV="1" rot="10800000">
            <a:off x="2948400" y="4523760"/>
            <a:ext cx="3047760" cy="380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862440" y="5514840"/>
            <a:ext cx="1263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rrent E/R, Profit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 flipV="1">
            <a:off x="3829680" y="4708080"/>
            <a:ext cx="1800" cy="71316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024360" y="1552680"/>
            <a:ext cx="2971800" cy="1447560"/>
          </a:xfrm>
          <a:custGeom>
            <a:avLst/>
            <a:gdLst/>
            <a:ahLst/>
            <a:rect l="l" t="t" r="r" b="b"/>
            <a:pathLst>
              <a:path w="1872" h="864">
                <a:moveTo>
                  <a:pt x="0" y="864"/>
                </a:moveTo>
                <a:cubicBezTo>
                  <a:pt x="68" y="664"/>
                  <a:pt x="136" y="464"/>
                  <a:pt x="240" y="336"/>
                </a:cubicBezTo>
                <a:cubicBezTo>
                  <a:pt x="344" y="208"/>
                  <a:pt x="352" y="152"/>
                  <a:pt x="624" y="96"/>
                </a:cubicBezTo>
                <a:cubicBezTo>
                  <a:pt x="896" y="40"/>
                  <a:pt x="1384" y="20"/>
                  <a:pt x="1872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4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6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tion Model: Flow &amp; Key Assum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486080" y="1542960"/>
            <a:ext cx="990360" cy="838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733920" y="1542960"/>
            <a:ext cx="914400" cy="838440"/>
          </a:xfrm>
          <a:prstGeom prst="rect">
            <a:avLst/>
          </a:prstGeom>
          <a:solidFill>
            <a:srgbClr val="c5073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809880" y="1695600"/>
            <a:ext cx="762120" cy="609480"/>
          </a:xfrm>
          <a:custGeom>
            <a:avLst/>
            <a:gdLst/>
            <a:ahLst/>
            <a:rect l="l" t="t" r="r" b="b"/>
            <a:pathLst>
              <a:path w="480" h="304">
                <a:moveTo>
                  <a:pt x="0" y="304"/>
                </a:moveTo>
                <a:cubicBezTo>
                  <a:pt x="8" y="232"/>
                  <a:pt x="16" y="160"/>
                  <a:pt x="48" y="112"/>
                </a:cubicBezTo>
                <a:cubicBezTo>
                  <a:pt x="80" y="64"/>
                  <a:pt x="120" y="32"/>
                  <a:pt x="192" y="16"/>
                </a:cubicBezTo>
                <a:cubicBezTo>
                  <a:pt x="264" y="0"/>
                  <a:pt x="372" y="8"/>
                  <a:pt x="480" y="16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629400" y="5334120"/>
            <a:ext cx="313524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759720" y="5457960"/>
            <a:ext cx="261720" cy="245880"/>
          </a:xfrm>
          <a:prstGeom prst="rect">
            <a:avLst/>
          </a:prstGeom>
          <a:solidFill>
            <a:srgbClr val="ccff99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086600" y="545796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on Variables (Optim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759720" y="5826240"/>
            <a:ext cx="261720" cy="245880"/>
          </a:xfrm>
          <a:prstGeom prst="rect">
            <a:avLst/>
          </a:prstGeom>
          <a:solidFill>
            <a:srgbClr val="c50731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086600" y="5826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ally Derived Assum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759720" y="6195960"/>
            <a:ext cx="261720" cy="24624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086600" y="619596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ing-Driven Assum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590920" y="1542960"/>
            <a:ext cx="990360" cy="838440"/>
          </a:xfrm>
          <a:prstGeom prst="rect">
            <a:avLst/>
          </a:prstGeom>
          <a:solidFill>
            <a:srgbClr val="ca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t Per Stim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57200" y="154296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57200" y="21528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4799880" y="1523880"/>
            <a:ext cx="304920" cy="9334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4120 h 933480"/>
              <a:gd name="textAreaBottom" fmla="*/ 90936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343480" y="1542960"/>
            <a:ext cx="990720" cy="838440"/>
          </a:xfrm>
          <a:prstGeom prst="rect">
            <a:avLst/>
          </a:prstGeom>
          <a:solidFill>
            <a:srgbClr val="f8f8f8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69696"/>
                </a:solidFill>
                <a:latin typeface="Arial"/>
              </a:rPr>
              <a:t>Potential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486080" y="2936880"/>
            <a:ext cx="990360" cy="838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733920" y="2936880"/>
            <a:ext cx="914400" cy="838080"/>
          </a:xfrm>
          <a:prstGeom prst="rect">
            <a:avLst/>
          </a:prstGeom>
          <a:solidFill>
            <a:srgbClr val="c5073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809880" y="3089160"/>
            <a:ext cx="762120" cy="609840"/>
          </a:xfrm>
          <a:custGeom>
            <a:avLst/>
            <a:gdLst/>
            <a:ahLst/>
            <a:rect l="l" t="t" r="r" b="b"/>
            <a:pathLst>
              <a:path w="480" h="304">
                <a:moveTo>
                  <a:pt x="0" y="304"/>
                </a:moveTo>
                <a:cubicBezTo>
                  <a:pt x="8" y="232"/>
                  <a:pt x="16" y="160"/>
                  <a:pt x="48" y="112"/>
                </a:cubicBezTo>
                <a:cubicBezTo>
                  <a:pt x="80" y="64"/>
                  <a:pt x="120" y="32"/>
                  <a:pt x="192" y="16"/>
                </a:cubicBezTo>
                <a:cubicBezTo>
                  <a:pt x="264" y="0"/>
                  <a:pt x="372" y="8"/>
                  <a:pt x="480" y="16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590920" y="2936880"/>
            <a:ext cx="990360" cy="838080"/>
          </a:xfrm>
          <a:prstGeom prst="rect">
            <a:avLst/>
          </a:prstGeom>
          <a:solidFill>
            <a:srgbClr val="ca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t P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im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" y="29368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57200" y="3546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ps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4799880" y="2917800"/>
            <a:ext cx="304920" cy="9334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4120 h 933480"/>
              <a:gd name="textAreaBottom" fmla="*/ 90936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343480" y="2936880"/>
            <a:ext cx="990720" cy="838080"/>
          </a:xfrm>
          <a:prstGeom prst="rect">
            <a:avLst/>
          </a:prstGeom>
          <a:solidFill>
            <a:srgbClr val="f8f8f8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69696"/>
                </a:solidFill>
                <a:latin typeface="Arial"/>
              </a:rPr>
              <a:t>Basic Service Customer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079960" y="2378160"/>
            <a:ext cx="153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rder to get marginal customers as market share goes 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079960" y="3809880"/>
            <a:ext cx="1538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comes smaller moving forwa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143840" y="1963800"/>
            <a:ext cx="1933560" cy="153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400800" y="2003400"/>
            <a:ext cx="696960" cy="696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6342120" y="2742840"/>
            <a:ext cx="744480" cy="6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467480" y="1973160"/>
            <a:ext cx="0" cy="1509840"/>
          </a:xfrm>
          <a:prstGeom prst="line">
            <a:avLst/>
          </a:prstGeom>
          <a:ln w="9360">
            <a:solidFill>
              <a:srgbClr val="caca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816680" y="1973160"/>
            <a:ext cx="0" cy="1509840"/>
          </a:xfrm>
          <a:prstGeom prst="line">
            <a:avLst/>
          </a:prstGeom>
          <a:ln w="9360">
            <a:solidFill>
              <a:srgbClr val="caca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8150400" y="1973160"/>
            <a:ext cx="0" cy="1509840"/>
          </a:xfrm>
          <a:prstGeom prst="line">
            <a:avLst/>
          </a:prstGeom>
          <a:ln w="9360">
            <a:solidFill>
              <a:srgbClr val="caca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8483760" y="1973160"/>
            <a:ext cx="0" cy="1509840"/>
          </a:xfrm>
          <a:prstGeom prst="line">
            <a:avLst/>
          </a:prstGeom>
          <a:ln w="9360">
            <a:solidFill>
              <a:srgbClr val="caca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8788320" y="1973160"/>
            <a:ext cx="0" cy="1509840"/>
          </a:xfrm>
          <a:prstGeom prst="line">
            <a:avLst/>
          </a:prstGeom>
          <a:ln w="9360">
            <a:solidFill>
              <a:srgbClr val="caca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7162560" y="2209680"/>
            <a:ext cx="1904760" cy="1800"/>
          </a:xfrm>
          <a:prstGeom prst="line">
            <a:avLst/>
          </a:prstGeom>
          <a:ln w="9360">
            <a:solidFill>
              <a:srgbClr val="caca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7162560" y="2514600"/>
            <a:ext cx="1904760" cy="1440"/>
          </a:xfrm>
          <a:prstGeom prst="line">
            <a:avLst/>
          </a:prstGeom>
          <a:ln w="9360">
            <a:solidFill>
              <a:srgbClr val="caca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7162560" y="2819520"/>
            <a:ext cx="1904760" cy="1440"/>
          </a:xfrm>
          <a:prstGeom prst="line">
            <a:avLst/>
          </a:prstGeom>
          <a:ln w="9360">
            <a:solidFill>
              <a:srgbClr val="caca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7162560" y="3124080"/>
            <a:ext cx="1904760" cy="1800"/>
          </a:xfrm>
          <a:prstGeom prst="line">
            <a:avLst/>
          </a:prstGeom>
          <a:ln w="9360">
            <a:solidFill>
              <a:srgbClr val="caca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7162560" y="3352680"/>
            <a:ext cx="1904760" cy="1800"/>
          </a:xfrm>
          <a:prstGeom prst="line">
            <a:avLst/>
          </a:prstGeom>
          <a:ln w="9360">
            <a:solidFill>
              <a:srgbClr val="caca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391520" y="2209680"/>
            <a:ext cx="144756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y Age, Acq. Channe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vs. Upsold vs. Win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486080" y="4419720"/>
            <a:ext cx="990360" cy="838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733920" y="4419720"/>
            <a:ext cx="914400" cy="838080"/>
          </a:xfrm>
          <a:prstGeom prst="rect">
            <a:avLst/>
          </a:prstGeom>
          <a:solidFill>
            <a:srgbClr val="c5073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809880" y="4572000"/>
            <a:ext cx="762120" cy="609480"/>
          </a:xfrm>
          <a:custGeom>
            <a:avLst/>
            <a:gdLst/>
            <a:ahLst/>
            <a:rect l="l" t="t" r="r" b="b"/>
            <a:pathLst>
              <a:path w="480" h="304">
                <a:moveTo>
                  <a:pt x="0" y="304"/>
                </a:moveTo>
                <a:cubicBezTo>
                  <a:pt x="8" y="232"/>
                  <a:pt x="16" y="160"/>
                  <a:pt x="48" y="112"/>
                </a:cubicBezTo>
                <a:cubicBezTo>
                  <a:pt x="80" y="64"/>
                  <a:pt x="120" y="32"/>
                  <a:pt x="192" y="16"/>
                </a:cubicBezTo>
                <a:cubicBezTo>
                  <a:pt x="264" y="0"/>
                  <a:pt x="372" y="8"/>
                  <a:pt x="480" y="16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590920" y="4419720"/>
            <a:ext cx="990360" cy="838080"/>
          </a:xfrm>
          <a:prstGeom prst="rect">
            <a:avLst/>
          </a:prstGeom>
          <a:solidFill>
            <a:srgbClr val="ca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t P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im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57200" y="44197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57200" y="5029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4799880" y="4400640"/>
            <a:ext cx="304920" cy="9334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4120 h 933480"/>
              <a:gd name="textAreaBottom" fmla="*/ 909360 h 93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rot="18900000">
            <a:off x="6237720" y="303192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old Custom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rot="2700000">
            <a:off x="6290280" y="193464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Custom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2971800" y="3809880"/>
            <a:ext cx="9907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2971800" y="2361960"/>
            <a:ext cx="1066680" cy="1904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620120" y="3733920"/>
            <a:ext cx="990360" cy="838080"/>
          </a:xfrm>
          <a:prstGeom prst="rect">
            <a:avLst/>
          </a:prstGeom>
          <a:solidFill>
            <a:srgbClr val="ca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8610480" y="4191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8991720" y="3870360"/>
            <a:ext cx="10666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c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g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772400" y="3352680"/>
            <a:ext cx="30492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8229600" y="3352320"/>
            <a:ext cx="22068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971800" y="4267080"/>
            <a:ext cx="457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105520" y="4343400"/>
            <a:ext cx="1984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reasing Acquisition Quality and thus Ret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295280" y="5791320"/>
            <a:ext cx="2057400" cy="7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Bef>
                <a:spcPts val="451"/>
              </a:spcBef>
              <a:buClr>
                <a:srgbClr val="c5073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c5073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Qu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c5073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28600" y="57913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m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505320" y="57913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648320" y="5791320"/>
            <a:ext cx="190476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Bef>
                <a:spcPts val="451"/>
              </a:spcBef>
              <a:buClr>
                <a:srgbClr val="c5073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CC: 1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c5073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ation: 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c5073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GS/Month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y Customer 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886200" y="19080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sponse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886200" y="33019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sponse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886200" y="478476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sponse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We Determine Profi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57200" y="2330280"/>
            <a:ext cx="5410080" cy="2718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327800" y="2678040"/>
            <a:ext cx="1263600" cy="766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imul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# Impress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ime Period 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192320" y="2608200"/>
            <a:ext cx="1263600" cy="766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# Impress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ime Period 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192320" y="3794040"/>
            <a:ext cx="1263600" cy="766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mplied Respon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om Tai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628640" y="3375000"/>
            <a:ext cx="3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327800" y="3863880"/>
            <a:ext cx="1263600" cy="766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st 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imul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ime Period 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810560" y="3514680"/>
            <a:ext cx="3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553080" y="2468520"/>
            <a:ext cx="2428920" cy="2371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673680" y="2120760"/>
            <a:ext cx="23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keting Inves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146240" y="1981080"/>
            <a:ext cx="413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rect Return (Post Marketing Prof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5492160" y="2398680"/>
            <a:ext cx="276120" cy="2509920"/>
          </a:xfrm>
          <a:custGeom>
            <a:avLst/>
            <a:gdLst>
              <a:gd name="textAreaLeft" fmla="*/ 176040 w 276120"/>
              <a:gd name="textAreaRight" fmla="*/ 276120 w 276120"/>
              <a:gd name="textAreaTop" fmla="*/ 65160 h 2509920"/>
              <a:gd name="textAreaBottom" fmla="*/ 2444760 h 250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976560" y="2438280"/>
            <a:ext cx="1378080" cy="1076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-Year Discoun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ustomer Lif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d on Order Channel, Cust Ty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976560" y="3863880"/>
            <a:ext cx="1378080" cy="976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thly Custom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st-Marketing Profit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527720" y="3514680"/>
            <a:ext cx="3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632040" y="2398680"/>
            <a:ext cx="274680" cy="2509920"/>
          </a:xfrm>
          <a:custGeom>
            <a:avLst/>
            <a:gdLst>
              <a:gd name="textAreaLeft" fmla="*/ 175680 w 274680"/>
              <a:gd name="textAreaRight" fmla="*/ 275040 w 274680"/>
              <a:gd name="textAreaTop" fmla="*/ 65160 h 2509920"/>
              <a:gd name="textAreaBottom" fmla="*/ 2444760 h 250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811600" y="3444840"/>
            <a:ext cx="9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P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71560" y="2398680"/>
            <a:ext cx="274680" cy="2509920"/>
          </a:xfrm>
          <a:custGeom>
            <a:avLst/>
            <a:gdLst>
              <a:gd name="textAreaLeft" fmla="*/ 175680 w 274680"/>
              <a:gd name="textAreaRight" fmla="*/ 275040 w 274680"/>
              <a:gd name="textAreaTop" fmla="*/ 65160 h 2509920"/>
              <a:gd name="textAreaBottom" fmla="*/ 2444760 h 250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2455200" y="2398680"/>
            <a:ext cx="276120" cy="2509920"/>
          </a:xfrm>
          <a:custGeom>
            <a:avLst/>
            <a:gdLst>
              <a:gd name="textAreaLeft" fmla="*/ 176040 w 276120"/>
              <a:gd name="textAreaRight" fmla="*/ 276120 w 276120"/>
              <a:gd name="textAreaTop" fmla="*/ 65160 h 2509920"/>
              <a:gd name="textAreaBottom" fmla="*/ 2444760 h 250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553080" y="3305160"/>
            <a:ext cx="346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5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57200" y="3305160"/>
            <a:ext cx="3445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5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666880" y="3514680"/>
            <a:ext cx="3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6019920" y="3200400"/>
            <a:ext cx="457200" cy="101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040520" y="2678040"/>
            <a:ext cx="274680" cy="2022480"/>
          </a:xfrm>
          <a:custGeom>
            <a:avLst/>
            <a:gdLst>
              <a:gd name="textAreaLeft" fmla="*/ 175680 w 274680"/>
              <a:gd name="textAreaRight" fmla="*/ 275040 w 274680"/>
              <a:gd name="textAreaTop" fmla="*/ 52560 h 2022480"/>
              <a:gd name="textAreaBottom" fmla="*/ 1969920 h 202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8637480" y="2678040"/>
            <a:ext cx="276480" cy="2022480"/>
          </a:xfrm>
          <a:custGeom>
            <a:avLst/>
            <a:gdLst>
              <a:gd name="textAreaLeft" fmla="*/ 176760 w 276480"/>
              <a:gd name="textAreaRight" fmla="*/ 276840 w 276480"/>
              <a:gd name="textAreaTop" fmla="*/ 52560 h 2022480"/>
              <a:gd name="textAreaBottom" fmla="*/ 1969920 h 202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2280" y="2120760"/>
            <a:ext cx="274680" cy="3137040"/>
          </a:xfrm>
          <a:custGeom>
            <a:avLst/>
            <a:gdLst>
              <a:gd name="textAreaLeft" fmla="*/ 175680 w 274680"/>
              <a:gd name="textAreaRight" fmla="*/ 275040 w 274680"/>
              <a:gd name="textAreaTop" fmla="*/ 81720 h 3137040"/>
              <a:gd name="textAreaBottom" fmla="*/ 3055320 h 313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8981280" y="2120760"/>
            <a:ext cx="274680" cy="3137040"/>
          </a:xfrm>
          <a:custGeom>
            <a:avLst/>
            <a:gdLst>
              <a:gd name="textAreaLeft" fmla="*/ 175320 w 274680"/>
              <a:gd name="textAreaRight" fmla="*/ 274680 w 274680"/>
              <a:gd name="textAreaTop" fmla="*/ 81720 h 3137040"/>
              <a:gd name="textAreaBottom" fmla="*/ 3055320 h 313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9118440" y="3305160"/>
            <a:ext cx="939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- 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07960" y="1104840"/>
            <a:ext cx="90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OMI (Return on Marketing Invest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6520" y="320400"/>
            <a:ext cx="89996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lation Matrix Summary: Statistical Analysis Allows Us to Pinpoint Interaction Eff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882880" y="14670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imulus Channels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Varying La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rot="16200000">
            <a:off x="-1392840" y="348228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ponse Cha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0" y="6705720"/>
            <a:ext cx="100584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495360" y="1879560"/>
          <a:ext cx="9372600" cy="3861000"/>
        </p:xfrm>
        <a:graphic>
          <a:graphicData uri="http://schemas.openxmlformats.org/drawingml/2006/table">
            <a:tbl>
              <a:tblPr/>
              <a:tblGrid>
                <a:gridCol w="1184040"/>
                <a:gridCol w="797040"/>
                <a:gridCol w="762120"/>
                <a:gridCol w="762120"/>
                <a:gridCol w="990360"/>
                <a:gridCol w="762120"/>
                <a:gridCol w="838080"/>
                <a:gridCol w="838440"/>
                <a:gridCol w="761760"/>
                <a:gridCol w="838440"/>
                <a:gridCol w="8380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-B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-M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-Upse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ine Prospec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 (Upsel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-Ups (Upsel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 Me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-Ac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 Upse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2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ine 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0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0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ine Upsel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02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0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2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1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0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 Me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1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1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t 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2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3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2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6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0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TM Upse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1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1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5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EM 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0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P N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1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P Upse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1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3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-0.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3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cacaca"/>
                          </a:solidFill>
                          <a:latin typeface="Arial"/>
                        </a:rPr>
                        <a:t>0.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4" name=""/>
          <p:cNvSpPr/>
          <p:nvPr/>
        </p:nvSpPr>
        <p:spPr>
          <a:xfrm>
            <a:off x="507960" y="6060960"/>
            <a:ext cx="63356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ck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ression eff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ellow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 eff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ey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ignific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1"/>
          <a:srcRect l="0" t="6856" r="1562" b="7919"/>
          <a:stretch/>
        </p:blipFill>
        <p:spPr>
          <a:xfrm>
            <a:off x="152280" y="730080"/>
            <a:ext cx="9601200" cy="623412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/>
          <p:nvPr/>
        </p:nvSpPr>
        <p:spPr>
          <a:xfrm>
            <a:off x="279360" y="752400"/>
            <a:ext cx="1771560" cy="1106640"/>
          </a:xfrm>
          <a:prstGeom prst="rect">
            <a:avLst/>
          </a:prstGeom>
          <a:noFill/>
          <a:ln w="2844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09600" y="932040"/>
            <a:ext cx="1681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0731"/>
                </a:solidFill>
                <a:latin typeface="Arial"/>
              </a:rPr>
              <a:t>Key Model Inpu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79360" y="1932120"/>
            <a:ext cx="2979720" cy="988920"/>
          </a:xfrm>
          <a:prstGeom prst="rect">
            <a:avLst/>
          </a:prstGeom>
          <a:noFill/>
          <a:ln w="2844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030560" y="2046240"/>
            <a:ext cx="1681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0731"/>
                </a:solidFill>
                <a:latin typeface="Arial"/>
              </a:rPr>
              <a:t>P&amp;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1" name=""/>
          <p:cNvCxnSpPr>
            <a:stCxn id="730" idx="2"/>
            <a:endCxn id="729" idx="3"/>
          </p:cNvCxnSpPr>
          <p:nvPr/>
        </p:nvCxnSpPr>
        <p:spPr>
          <a:xfrm rot="5400000">
            <a:off x="4034160" y="1589760"/>
            <a:ext cx="76680" cy="1599120"/>
          </a:xfrm>
          <a:prstGeom prst="bentConnector2">
            <a:avLst/>
          </a:prstGeom>
          <a:ln w="28440">
            <a:solidFill>
              <a:srgbClr val="c50731"/>
            </a:solidFill>
            <a:miter/>
            <a:tailEnd len="med" type="triangle" w="med"/>
          </a:ln>
        </p:spPr>
      </p:cxnSp>
      <p:sp>
        <p:nvSpPr>
          <p:cNvPr id="732" name=""/>
          <p:cNvSpPr/>
          <p:nvPr/>
        </p:nvSpPr>
        <p:spPr>
          <a:xfrm>
            <a:off x="279360" y="2978280"/>
            <a:ext cx="9453600" cy="825480"/>
          </a:xfrm>
          <a:prstGeom prst="rect">
            <a:avLst/>
          </a:prstGeom>
          <a:noFill/>
          <a:ln w="2844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346800" y="2046240"/>
            <a:ext cx="2270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0731"/>
                </a:solidFill>
                <a:latin typeface="Arial"/>
              </a:rPr>
              <a:t>TV &amp; Radio Inpu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stCxn id="733" idx="2"/>
            <a:endCxn id="732" idx="0"/>
          </p:cNvCxnSpPr>
          <p:nvPr/>
        </p:nvCxnSpPr>
        <p:spPr>
          <a:xfrm rot="5400000">
            <a:off x="5937120" y="1419840"/>
            <a:ext cx="613440" cy="2475720"/>
          </a:xfrm>
          <a:prstGeom prst="bentConnector3">
            <a:avLst>
              <a:gd name="adj1" fmla="val 51027"/>
            </a:avLst>
          </a:prstGeom>
          <a:ln w="28440">
            <a:solidFill>
              <a:srgbClr val="c50731"/>
            </a:solidFill>
            <a:miter/>
            <a:tailEnd len="med" type="triangle" w="med"/>
          </a:ln>
        </p:spPr>
      </p:cxnSp>
      <p:sp>
        <p:nvSpPr>
          <p:cNvPr id="735" name=""/>
          <p:cNvSpPr/>
          <p:nvPr/>
        </p:nvSpPr>
        <p:spPr>
          <a:xfrm>
            <a:off x="279360" y="3862440"/>
            <a:ext cx="9453600" cy="825480"/>
          </a:xfrm>
          <a:prstGeom prst="rect">
            <a:avLst/>
          </a:prstGeom>
          <a:noFill/>
          <a:ln w="2844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38400" y="752400"/>
            <a:ext cx="4602240" cy="1106640"/>
          </a:xfrm>
          <a:prstGeom prst="rect">
            <a:avLst/>
          </a:prstGeom>
          <a:noFill/>
          <a:ln w="2844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418520" y="831960"/>
            <a:ext cx="1681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0731"/>
                </a:solidFill>
                <a:latin typeface="Arial"/>
              </a:rPr>
              <a:t>Retention 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8" name=""/>
          <p:cNvCxnSpPr>
            <a:stCxn id="737" idx="2"/>
            <a:endCxn id="736" idx="3"/>
          </p:cNvCxnSpPr>
          <p:nvPr/>
        </p:nvCxnSpPr>
        <p:spPr>
          <a:xfrm rot="5400000">
            <a:off x="7421400" y="468720"/>
            <a:ext cx="170640" cy="1505880"/>
          </a:xfrm>
          <a:prstGeom prst="bentConnector2">
            <a:avLst/>
          </a:prstGeom>
          <a:ln w="28440">
            <a:solidFill>
              <a:srgbClr val="c50731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279360" y="4734000"/>
            <a:ext cx="9453600" cy="2241360"/>
          </a:xfrm>
          <a:prstGeom prst="rect">
            <a:avLst/>
          </a:prstGeom>
          <a:noFill/>
          <a:ln w="2844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646600" y="6543720"/>
            <a:ext cx="3111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0731"/>
                </a:solidFill>
                <a:latin typeface="Arial"/>
              </a:rPr>
              <a:t>Customer Balance She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11120" y="199800"/>
            <a:ext cx="9121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r Dialo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23360" y="1199880"/>
            <a:ext cx="9186840" cy="5675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190440" indent="-19044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ep profit positive in each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ep total spend lower than a “realistic” budget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ver allow spend to decr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imize NPV of pro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1"/>
          <a:srcRect l="0" t="0" r="14645" b="0"/>
          <a:stretch/>
        </p:blipFill>
        <p:spPr>
          <a:xfrm>
            <a:off x="2751120" y="3130560"/>
            <a:ext cx="7029360" cy="3516480"/>
          </a:xfrm>
          <a:prstGeom prst="rect">
            <a:avLst/>
          </a:prstGeom>
          <a:ln w="28440">
            <a:solidFill>
              <a:srgbClr val="c50731"/>
            </a:solidFill>
            <a:miter/>
          </a:ln>
        </p:spPr>
      </p:pic>
      <p:pic>
        <p:nvPicPr>
          <p:cNvPr id="744" name="" descr=""/>
          <p:cNvPicPr/>
          <p:nvPr/>
        </p:nvPicPr>
        <p:blipFill>
          <a:blip r:embed="rId2"/>
          <a:srcRect l="26191" t="13585" r="28779" b="55382"/>
          <a:stretch/>
        </p:blipFill>
        <p:spPr>
          <a:xfrm>
            <a:off x="263520" y="2752560"/>
            <a:ext cx="4392720" cy="2270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45" name=""/>
          <p:cNvSpPr/>
          <p:nvPr/>
        </p:nvSpPr>
        <p:spPr>
          <a:xfrm>
            <a:off x="1387440" y="3265560"/>
            <a:ext cx="3367080" cy="3168720"/>
          </a:xfrm>
          <a:prstGeom prst="line">
            <a:avLst/>
          </a:prstGeom>
          <a:ln w="38160">
            <a:solidFill>
              <a:srgbClr val="c507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884160" y="3006720"/>
            <a:ext cx="1249560" cy="258840"/>
          </a:xfrm>
          <a:prstGeom prst="rect">
            <a:avLst/>
          </a:prstGeom>
          <a:noFill/>
          <a:ln w="38160">
            <a:solidFill>
              <a:srgbClr val="c50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8T19:38:37Z</dcterms:created>
  <dc:creator>Bill Sheldon</dc:creator>
  <dc:description>Presentation for review with Deirdre Bigley, Anthony Michelini, Margaret McKinley, Steve Mello on January 5, 2004</dc:description>
  <dc:language>en-US</dc:language>
  <cp:lastModifiedBy> ahasselwander</cp:lastModifiedBy>
  <cp:lastPrinted>2000-10-12T03:57:41Z</cp:lastPrinted>
  <dcterms:modified xsi:type="dcterms:W3CDTF">2004-08-06T02:31:33Z</dcterms:modified>
  <cp:revision>675</cp:revision>
  <dc:subject>IBM IGS Marketing Optimization</dc:subject>
  <dc:title>IGS Marketing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hecked By">
    <vt:lpwstr>MarketBridge Corp.</vt:lpwstr>
  </property>
  <property fmtid="{D5CDD505-2E9C-101B-9397-08002B2CF9AE}" pid="3" name="Owner">
    <vt:lpwstr>MarketBridge Corp.</vt:lpwstr>
  </property>
</Properties>
</file>