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95F-7448-4EF6-898C-DD861992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557-A510-4416-85BD-8DD07187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033-ECE7-4E26-B974-6D5DFBBA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7B5-FC3D-47CB-BDA2-0A038D30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75CF-5F33-40E1-9D7B-1F22D1C3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0F8C-2DB2-4D2C-8191-1736D033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6224-8FDA-4E3A-AECE-5CDB38E2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BE0E-1932-48F8-8358-7616234A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A7CE-6A7A-48F6-9B29-5EFE22CD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B4F3-482E-4331-A97F-5A9973AD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08C5-7F12-4938-A9ED-1B181A32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BF0-ED45-46E4-8423-FBD5615D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C24D-E957-4286-8B8D-44502236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FE71-A69F-4128-9269-B08A06A4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EA5A-6814-438F-B52F-C730BEC0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AD81-71F7-4304-B8CF-E18DFC12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7154-755B-4BD4-BD31-7E2A581D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7D63-14F4-437D-85B7-A726607D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ECD-9CC3-4A20-BF36-5DA0B977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E24-0A11-476A-B435-98943DE1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8CF-BB42-442B-84F7-04DB8CC8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DD4-069F-4E8D-BFAE-59D17015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E6B-F8C1-4062-936B-76358507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04F-A590-48C1-A8CA-CEE6BE19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11F2-2B8F-4F61-96C8-1E2637731D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AD12-0DB7-4AA2-AC2E-B62593C3F24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Using Simulation in an Occupational Health Practice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mon J. Samah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MBA J0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ision Model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imulation project and issues fac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sues fa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ff was reluctant and did not like the idea of someone timing and collecting data about their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istics collected were inaccurate beca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r service defin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d not always discriminate between walk-ins and schedul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entry was not accur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 &amp; motion study was incomplete and for one week on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551-5578-44E0-9EC7-377E6EEEFE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imulation project and issues fac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too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bedding variables inside processes definition was chall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rule-based processes was chall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the user interface was chall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ble to figure out how to combine two  resources (nurse and ro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E83-9913-4907-A40A-7754033DBB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171-34F8-42C8-97B0-4EE939B58F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design(Exten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types of entities are cre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entity is assign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co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dicating the resource consumption of registration, nursing and 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Throw/catch to direct registration into 3 catego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ined flow out of regi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E82-31F9-41BD-9FF1-400D571E96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design(Exten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Get Value to determine nursing us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ined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Get Value to test whether required physician time if not discharge, otherw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Time sensor to determine time in th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E35-5FF2-42E1-966D-552FAEA3A7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design(Exten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x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ble to analyze based on entity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0A5-3BB2-484D-9458-1D21E2EC99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design(Arena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696080" cy="50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786-F8DA-4B0C-809D-5CE2190801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design(Arena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2362320"/>
          <a:ext cx="8305920" cy="294624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480"/>
                <a:gridCol w="20764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rriv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imum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ty per arr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eduled follow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angular(14,18,2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eduled N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angular(40,50,7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lk-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son(2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_unsched (variable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Physic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angular(12,16,2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838080" y="5638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_unsched set initially at 10 and then used in optimiz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B8B-00BD-43E2-9180-87BF646BA0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design(Arena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str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ed Capac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ed Capac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r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ed Capac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ed Capac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C43-9CB7-4967-8CBC-F412E9B558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design(Arena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es: used triangular distribution (min, mode, max) in min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971800"/>
          <a:ext cx="8076960" cy="3159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8880"/>
                <a:gridCol w="20196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s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r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ysic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eduled follow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,12,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8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eduled N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,17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,12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lk-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,17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8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,2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Physic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,17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,30,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CCA-9AB5-4419-8EA0-AA0C9E19C4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ver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an occupational health clinic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ion project and issues fac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m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comes and next ste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4D9-2F46-409A-B742-0FCCCA6833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design(Arena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set-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 hours per day (to make sure all entities cle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0 ru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830-1CFB-4239-A3BF-707074F93F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ind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physician (2) + walk-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 # patient/day: 6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8381880" cy="34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827-C7A6-427F-ABF4-C60333BB32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ind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001000" cy="4125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848720" y="2590920"/>
            <a:ext cx="53316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380880"/>
            <a:ext cx="2133360" cy="685800"/>
          </a:xfrm>
          <a:prstGeom prst="wedgeRectCallout">
            <a:avLst>
              <a:gd name="adj1" fmla="val 40773"/>
              <a:gd name="adj2" fmla="val 2710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ds never used at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095-6E42-48F1-8734-6D8385C175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ind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physician (1) + walk-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 # patient/day: 6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458200" cy="4125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9520" y="2590920"/>
            <a:ext cx="990360" cy="1371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609480"/>
            <a:ext cx="2133720" cy="685800"/>
          </a:xfrm>
          <a:prstGeom prst="wedgeRectCallout">
            <a:avLst>
              <a:gd name="adj1" fmla="val -43518"/>
              <a:gd name="adj2" fmla="val 2444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me increased by ~ 0.2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9D8-B3C2-4A14-A46A-720EC571E3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ind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1936800"/>
            <a:ext cx="8001000" cy="4311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381880" y="2438280"/>
            <a:ext cx="53352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762120"/>
            <a:ext cx="2133720" cy="685800"/>
          </a:xfrm>
          <a:prstGeom prst="wedgeRectCallout">
            <a:avLst>
              <a:gd name="adj1" fmla="val 37203"/>
              <a:gd name="adj2" fmla="val 193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Beds never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186-F837-43D6-8FC2-5C81F8AE52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ind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walk-in (maximum new patient increased to 2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 #patient/day: 5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8839080" cy="3962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00400" y="3581280"/>
            <a:ext cx="60948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228600"/>
            <a:ext cx="4495680" cy="685800"/>
          </a:xfrm>
          <a:prstGeom prst="wedgeRectCallout">
            <a:avLst>
              <a:gd name="adj1" fmla="val -22986"/>
              <a:gd name="adj2" fmla="val 4372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~0.6 hours less for patients requiring physicia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FFC-D2D2-4BE3-ACE4-E393F31816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ind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14400" y="1936800"/>
            <a:ext cx="792468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CBD-0E4D-4CAD-B50E-D4B64736CF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ptim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optimal set up to minimize total time for scheduled new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ision variables &amp; constra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beds (4-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nurses (2-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physicians (1-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487692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ulation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imizepat_sched_n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talTi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r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6790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6035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st:  1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5744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156-CD00-4237-A180-66A4F17B60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ptim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ers requested &lt; 1.25 hour total time for scheduled new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optimal solution and maximum scheduled follow-up patients, with following variables and constra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ds (4-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 (1-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rses (2-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7C2-AEC0-4B3B-9776-56C3A80B01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1143000"/>
            <a:ext cx="853452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ulation max_sched_fu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t_sched_new.TotalTim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ur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hy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57260 - Infeasi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41463 - Infeasi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48438 - Infeasi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.986956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11875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22135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Best:  69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1.18466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278-A93F-4F53-B725-47526C347D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is an occupational health clinic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patient clinic where we provide employment related health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hough the service is provided to the employee, the employer is the ultimate custom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er interes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 during normal business hour on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ck turn-around time so the employee returns to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6D6-19B8-44C9-A1CF-CC22971AFC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lk-ins do have a negative on total time for scheduled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need to repeat the simulation &amp; optimization aft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perform a proper time and motion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improve data col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 cost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9AF-FE67-4621-8203-6644B1936E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is an occupational health clinic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s provided to (entities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duled new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duled follow-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lk-in: essentially an unscheduled new patient (usually work related injury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-physician services such as immu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2D1-9C7C-457B-B4D0-43C0D061B1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is an occupational health clinic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rses: 3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strars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ination rooms: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54C-2AB9-4B2B-935C-DFDB784017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is an occupational health clinic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stration: requires registrar 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rsing: requires nurse(1) + examination room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 – not all patients – requires physician(1) + examination room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AEB-07B4-404E-A896-416A057F86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challeng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we do have to see injured patients same day, we MUST take walk-in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mpacts our schedule because we cannot predict when and how many patients will walk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7E5-39D7-44ED-B705-A8527FF609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challeng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rpose of the st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y the impact of walk-in on scheduled new 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y the impact of having one physician instead of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17A-1E96-433D-A88B-47118ADB2F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imulation project and issues fac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s involved in designing the si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 chart of the op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cumentation of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and motion stud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cted time in and time out at every step for 1 we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me statistics to correlate with time and motion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d the model in Arena and EXt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BEB-FB5E-4F84-8E2D-DF3005574D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1:09:33Z</dcterms:created>
  <dc:creator>samaha-simon</dc:creator>
  <dc:description/>
  <dc:language>en-US</dc:language>
  <cp:lastModifiedBy>Simon Samaha</cp:lastModifiedBy>
  <dcterms:modified xsi:type="dcterms:W3CDTF">2004-08-03T04:01:07Z</dcterms:modified>
  <cp:revision>7</cp:revision>
  <dc:subject/>
  <dc:title>Using Simulation in an Occupational Health Practice</dc:title>
</cp:coreProperties>
</file>