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923766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DBBE-2B26-4633-8326-0A8C0B943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C7F7-E204-4D4F-AEE2-E4C2E7EA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183E-CE04-4C8B-90E1-F9A64D1FB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2893-F2B7-48BC-99C5-9CABF2E65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BBC7-E999-4355-BA94-92B7C529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2BFA-8605-4325-A7C7-210478F2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7123-045D-4CED-84C6-18539157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94BC-E284-4157-B99F-F9AA8A0B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0A46-461D-406E-B144-CAB6D36E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BFD3-1141-49E8-A9FA-DDF06C85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55B9-4BEE-4264-BDBF-65A9D38A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FBD8-A6E4-4007-B23E-BCA41858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601D-0E55-4172-AF68-0583C8035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 based system 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ques Olliv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iver Koern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also costs when delaying a system, e.g. loss of business through bad customer information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04920" y="2514600"/>
          <a:ext cx="8381880" cy="1565280"/>
        </p:xfrm>
        <a:graphic>
          <a:graphicData uri="http://schemas.openxmlformats.org/drawingml/2006/table">
            <a:tbl>
              <a:tblPr/>
              <a:tblGrid>
                <a:gridCol w="2144160"/>
                <a:gridCol w="216000"/>
                <a:gridCol w="1886400"/>
                <a:gridCol w="1033920"/>
                <a:gridCol w="1034280"/>
                <a:gridCol w="1034280"/>
                <a:gridCol w="1032840"/>
              </a:tblGrid>
              <a:tr h="762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fe Policy Ad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alth Policy Ad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fe Policy Admi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stomer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st of delays per time un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ques Ollivier, Oliver Koernig J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4A08-8EF9-493F-A6FE-483A349F9C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ep 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t up input parame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ep 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te components’ sequ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ep 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eck the hierarchy b/w compon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ep 4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duct the sequencing of sys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ep 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duct the costs of interfa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ep 6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duct the costs of del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ques Ollivier, Oliver Koernig J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F633-A496-42DD-AFCF-3E4D8C7EA9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mal Solution: Sequence of system replac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1440" y="2286000"/>
            <a:ext cx="1930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fe Policy Ad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56400" y="2286000"/>
            <a:ext cx="2221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 Policy Ad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83960" y="1828800"/>
            <a:ext cx="1589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im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41680" y="3505320"/>
            <a:ext cx="23752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98280" y="3809880"/>
            <a:ext cx="199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fe Policy Adm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124080" y="3733560"/>
            <a:ext cx="2210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705720" y="2209680"/>
            <a:ext cx="4572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419360" y="2057400"/>
            <a:ext cx="2057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133360" y="1905120"/>
            <a:ext cx="4343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438280" y="2286000"/>
            <a:ext cx="41148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25909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97640" y="441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64120" y="2819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59600" y="2209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920" y="3276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002800" y="160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ques Ollivier, Oliver Koernig J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C3CD-03EB-4AF4-BA0A-946D0648F3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036400" y="4495680"/>
            <a:ext cx="175356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82480" y="5446800"/>
            <a:ext cx="110592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69720" y="3429000"/>
            <a:ext cx="129636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6760" y="2209680"/>
            <a:ext cx="76284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66040" y="2133720"/>
            <a:ext cx="176400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25640" y="4495680"/>
            <a:ext cx="71424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4876920"/>
            <a:ext cx="8384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876560" y="487692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504960" y="38862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38098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2514600"/>
            <a:ext cx="7632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647960" y="25909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mal solution: Sequence of component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64120" y="2819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92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3440" y="4648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98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920" y="5791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69440" y="251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ques Ollivier, Oliver Koernig J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E927-B031-4710-A3D3-883EA102B3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 Implementation Phase I: Replace Customer Inform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2133360" y="3733920"/>
            <a:ext cx="3352680" cy="22860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1440" y="1600200"/>
            <a:ext cx="1930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fe Policy Ad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56400" y="1600200"/>
            <a:ext cx="2221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 Policy Ad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83960" y="1371600"/>
            <a:ext cx="1589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im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98280" y="3124080"/>
            <a:ext cx="199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fe Policy Adm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419360" y="1523880"/>
            <a:ext cx="1981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514240" y="1447920"/>
            <a:ext cx="3962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438280" y="1600200"/>
            <a:ext cx="41148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08000" y="4876920"/>
            <a:ext cx="175356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54080" y="5827680"/>
            <a:ext cx="110592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97240" y="4876920"/>
            <a:ext cx="71424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5257800"/>
            <a:ext cx="8384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248160" y="525780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952880" y="2133720"/>
            <a:ext cx="2743200" cy="27432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324480" y="1752480"/>
            <a:ext cx="914400" cy="42674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2209320" y="2285640"/>
            <a:ext cx="3962520" cy="35053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2437920" y="2209320"/>
            <a:ext cx="4876920" cy="25909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809880" y="2437920"/>
            <a:ext cx="2362320" cy="35053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1905120" y="3733560"/>
            <a:ext cx="4876560" cy="11430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1981080" y="2285640"/>
            <a:ext cx="2286000" cy="25146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504960" y="2209320"/>
            <a:ext cx="990360" cy="25909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648320" y="1752120"/>
            <a:ext cx="2133360" cy="30481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85000" y="2514600"/>
            <a:ext cx="176400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43400" y="2895480"/>
            <a:ext cx="7632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2590560" y="1981080"/>
            <a:ext cx="1600200" cy="5335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ques Ollivier, Oliver Koernig J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4E90-3EE5-409F-85E7-45CEBFF25D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 Implementation Phase II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Life and Health Admi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2133360" y="3733920"/>
            <a:ext cx="3352680" cy="22860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08000" y="1371600"/>
            <a:ext cx="1589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im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8280" y="3124080"/>
            <a:ext cx="199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fe Policy Adm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438280" y="1600200"/>
            <a:ext cx="41148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08000" y="4876920"/>
            <a:ext cx="175356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54080" y="5827680"/>
            <a:ext cx="110592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97240" y="4876920"/>
            <a:ext cx="71424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24280" y="5257800"/>
            <a:ext cx="8384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6248160" y="525780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172200" y="1752480"/>
            <a:ext cx="914400" cy="42674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1905120" y="3733560"/>
            <a:ext cx="4876560" cy="11430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648320" y="1752120"/>
            <a:ext cx="2057400" cy="30481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37640" y="2514600"/>
            <a:ext cx="176400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95680" y="2895480"/>
            <a:ext cx="7632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41320" y="3809880"/>
            <a:ext cx="129636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876560" y="42670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5880" y="419112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07520" y="4038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172200" y="1752480"/>
            <a:ext cx="380880" cy="20574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2971800" y="3505320"/>
            <a:ext cx="2666880" cy="304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ques Ollivier, Oliver Koernig J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C232-0BB7-4630-9A3D-B0069D7DCF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 Implementation Phase III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remain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636600" y="4952880"/>
            <a:ext cx="175356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82680" y="5904000"/>
            <a:ext cx="110592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69920" y="3886200"/>
            <a:ext cx="129636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636960" y="2666880"/>
            <a:ext cx="76284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66240" y="2590920"/>
            <a:ext cx="176400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25840" y="4952880"/>
            <a:ext cx="71424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52880" y="5334120"/>
            <a:ext cx="8384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476760" y="533412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105160" y="43434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42670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24280" y="2971800"/>
            <a:ext cx="7632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248160" y="30481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ques Ollivier, Oliver Koernig J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5194-ED48-4172-97DE-FF0D53708B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ques Ollivier, Oliver Koernig J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6462-8351-484E-BD73-C2F6A5E0B9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em/components dependenc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2701200">
            <a:off x="1714320" y="2552760"/>
            <a:ext cx="5029200" cy="190476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6800" y="2550960"/>
            <a:ext cx="3598920" cy="2706840"/>
          </a:xfrm>
          <a:prstGeom prst="ellipse">
            <a:avLst/>
          </a:prstGeom>
          <a:solidFill>
            <a:srgbClr val="ffff99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45000" y="3975120"/>
            <a:ext cx="47484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646600" y="2265480"/>
            <a:ext cx="0" cy="59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22720" y="2693880"/>
            <a:ext cx="955440" cy="99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646600" y="3121200"/>
            <a:ext cx="441360" cy="56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59440" y="1981080"/>
            <a:ext cx="1131840" cy="32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ai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62120" y="2408400"/>
            <a:ext cx="1414440" cy="32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59440" y="2835360"/>
            <a:ext cx="1131840" cy="32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98800" y="3691080"/>
            <a:ext cx="1244880" cy="32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r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19680" y="3691080"/>
            <a:ext cx="1301760" cy="32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hysical Obje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45000" y="4545000"/>
            <a:ext cx="1131840" cy="3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m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313240" y="4014720"/>
            <a:ext cx="735120" cy="5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05120" y="4648320"/>
            <a:ext cx="109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05120" y="4419720"/>
            <a:ext cx="1022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pendent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3124080"/>
            <a:ext cx="161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unication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17920" y="3440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77120" y="4419720"/>
            <a:ext cx="140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alth Policy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4800600"/>
            <a:ext cx="1244520" cy="3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w compon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5257800"/>
            <a:ext cx="1219320" cy="45720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ques Ollivier, Oliver Koernig J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480F-29E8-42FC-AC54-0554FCEBBF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iness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rance companies were among the first to adopt computer technolog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jority of these companies have monolithic systems.  These systems are designed to address one or more business processes (e.g. Claims handling) and include all necessary functio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nies have many (often hundreds) of these systems. Function or business rules are hereby repeated many times which makes the extension and maintenance of these system very costly and lengt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nies are looking to replace the older systems with new ones to achieve competitive advantages, reduce cost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ques Ollivier, Oliver Koernig J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81FC-550B-44B0-B049-8B748ECEEF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for a simplified system portfolio of an insurance compa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1440" y="2286000"/>
            <a:ext cx="1930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fe Policy Ad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56400" y="2286000"/>
            <a:ext cx="2221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 Policy Ad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83960" y="1828800"/>
            <a:ext cx="1589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im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41680" y="3505320"/>
            <a:ext cx="23752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98280" y="3809880"/>
            <a:ext cx="199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fe Policy Adm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ques Ollivier, Oliver Koernig J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95DE-A9FE-462F-965A-F81C458DE7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systems have dependencies. The Claim System e.g. accesses the Customer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1440" y="2286000"/>
            <a:ext cx="1930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fe Policy Ad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56400" y="2286000"/>
            <a:ext cx="2221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 Policy Ad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83960" y="1828800"/>
            <a:ext cx="1589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im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41680" y="3505320"/>
            <a:ext cx="23752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98280" y="3809880"/>
            <a:ext cx="199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fe Policy Adm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124080" y="3733560"/>
            <a:ext cx="2210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705720" y="2209680"/>
            <a:ext cx="4572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419360" y="2057400"/>
            <a:ext cx="2057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133360" y="1905120"/>
            <a:ext cx="4343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438280" y="2286000"/>
            <a:ext cx="41148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57800" y="25909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ques Ollivier, Oliver Koernig J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AB27-2E7F-4953-9DCF-BF910811D6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 based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ecent years companies have adopted the idea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based developmen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component does not implement an entire business process, but only certain related func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arty component e.g. could include all the necessary functions to administrate persons and organizations and the roles they play for the company (e.g. Policy Holder, Insured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function is only implemented once.  If a component needs to use that function it access the component that implements it, rather than replicating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ques Ollivier, Oliver Koernig J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569E-1816-4A01-924D-09069ACB48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036400" y="4495680"/>
            <a:ext cx="175356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82480" y="5446800"/>
            <a:ext cx="110592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69720" y="3429000"/>
            <a:ext cx="129636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36760" y="2209680"/>
            <a:ext cx="76284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66040" y="2133720"/>
            <a:ext cx="176400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25640" y="4495680"/>
            <a:ext cx="71424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4876920"/>
            <a:ext cx="8384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876560" y="487692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504960" y="38862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38098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2514600"/>
            <a:ext cx="7632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647960" y="25909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nents are organized in a hierarc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ques Ollivier, Oliver Koernig J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5313-2121-4D28-AD85-FD6458EE32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lace systems through compon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ingle component covers an entire business process. Therefore multiple components are needed to cover the functions of a singl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components and systems have dependencies, determining the sequence in which to replace which system with which component can be trick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ll systems can be replaced at once, so system interfaces might be required to integrate new components with old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ques Ollivier, Oliver Koernig J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702B-4418-4D1A-9E05-E6401F51D2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matrix shows which components cover which system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57200" y="1600200"/>
          <a:ext cx="8228880" cy="4525200"/>
        </p:xfrm>
        <a:graphic>
          <a:graphicData uri="http://schemas.openxmlformats.org/drawingml/2006/table">
            <a:tbl>
              <a:tblPr/>
              <a:tblGrid>
                <a:gridCol w="1415160"/>
                <a:gridCol w="1363320"/>
                <a:gridCol w="1362600"/>
                <a:gridCol w="1362240"/>
                <a:gridCol w="1363320"/>
                <a:gridCol w="1362240"/>
              </a:tblGrid>
              <a:tr h="1158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fe Policy Ad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alth Policy Ad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fe Policy Admi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stomer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uni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i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re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ques Ollivier, Oliver Koernig J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9D97-51AD-458E-ACB4-11AC6575DE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.and the cost of building interfaces to the existing system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1600200"/>
          <a:ext cx="8228880" cy="4525200"/>
        </p:xfrm>
        <a:graphic>
          <a:graphicData uri="http://schemas.openxmlformats.org/drawingml/2006/table">
            <a:tbl>
              <a:tblPr/>
              <a:tblGrid>
                <a:gridCol w="1415160"/>
                <a:gridCol w="1363320"/>
                <a:gridCol w="1362600"/>
                <a:gridCol w="1362240"/>
                <a:gridCol w="1363320"/>
                <a:gridCol w="1362240"/>
              </a:tblGrid>
              <a:tr h="1158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 compon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fe Policy Ad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alth Policy Ad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fe Policy Admi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stomer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uni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re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ques Ollivier, Oliver Koernig J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D77E-7FB6-451D-B4A8-3DA0503372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02:56:47Z</dcterms:created>
  <dc:creator>IBM_USER</dc:creator>
  <dc:description/>
  <dc:language>en-US</dc:language>
  <cp:lastModifiedBy>IBM_USER</cp:lastModifiedBy>
  <dcterms:modified xsi:type="dcterms:W3CDTF">2004-08-06T13:05:43Z</dcterms:modified>
  <cp:revision>9</cp:revision>
  <dc:subject/>
  <dc:title>System dependency</dc:title>
</cp:coreProperties>
</file>