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9AE-6828-4D55-8259-B755FCFB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F9F-0FCF-4C6D-8CC6-C6638377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172-895A-4B98-9196-1B4C025B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E16-3205-4896-A399-B06EA18C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73249-423E-4306-A884-85E6F5F0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8D5F5-43FE-4E6B-BE1A-34E516E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052C-4005-4AEC-B8C4-3A64C184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811E-70C3-4DE7-9C0D-0DBEC21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4B97A-773C-4803-B78F-07FD5A14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97329-7965-4613-8D5A-3AEE0277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F8EB-4BF7-4868-AC93-26C1E6D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798-E6A6-42B1-B960-A045FE2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40787-44B0-49BD-8875-77929519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D1B3-B5D4-41A7-97BB-DC9F761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BD40F-3955-419A-8146-1718B68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911F-070D-44B1-A1E6-08831AB1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F2C15-810D-405E-8CEE-E46E5F73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185-8FBE-4F1A-8988-E0D786E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D0B-8AD8-4E93-B6B1-857F2652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6A8-1349-4FE2-B78E-DC3CE234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515-C91C-4E68-814B-4478A40D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CAA-7283-4A6E-BB63-84AEF2D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E1D-823E-411D-91C1-5208F18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162-760A-478D-8DC8-78403D10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69DD-B50F-4D96-B2E0-9A7A56367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6614-7359-4D09-8109-D8139D1FB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phototheque.net/Phototheques/Rome/rome-08.JPG&amp;imgrefurl=http://www.phototheque.net/Rome.html&amp;h=1440&amp;w=2160&amp;sz=354&amp;tbnid=wUmPe_I5_mMJ:&amp;tbnh=100&amp;tbnw=150&amp;hl=en&amp;start=1&amp;prev=/images%3Fq%3Drome%26svnum%3D10%26hl%3Den%26lr%3D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hoffmann.caltech.edu/PlacesVisited/html0001/images/Eiffel%2520Tower%2520IPS-15%2520Paris%25207-04.jpg&amp;imgrefurl=http://www.hoffmann.caltech.edu/place_visited2.html&amp;h=480&amp;w=360&amp;sz=28&amp;tbnid=NdtQva2nDmAJ:&amp;tbnh=126&amp;tbnw=94&amp;hl=en&amp;start=2&amp;prev=/images%3Fq%3Dpari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csua.berkeley.edu/~kahogan/Spain/madrid-post-office.jpg&amp;imgrefurl=http://www.csua.berkeley.edu/~kahogan/Spain/&amp;h=369&amp;w=500&amp;sz=61&amp;tbnid=q-_jIufEwSoJ:&amp;tbnh=93&amp;tbnw=127&amp;hl=en&amp;start=3&amp;prev=/images%3Fq%3Dmadrid%26svnum%3D10%26hl%3Den%26lr%3D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ABBATICA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24080" y="350532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2467080" cy="164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3809880"/>
            <a:ext cx="1648080" cy="2210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600200"/>
            <a:ext cx="2509560" cy="1838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04920" y="167652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3429000" y="1371600"/>
            <a:ext cx="2390760" cy="1784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200" y="59436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 Leong &amp; Pat We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th the following associated co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686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lver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280" y="533520"/>
          <a:ext cx="8763120" cy="632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533520"/>
                    <a:ext cx="87631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happens if the market tanks and we need to focus on min. cost or max. residual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914480"/>
            <a:ext cx="8382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ields the following resu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573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th the associated co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2305080"/>
            <a:ext cx="853452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lver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28600" y="838080"/>
          <a:ext cx="8534520" cy="572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38080"/>
                    <a:ext cx="853452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ver 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8763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533520"/>
          <a:ext cx="8458200" cy="602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33520"/>
                    <a:ext cx="84582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may have a seven week sabbatical coming up in the near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may have a wife and three children that have opi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ark on round the world vacation over the sabbatical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ting several cities, maximize weighted-average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. Utility vs. Max. Residual Compari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rip, as designed, is going to cost someone some ca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izing cost only saves ~$16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erage hotel points and relationships (Snake in Australia, Ollie in Germany, etc.) to lower overall costs (in progre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 utility value given preferences and constr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eighted average will be used where 70% will be parents and 30%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el, food, airfare, entertainment, r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round the world air tra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fr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locations to visit and duration of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e weighted utility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weeks in Australia and US, 3 weeks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49 days must be spent trav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more than 5 days in each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cost can not exceed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negative and Inte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umption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cy converted to US $ and st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hotels are Starwood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avg. cost in that 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ddle-jumper” flight costs in Australia are negligible (included in entertainment cost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imary Solution Methodolog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ximize Ut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76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ver Dat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5341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ields the Resu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96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9:07:23Z</dcterms:created>
  <dc:creator>pjweis</dc:creator>
  <dc:description/>
  <dc:language>en-US</dc:language>
  <cp:lastModifiedBy>NYU Stern</cp:lastModifiedBy>
  <dcterms:modified xsi:type="dcterms:W3CDTF">2005-08-06T12:38:48Z</dcterms:modified>
  <cp:revision>27</cp:revision>
  <dc:subject/>
  <dc:title>SABBATICAL!</dc:title>
</cp:coreProperties>
</file>