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B4D5-3B28-4CAF-AF15-2D3975FB4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C276-CF53-4D53-9367-326A50BC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AAB5-FCE6-405F-9E3C-1B8C045C2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5DB8-AE3F-40B4-8C6D-0CE3DD897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F090-5259-49C0-A947-C17D737D4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FF9A-AB9D-47FD-BBA1-9CA48C5A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E71D-E09E-4226-8A8A-3C3A5C56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A680-6448-4B52-A679-FB6AB67E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36C0-9559-483B-8313-7231D2D3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7F41-F9EA-486B-8F72-88C96C43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572B-FB45-4F78-877A-84AA3157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48ED-664B-4167-B8E5-99D14694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8E46-8579-4BA4-A23B-2537F4A6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4421-A450-48D8-91AD-65C53287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ED16-EACA-4CEA-AD81-FA66EB96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3855-D37C-4031-B7BE-CF3512565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6B74-D4C5-4DCE-A2AA-034770D87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8498-9ED2-4958-A802-E05EB969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455D-52D9-4114-BBCD-CE39B065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948C-EF24-4EC7-8114-C163B33B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D5B7-CF8D-4FE4-8317-70BE9F12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28EC-34E3-4599-A6F6-D0981615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B019-7B6A-44AB-BBC5-1CEAF2F9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3722-B580-4380-B9A5-0B4AD0F1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EF77-C6BE-4799-8D19-EEA490CDD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B968-6DF0-4203-AE21-35E9A05C8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ccff"/>
          </a:solidFill>
          <a:ln w="0">
            <a:solidFill>
              <a:srgbClr val="33cccc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cision Models – J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6141960"/>
            <a:ext cx="35049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m Fergu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tt Nicho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676520" y="2895480"/>
          <a:ext cx="5638680" cy="27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895480"/>
                    <a:ext cx="5638680" cy="27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600200" y="1600200"/>
            <a:ext cx="601992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eenPoint Brew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ecasting and Optim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ccff"/>
          </a:solidFill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ecasting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371600" y="1020600"/>
            <a:ext cx="6477120" cy="41608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80880" y="5257800"/>
            <a:ext cx="8763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work required to refine trend and seas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458200" y="6324480"/>
            <a:ext cx="609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ccff"/>
          </a:solidFill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timal Ordering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219320"/>
            <a:ext cx="8763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cision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quantity for each g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 the combination of individual grains to be ord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ize order quantity for 6 major beer gr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e freight delivery unit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6324480"/>
            <a:ext cx="609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ccff"/>
          </a:solidFill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timal Ordering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219320"/>
            <a:ext cx="8763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must input MIN and MAX months grain usage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 needs to account for 1 year perish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quantity greater than MIN grain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quantity less than MAX grain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grain order must be full bags and &gt;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must be less than physical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ins from Wisconsin (60%) and RI (40%) space based on past grain 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534520" y="6324480"/>
            <a:ext cx="533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ccff"/>
          </a:solidFill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timal Ordering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219320"/>
            <a:ext cx="8763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olution 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determines the min and max grain usage based on parameters entered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ar / Month / Min / 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s retrieve usage (forecast) and ending inventory data from consolidated spread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variables are the number of full bags to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ize the number of pallets in order to take advantage of quantity freight dis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- Proving the optimization of order quantity using 2004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534520" y="6324480"/>
            <a:ext cx="533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ccff"/>
          </a:solidFill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timal Ordering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19520" y="609480"/>
            <a:ext cx="3276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NUARY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534520" y="6324480"/>
            <a:ext cx="533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6160" y="1066680"/>
            <a:ext cx="8845560" cy="494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ccff"/>
          </a:solidFill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timal Ordering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19520" y="609480"/>
            <a:ext cx="3276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ULY 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534520" y="6324480"/>
            <a:ext cx="533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66680" y="1066680"/>
            <a:ext cx="8825040" cy="49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ccff"/>
          </a:solidFill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 / Recomme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1219320"/>
            <a:ext cx="8763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inter’s Model to forecast grain us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time and 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emergency order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ccurate input for or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olver model to optimize ordering qua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en to minimize freight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ight costs for year will be further reduced when seasonal grain is added to the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 disruption to operations due to less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6324480"/>
            <a:ext cx="533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ccff"/>
          </a:solidFill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219320"/>
            <a:ext cx="8763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 to review models with Kelly Tay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problems and how the models will help solv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more detail on seasonality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ffect on monthly usage in opening year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 of opening of Empire State Heartland sales location in Nov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ize model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 spreadsheet look and feel needs to be agreed upon with Ke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ity of models needs to match Kelly’s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534520" y="6324480"/>
            <a:ext cx="533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ccff"/>
          </a:solidFill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219320"/>
            <a:ext cx="8153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casting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al Ordering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lusion /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68680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ccff"/>
          </a:solidFill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eenPoint Brewery - 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219320"/>
            <a:ext cx="8153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 brewer for Heartland Brew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d - Brooklyn, 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wmaster – Kelly Tay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production – 10,000 Ke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ws at any given ti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Standard B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easonal B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68680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ccff"/>
          </a:solidFill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reenPoint Brewery - 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1219320"/>
            <a:ext cx="8153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 different grains for standard b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from Wisconsin (for Si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from Wisconsin (50 pound b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from Rhode Island (55 pound b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 additional grains used for sea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in unit costs do NOT vary by order qua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ight delivery unit costs DO vary based on order qua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lly maintains yearly spreadsheet with monthly data she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68680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ccff"/>
          </a:solidFill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 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219320"/>
            <a:ext cx="8763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bility to forecast future grai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ools for fore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ly production planning using inaccurate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in costly emergency orders for stock 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optimal ordering 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t orders – forgoes freight quantity discou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frequent disruption to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68680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ccff"/>
          </a:solidFill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ecasting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1219320"/>
            <a:ext cx="8763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cast future individual grain demand for           the 6 standard b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is to minimize time an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onal beer grain demand requires clos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nd is sea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 grain requirements vary wid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in delivery freight costs vary by order qua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68680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ccff"/>
          </a:solidFill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ecasting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219320"/>
            <a:ext cx="8763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olution 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three Exponential Smoothing forecasting models using historical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olidate historical data into single spreadsheet     (2003 – 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 to integrate 2005 and 2006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 using Simple Smoothing, Holt, Win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Smoothing &amp; Hol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ccurate, create shortfall/excess grain on h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68680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ccff"/>
          </a:solidFill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ecasting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219320"/>
            <a:ext cx="8763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olution 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ters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s future usage based on historic seas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 supplemented by safety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work required to refine trend and seas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cast models - comparison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 for Briess grain (major ingredi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cal data for Briess grain usage for 6 major b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68680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ccff"/>
          </a:solidFill>
          <a:ln w="0">
            <a:solidFill>
              <a:srgbClr val="00cc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ecasting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447920" y="1074600"/>
          <a:ext cx="6400800" cy="507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074600"/>
                    <a:ext cx="6400800" cy="50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8686800" y="63244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7:28:49Z</dcterms:created>
  <dc:creator>Jim Ferguson</dc:creator>
  <dc:description/>
  <dc:language>en-US</dc:language>
  <cp:lastModifiedBy>Jim Ferguson</cp:lastModifiedBy>
  <dcterms:modified xsi:type="dcterms:W3CDTF">2005-08-12T15:25:56Z</dcterms:modified>
  <cp:revision>167</cp:revision>
  <dc:subject/>
  <dc:title>Online Music Industry: Over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24572757</vt:r8>
  </property>
  <property fmtid="{D5CDD505-2E9C-101B-9397-08002B2CF9AE}" pid="3" name="_AuthorEmail">
    <vt:lpwstr>fergusoj@toysrus.com</vt:lpwstr>
  </property>
  <property fmtid="{D5CDD505-2E9C-101B-9397-08002B2CF9AE}" pid="4" name="_AuthorEmailDisplayName">
    <vt:lpwstr>Ferguson, Jim</vt:lpwstr>
  </property>
  <property fmtid="{D5CDD505-2E9C-101B-9397-08002B2CF9AE}" pid="5" name="_EmailSubject">
    <vt:lpwstr>Loyal Bastards</vt:lpwstr>
  </property>
  <property fmtid="{D5CDD505-2E9C-101B-9397-08002B2CF9AE}" pid="6" name="_PreviousAdHocReviewCycleID">
    <vt:r8>-306767934</vt:r8>
  </property>
</Properties>
</file>