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.png" ContentType="image/pn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79360" y="-360"/>
            <a:ext cx="29847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860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5320" y="4454640"/>
            <a:ext cx="507384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8832600"/>
            <a:ext cx="29844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79360" y="8832600"/>
            <a:ext cx="29847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78A6-81A9-4FE2-937C-0CCC93E6E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5320" y="4454640"/>
            <a:ext cx="507384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s shipped to the customer at the forward rate are in fact a perpetual inventory and is the dip stick by which we’ll measure the exchange rate eff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95320" y="4454640"/>
            <a:ext cx="507384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djustment is the real figure of merit it measures the difference between a perpetual system based on forward contract rates and a periodic system based on spot and historic aver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95320" y="4454640"/>
            <a:ext cx="507384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e I thought as a check I ran a fit on 6 years w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95320" y="4454640"/>
            <a:ext cx="507384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historic data with Vlookup? Because I couldn’t control the tr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7070D-830B-4153-AAD0-F1D9481CA5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2B310-738A-4375-8C1B-FF0ACA87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DA330-57C0-4C1B-B27A-9DE92A85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72380-01B7-4516-8B94-C61C233892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973D5-EE1E-459C-A290-58478FFF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A55A5-6F45-40D1-BD4C-84E62359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D2F8C-76D3-4763-9E6E-DFA54A14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EEA23-8F65-4E50-8931-5A044B24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842CA-8CC7-416D-949B-36468477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6FE63-F198-42D9-8452-BC553BFA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D5B1-8DAB-4A49-821E-EECC96F6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D74B4-345D-438D-BC58-D8D68850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5ad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248E-B6A7-4B8A-B8A4-95629DBEB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553080" y="6477120"/>
            <a:ext cx="2381400" cy="190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0180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489720"/>
            <a:ext cx="91314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5ad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53080" y="6477120"/>
            <a:ext cx="2381400" cy="190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ederalreserve.com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952880" cy="446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958400" y="228600"/>
            <a:ext cx="588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Inventory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Garamond"/>
              </a:rPr>
              <a:t>Result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2728800"/>
          <a:ext cx="3808440" cy="197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28800"/>
                    <a:ext cx="3808440" cy="19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1662120"/>
          <a:ext cx="3808440" cy="1969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662120"/>
                    <a:ext cx="380844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648320" y="3795840"/>
          <a:ext cx="3809880" cy="196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795840"/>
                    <a:ext cx="380988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910440" y="225900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o Tr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3480" y="126828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ositive Tr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20680" y="56116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egative Tr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03691-AB7F-49FC-A361-4614F029D1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Garamond"/>
              </a:rPr>
              <a:t>Result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772400" cy="236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A91AE-94D6-4776-A2E2-CAC80976D3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Garamond"/>
              </a:rPr>
              <a:t>Result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1758960"/>
          <a:ext cx="7772400" cy="391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8960"/>
                    <a:ext cx="7772400" cy="39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BDF0D-6085-4D1C-B541-FE6420AD3C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46280" y="1413000"/>
            <a:ext cx="786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Managerial Problem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he effects of the exchange rate on COG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simulation to build a model which emulates our inventory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model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ize as much as possible to determine causal relationships and, more importantly, sensitivity to change in various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 was designed to understand the process, not accurately predict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steer the mean exchange rate tr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CF862-3145-4D23-8CE2-091F0E8A96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Garamond"/>
              </a:rPr>
              <a:t>Inventory Process Flow Char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5920" y="2114640"/>
            <a:ext cx="8172360" cy="2219400"/>
            <a:chOff x="385920" y="2114640"/>
            <a:chExt cx="8172360" cy="2219400"/>
          </a:xfrm>
        </p:grpSpPr>
        <p:grpSp>
          <p:nvGrpSpPr>
            <p:cNvPr id="99" name=""/>
            <p:cNvGrpSpPr/>
            <p:nvPr/>
          </p:nvGrpSpPr>
          <p:grpSpPr>
            <a:xfrm>
              <a:off x="385920" y="2868480"/>
              <a:ext cx="752400" cy="501840"/>
              <a:chOff x="385920" y="2868480"/>
              <a:chExt cx="752400" cy="501840"/>
            </a:xfrm>
          </p:grpSpPr>
          <p:sp>
            <p:nvSpPr>
              <p:cNvPr id="100" name=""/>
              <p:cNvSpPr/>
              <p:nvPr/>
            </p:nvSpPr>
            <p:spPr>
              <a:xfrm>
                <a:off x="385920" y="2868480"/>
                <a:ext cx="752400" cy="50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5920" y="2868480"/>
                <a:ext cx="752400" cy="501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504360" y="2921040"/>
              <a:ext cx="45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Beginning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0040" y="3059280"/>
              <a:ext cx="40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ven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4720" y="3195720"/>
              <a:ext cx="448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t avera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1880" y="3333600"/>
              <a:ext cx="49320" cy="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324080" y="2868480"/>
              <a:ext cx="657000" cy="501840"/>
              <a:chOff x="1324080" y="2868480"/>
              <a:chExt cx="657000" cy="501840"/>
            </a:xfrm>
          </p:grpSpPr>
          <p:sp>
            <p:nvSpPr>
              <p:cNvPr id="107" name=""/>
              <p:cNvSpPr/>
              <p:nvPr/>
            </p:nvSpPr>
            <p:spPr>
              <a:xfrm>
                <a:off x="1324080" y="2868480"/>
                <a:ext cx="657000" cy="50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24080" y="2868480"/>
                <a:ext cx="657000" cy="501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1444680" y="2921040"/>
              <a:ext cx="39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36400" y="305928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Or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29200" y="3195720"/>
              <a:ext cx="115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01840" y="3333600"/>
              <a:ext cx="48960" cy="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38320" y="3119400"/>
              <a:ext cx="18576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077920" y="2770200"/>
              <a:ext cx="939960" cy="665280"/>
              <a:chOff x="2077920" y="2770200"/>
              <a:chExt cx="939960" cy="665280"/>
            </a:xfrm>
          </p:grpSpPr>
          <p:sp>
            <p:nvSpPr>
              <p:cNvPr id="115" name=""/>
              <p:cNvSpPr/>
              <p:nvPr/>
            </p:nvSpPr>
            <p:spPr>
              <a:xfrm>
                <a:off x="2077920" y="2770200"/>
                <a:ext cx="939960" cy="665280"/>
              </a:xfrm>
              <a:custGeom>
                <a:avLst/>
                <a:gdLst/>
                <a:ahLst/>
                <a:rect l="l" t="t" r="r" b="b"/>
                <a:pathLst>
                  <a:path w="592" h="419">
                    <a:moveTo>
                      <a:pt x="296" y="0"/>
                    </a:moveTo>
                    <a:lnTo>
                      <a:pt x="0" y="210"/>
                    </a:lnTo>
                    <a:lnTo>
                      <a:pt x="296" y="419"/>
                    </a:lnTo>
                    <a:lnTo>
                      <a:pt x="592" y="210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77920" y="2770200"/>
                <a:ext cx="939960" cy="665280"/>
              </a:xfrm>
              <a:custGeom>
                <a:avLst/>
                <a:gdLst/>
                <a:ahLst/>
                <a:rect l="l" t="t" r="r" b="b"/>
                <a:pathLst>
                  <a:path w="592" h="419">
                    <a:moveTo>
                      <a:pt x="296" y="0"/>
                    </a:moveTo>
                    <a:lnTo>
                      <a:pt x="0" y="210"/>
                    </a:lnTo>
                    <a:lnTo>
                      <a:pt x="296" y="419"/>
                    </a:lnTo>
                    <a:lnTo>
                      <a:pt x="592" y="210"/>
                    </a:lnTo>
                    <a:lnTo>
                      <a:pt x="296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385360" y="2978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J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93640" y="3114720"/>
              <a:ext cx="23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oc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7280" y="3252960"/>
              <a:ext cx="49320" cy="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981080" y="3103560"/>
              <a:ext cx="96840" cy="15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921040" y="2114640"/>
              <a:ext cx="752400" cy="503280"/>
              <a:chOff x="2921040" y="2114640"/>
              <a:chExt cx="752400" cy="503280"/>
            </a:xfrm>
          </p:grpSpPr>
          <p:sp>
            <p:nvSpPr>
              <p:cNvPr id="122" name=""/>
              <p:cNvSpPr/>
              <p:nvPr/>
            </p:nvSpPr>
            <p:spPr>
              <a:xfrm>
                <a:off x="2921040" y="2114640"/>
                <a:ext cx="75240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21040" y="2114640"/>
                <a:ext cx="752400" cy="50328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038760" y="2166840"/>
              <a:ext cx="29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C P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40200" y="2305080"/>
              <a:ext cx="32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Use la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97360" y="2443320"/>
              <a:ext cx="48960" cy="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48080" y="2365200"/>
              <a:ext cx="372960" cy="405000"/>
            </a:xfrm>
            <a:custGeom>
              <a:avLst/>
              <a:gdLst/>
              <a:ahLst/>
              <a:rect l="l" t="t" r="r" b="b"/>
              <a:pathLst>
                <a:path w="235" h="255">
                  <a:moveTo>
                    <a:pt x="0" y="255"/>
                  </a:moveTo>
                  <a:lnTo>
                    <a:pt x="0" y="0"/>
                  </a:lnTo>
                  <a:lnTo>
                    <a:pt x="235" y="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10360" y="2143080"/>
              <a:ext cx="15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76520" y="2281320"/>
              <a:ext cx="49320" cy="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2921040" y="3621240"/>
              <a:ext cx="752400" cy="502920"/>
              <a:chOff x="2921040" y="3621240"/>
              <a:chExt cx="752400" cy="502920"/>
            </a:xfrm>
          </p:grpSpPr>
          <p:sp>
            <p:nvSpPr>
              <p:cNvPr id="131" name=""/>
              <p:cNvSpPr/>
              <p:nvPr/>
            </p:nvSpPr>
            <p:spPr>
              <a:xfrm>
                <a:off x="2921040" y="3621240"/>
                <a:ext cx="752400" cy="50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921040" y="3621240"/>
                <a:ext cx="752400" cy="50292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2994840" y="3673440"/>
              <a:ext cx="39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Japan P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1280" y="3811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laced 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29040" y="3949560"/>
              <a:ext cx="17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97360" y="4087800"/>
              <a:ext cx="48960" cy="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48080" y="3435480"/>
              <a:ext cx="372960" cy="436320"/>
            </a:xfrm>
            <a:custGeom>
              <a:avLst/>
              <a:gdLst/>
              <a:ahLst/>
              <a:rect l="l" t="t" r="r" b="b"/>
              <a:pathLst>
                <a:path w="235" h="275">
                  <a:moveTo>
                    <a:pt x="0" y="0"/>
                  </a:moveTo>
                  <a:lnTo>
                    <a:pt x="0" y="275"/>
                  </a:lnTo>
                  <a:lnTo>
                    <a:pt x="235" y="275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47080" y="367344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16120" y="3811680"/>
              <a:ext cx="49320" cy="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3803760" y="2211480"/>
              <a:ext cx="752400" cy="252360"/>
              <a:chOff x="3803760" y="2211480"/>
              <a:chExt cx="752400" cy="252360"/>
            </a:xfrm>
          </p:grpSpPr>
          <p:sp>
            <p:nvSpPr>
              <p:cNvPr id="141" name=""/>
              <p:cNvSpPr/>
              <p:nvPr/>
            </p:nvSpPr>
            <p:spPr>
              <a:xfrm>
                <a:off x="3803760" y="2211480"/>
                <a:ext cx="752400" cy="252360"/>
              </a:xfrm>
              <a:custGeom>
                <a:avLst/>
                <a:gdLst/>
                <a:ahLst/>
                <a:rect l="l" t="t" r="r" b="b"/>
                <a:pathLst>
                  <a:path w="1488" h="496">
                    <a:moveTo>
                      <a:pt x="240" y="0"/>
                    </a:moveTo>
                    <a:cubicBezTo>
                      <a:pt x="108" y="0"/>
                      <a:pt x="0" y="111"/>
                      <a:pt x="0" y="248"/>
                    </a:cubicBezTo>
                    <a:cubicBezTo>
                      <a:pt x="0" y="385"/>
                      <a:pt x="108" y="496"/>
                      <a:pt x="240" y="496"/>
                    </a:cubicBezTo>
                    <a:lnTo>
                      <a:pt x="1249" y="496"/>
                    </a:lnTo>
                    <a:cubicBezTo>
                      <a:pt x="1381" y="496"/>
                      <a:pt x="1488" y="385"/>
                      <a:pt x="1488" y="248"/>
                    </a:cubicBezTo>
                    <a:cubicBezTo>
                      <a:pt x="1488" y="111"/>
                      <a:pt x="1381" y="0"/>
                      <a:pt x="1249" y="0"/>
                    </a:cubicBez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803760" y="2211480"/>
                <a:ext cx="752400" cy="252360"/>
              </a:xfrm>
              <a:custGeom>
                <a:avLst/>
                <a:gdLst/>
                <a:ahLst/>
                <a:rect l="l" t="t" r="r" b="b"/>
                <a:pathLst>
                  <a:path w="1488" h="496">
                    <a:moveTo>
                      <a:pt x="240" y="0"/>
                    </a:moveTo>
                    <a:cubicBezTo>
                      <a:pt x="108" y="0"/>
                      <a:pt x="0" y="111"/>
                      <a:pt x="0" y="248"/>
                    </a:cubicBezTo>
                    <a:cubicBezTo>
                      <a:pt x="0" y="385"/>
                      <a:pt x="108" y="496"/>
                      <a:pt x="240" y="496"/>
                    </a:cubicBezTo>
                    <a:lnTo>
                      <a:pt x="1249" y="496"/>
                    </a:lnTo>
                    <a:cubicBezTo>
                      <a:pt x="1381" y="496"/>
                      <a:pt x="1488" y="385"/>
                      <a:pt x="1488" y="248"/>
                    </a:cubicBezTo>
                    <a:cubicBezTo>
                      <a:pt x="1488" y="111"/>
                      <a:pt x="1381" y="0"/>
                      <a:pt x="1249" y="0"/>
                    </a:cubicBezTo>
                    <a:lnTo>
                      <a:pt x="24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943800" y="2297160"/>
              <a:ext cx="18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h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13200" y="2435400"/>
              <a:ext cx="49320" cy="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673440" y="2341440"/>
              <a:ext cx="130320" cy="237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4038480" y="3629160"/>
              <a:ext cx="752760" cy="495000"/>
              <a:chOff x="4038480" y="3629160"/>
              <a:chExt cx="752760" cy="495000"/>
            </a:xfrm>
          </p:grpSpPr>
          <p:sp>
            <p:nvSpPr>
              <p:cNvPr id="147" name=""/>
              <p:cNvSpPr/>
              <p:nvPr/>
            </p:nvSpPr>
            <p:spPr>
              <a:xfrm>
                <a:off x="4038480" y="3629160"/>
                <a:ext cx="752760" cy="49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038480" y="3629160"/>
                <a:ext cx="752760" cy="495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4158000" y="3681360"/>
              <a:ext cx="39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hip an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0120" y="3819600"/>
              <a:ext cx="56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voice from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12280" y="3957480"/>
              <a:ext cx="23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Jap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4095720"/>
              <a:ext cx="49320" cy="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35480" y="2960640"/>
              <a:ext cx="88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ultiple Release 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68880" y="3098880"/>
              <a:ext cx="49320" cy="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5099040" y="3629160"/>
              <a:ext cx="754200" cy="503280"/>
              <a:chOff x="5099040" y="3629160"/>
              <a:chExt cx="754200" cy="503280"/>
            </a:xfrm>
          </p:grpSpPr>
          <p:sp>
            <p:nvSpPr>
              <p:cNvPr id="156" name=""/>
              <p:cNvSpPr/>
              <p:nvPr/>
            </p:nvSpPr>
            <p:spPr>
              <a:xfrm>
                <a:off x="5099040" y="3629160"/>
                <a:ext cx="75420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99040" y="3629160"/>
                <a:ext cx="754200" cy="50328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5217120" y="3681360"/>
              <a:ext cx="34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lloc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76800" y="3819600"/>
              <a:ext cx="49320" cy="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91240" y="3871800"/>
              <a:ext cx="307800" cy="79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3863880"/>
              <a:ext cx="307800" cy="15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7813800" y="3629160"/>
              <a:ext cx="744480" cy="495000"/>
              <a:chOff x="7813800" y="3629160"/>
              <a:chExt cx="744480" cy="495000"/>
            </a:xfrm>
          </p:grpSpPr>
          <p:sp>
            <p:nvSpPr>
              <p:cNvPr id="163" name=""/>
              <p:cNvSpPr/>
              <p:nvPr/>
            </p:nvSpPr>
            <p:spPr>
              <a:xfrm>
                <a:off x="7813800" y="3629160"/>
                <a:ext cx="744480" cy="49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813800" y="3629160"/>
                <a:ext cx="744480" cy="495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7888680" y="3681360"/>
              <a:ext cx="36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nd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88680" y="385272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vento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89760" y="4022640"/>
              <a:ext cx="5724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56320" y="3863880"/>
              <a:ext cx="357480" cy="79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78320" y="3154320"/>
              <a:ext cx="2435400" cy="474840"/>
            </a:xfrm>
            <a:custGeom>
              <a:avLst/>
              <a:gdLst/>
              <a:ahLst/>
              <a:rect l="l" t="t" r="r" b="b"/>
              <a:pathLst>
                <a:path w="4811" h="938">
                  <a:moveTo>
                    <a:pt x="4790" y="474"/>
                  </a:moveTo>
                  <a:lnTo>
                    <a:pt x="4790" y="10"/>
                  </a:lnTo>
                  <a:lnTo>
                    <a:pt x="4800" y="21"/>
                  </a:lnTo>
                  <a:lnTo>
                    <a:pt x="64" y="21"/>
                  </a:lnTo>
                  <a:lnTo>
                    <a:pt x="75" y="10"/>
                  </a:lnTo>
                  <a:lnTo>
                    <a:pt x="75" y="867"/>
                  </a:lnTo>
                  <a:cubicBezTo>
                    <a:pt x="75" y="873"/>
                    <a:pt x="70" y="878"/>
                    <a:pt x="64" y="878"/>
                  </a:cubicBezTo>
                  <a:cubicBezTo>
                    <a:pt x="59" y="878"/>
                    <a:pt x="54" y="873"/>
                    <a:pt x="54" y="867"/>
                  </a:cubicBezTo>
                  <a:lnTo>
                    <a:pt x="54" y="10"/>
                  </a:lnTo>
                  <a:cubicBezTo>
                    <a:pt x="54" y="5"/>
                    <a:pt x="59" y="0"/>
                    <a:pt x="64" y="0"/>
                  </a:cubicBezTo>
                  <a:lnTo>
                    <a:pt x="4800" y="0"/>
                  </a:lnTo>
                  <a:cubicBezTo>
                    <a:pt x="4806" y="0"/>
                    <a:pt x="4811" y="5"/>
                    <a:pt x="4811" y="10"/>
                  </a:cubicBezTo>
                  <a:lnTo>
                    <a:pt x="4811" y="474"/>
                  </a:lnTo>
                  <a:cubicBezTo>
                    <a:pt x="4811" y="480"/>
                    <a:pt x="4806" y="485"/>
                    <a:pt x="4800" y="485"/>
                  </a:cubicBezTo>
                  <a:cubicBezTo>
                    <a:pt x="4795" y="485"/>
                    <a:pt x="4790" y="480"/>
                    <a:pt x="4790" y="474"/>
                  </a:cubicBezTo>
                  <a:close/>
                  <a:moveTo>
                    <a:pt x="128" y="810"/>
                  </a:moveTo>
                  <a:lnTo>
                    <a:pt x="64" y="938"/>
                  </a:lnTo>
                  <a:lnTo>
                    <a:pt x="0" y="810"/>
                  </a:lnTo>
                  <a:lnTo>
                    <a:pt x="128" y="810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6161040" y="3394080"/>
              <a:ext cx="1295280" cy="939960"/>
              <a:chOff x="6161040" y="3394080"/>
              <a:chExt cx="1295280" cy="939960"/>
            </a:xfrm>
          </p:grpSpPr>
          <p:sp>
            <p:nvSpPr>
              <p:cNvPr id="171" name=""/>
              <p:cNvSpPr/>
              <p:nvPr/>
            </p:nvSpPr>
            <p:spPr>
              <a:xfrm>
                <a:off x="6161040" y="3394080"/>
                <a:ext cx="1295280" cy="939960"/>
              </a:xfrm>
              <a:custGeom>
                <a:avLst/>
                <a:gdLst/>
                <a:ahLst/>
                <a:rect l="l" t="t" r="r" b="b"/>
                <a:pathLst>
                  <a:path w="816" h="592">
                    <a:moveTo>
                      <a:pt x="408" y="0"/>
                    </a:moveTo>
                    <a:lnTo>
                      <a:pt x="0" y="296"/>
                    </a:lnTo>
                    <a:lnTo>
                      <a:pt x="408" y="592"/>
                    </a:lnTo>
                    <a:lnTo>
                      <a:pt x="816" y="296"/>
                    </a:lnTo>
                    <a:lnTo>
                      <a:pt x="40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61040" y="3394080"/>
                <a:ext cx="1295280" cy="939960"/>
              </a:xfrm>
              <a:custGeom>
                <a:avLst/>
                <a:gdLst/>
                <a:ahLst/>
                <a:rect l="l" t="t" r="r" b="b"/>
                <a:pathLst>
                  <a:path w="816" h="592">
                    <a:moveTo>
                      <a:pt x="408" y="0"/>
                    </a:moveTo>
                    <a:lnTo>
                      <a:pt x="0" y="296"/>
                    </a:lnTo>
                    <a:lnTo>
                      <a:pt x="408" y="592"/>
                    </a:lnTo>
                    <a:lnTo>
                      <a:pt x="816" y="296"/>
                    </a:lnTo>
                    <a:lnTo>
                      <a:pt x="408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6580800" y="3673440"/>
              <a:ext cx="39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hip an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76480" y="3811680"/>
              <a:ext cx="3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voic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80080" y="3949560"/>
              <a:ext cx="39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81360" y="3863880"/>
              <a:ext cx="3571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685E3-663A-4309-993C-5FDA45C0D9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Garamond"/>
              </a:rPr>
              <a:t>Inventory at Hamamatsu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riodic Inventory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s go into inventory at the spot exchang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ning and ending inventory are calculated at a weighted average cost based on the lifetime sale of produc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s shipped to the customer are valued at forward yen contract price or “hedge ra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066680" y="2438280"/>
                <a:ext cx="65851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ginningInventor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urchases</m:t>
                            </m: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GoodsAvialableforSale</m:t>
                        </m:r>
                      </m:lim>
                    </m:limLow>
                    <m:r>
                      <m:t xml:space="preserve">−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ndingInventory</m:t>
                            </m: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InventoryLeftOver</m:t>
                        </m:r>
                      </m:lim>
                    </m:limLow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GS</m:t>
                            </m: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GOGS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9FEF9-CE9D-4A35-82B8-31519FE01C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Garamond"/>
              </a:rPr>
              <a:t>Building the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5800" y="1571760"/>
            <a:ext cx="8229600" cy="406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73A5A-1B02-44CE-9E5E-A9E6DEE220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Garamond"/>
              </a:rPr>
              <a:t>Building the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772400" cy="18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1033E-BA53-4F8C-8D2B-65FA51E61E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Garamond"/>
              </a:rPr>
              <a:t>Which Distribution???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657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hange rate data was obtained from: </a:t>
            </a:r>
            <a:r>
              <a:rPr b="0" lang="en-US" sz="2000" spc="-1" strike="noStrike" u="sng">
                <a:solidFill>
                  <a:srgbClr val="85adff"/>
                </a:solidFill>
                <a:uFillTx/>
                <a:latin typeface="Times New Roman"/>
                <a:hlinkClick r:id="rId1"/>
              </a:rPr>
              <a:t>www.federalreserve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tal Ball was used to obtain a fit for one year of daily exchange ra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¥ 102.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dev ¥ 2.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952880" y="2362320"/>
            <a:ext cx="3810240" cy="296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EF613-9858-4286-ABF2-89EDF9F75E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Garamond"/>
              </a:rPr>
              <a:t>Which Distribution???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657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years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¥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4.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dev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¥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62520" y="2260440"/>
            <a:ext cx="4343400" cy="337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C5023-2495-4661-9E53-0B1C3BD76C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Garamond"/>
              </a:rPr>
              <a:t>Which Distribution???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705720" cy="2016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048680" y="320040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rmal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65320" y="57913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ta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371600" y="3657600"/>
            <a:ext cx="6934320" cy="21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4C25D-5CE0-4EE4-9127-B10352A26B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8T16:49:56Z</dcterms:created>
  <dc:creator>John Gilmore, MSEE</dc:creator>
  <dc:description/>
  <dc:language>en-US</dc:language>
  <cp:lastModifiedBy>Earl Hergert</cp:lastModifiedBy>
  <cp:lastPrinted>2003-05-19T20:11:42Z</cp:lastPrinted>
  <dcterms:modified xsi:type="dcterms:W3CDTF">2005-08-06T11:16:24Z</dcterms:modified>
  <cp:revision>398</cp:revision>
  <dc:subject/>
  <dc:title>Hamamatsu</dc:title>
</cp:coreProperties>
</file>